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wmf" ContentType="image/x-wmf"/>
  <Override PartName="/ppt/media/image23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20.wmf" ContentType="image/x-wmf"/>
  <Override PartName="/ppt/media/image16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5.jpeg" ContentType="image/jpeg"/>
  <Override PartName="/ppt/media/image3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34.png" ContentType="image/png"/>
  <Override PartName="/ppt/media/image45.wmf" ContentType="image/x-wmf"/>
  <Override PartName="/ppt/media/image47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11.png" ContentType="image/png"/>
  <Override PartName="/ppt/media/image35.png" ContentType="image/png"/>
  <Override PartName="/ppt/media/image46.wmf" ContentType="image/x-wmf"/>
  <Override PartName="/ppt/media/image8.jpeg" ContentType="image/jpeg"/>
  <Override PartName="/ppt/media/image38.png" ContentType="image/png"/>
  <Override PartName="/ppt/media/image12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22.jpeg" ContentType="image/jpeg"/>
  <Override PartName="/ppt/media/image39.png" ContentType="image/png"/>
  <Override PartName="/ppt/media/image13.png" ContentType="image/png"/>
  <Override PartName="/ppt/media/image6.jpeg" ContentType="image/jpeg"/>
  <Override PartName="/ppt/media/image41.png" ContentType="image/pn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AEB-CDC2-4AA9-AE10-22721039B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A93-D0ED-4705-9D4E-A7C6A381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69F-2E71-4753-BC60-EEA9601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272-6128-4834-AB5F-14D0A9D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013-2934-4176-BE54-3C689F79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A428-6EDD-4D8F-99CD-31B822DD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05CD-6BB1-45AA-8974-356D52E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E51-7DEE-4D9A-9074-F009C132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56E-8261-4345-AAD8-BFCBA4B8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5FF2-7668-4282-AE2F-9165D25B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48A3-85A2-4234-86F7-676F785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E7B-54F9-457B-A3DD-979E607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13D-5A8F-4539-8ABC-EED6A66A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BEA9-3D72-4752-8A0E-05B9DD02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9F2D-DA32-4205-BC2E-69C617A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79B7-BB19-448F-993F-5BA69864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9293-0F28-4043-AB56-9A31F229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D4A9-B5CE-4B13-B665-53DD6711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1D52-2F48-4436-B13E-324865F8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8F03-1C20-43AC-A7E9-9971A16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BAF4-3E8F-40AB-95EC-05A7D15C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B732-B969-497D-8352-B901C10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B13C-7660-48CC-B50B-2B132B7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4D4-9990-43C8-B7DE-C1962D2F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5B43-7C1B-435B-AF7C-DDCC2BAE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3C38-3355-4229-81D2-33F23F1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552F-6813-419E-ACE2-10E2614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5225-4125-4910-80FA-592A3C6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01D2-2F8B-42D4-9EDE-A7801F1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560B-E132-4AB2-B5D5-1478008D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D8FD-BCBD-476A-8C86-87BED92C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8015-A34E-42BE-92F4-7C2BA828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0654-5AA2-4CB2-8B30-98624D3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F8B3-861E-4FDF-8170-F392F64E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AC4-B277-440C-A55D-1944E0F5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E690-DF8B-4BDF-8213-EBF6514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F856-F0B5-407B-A3C9-39DCA401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F2526-0939-4074-9DBE-8199A27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2AB9-613C-42F9-8BD7-3FE4EAE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8C5E-AB92-43B1-B525-76028F59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DF7B-2F2D-4B80-A751-C054C73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586F-DDC0-4BA6-8AC0-CA1C24FE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7233-A433-4980-982B-65B20734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1C4BA-2713-493B-AD7C-F2D2B527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603-6595-469E-9D58-3F66B211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604-4EF7-411C-AD6C-DC81C32B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580-7B67-4AFC-ADB3-22DEBE0D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653-57D6-4A57-8C3B-CCBC70B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EA0-9E86-419D-AD0C-6796427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D9BB-545D-490A-83F0-33748FD59FFB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68F-F90C-4B2B-B46B-5863EC413655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977C-7EF0-4B35-BB6C-C3F9551F9036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73000" y="321300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A75B-7E98-45E8-B10F-64A8EAEDD773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rcRect l="0" t="0" r="34264" b="0"/>
          <a:stretch/>
        </p:blipFill>
        <p:spPr>
          <a:xfrm>
            <a:off x="5292720" y="0"/>
            <a:ext cx="3803760" cy="3235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6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atafa.com/sports/images/imagecache/AC-MTPENCAN_80_80.jpg&amp;imgrefurl=http://www.atafa.com/sports/index.php%3FcPath%3D1_4_127_185&amp;h=250&amp;w=250&amp;sz=11&amp;tbnid=jb8mp4Rc2tX2kM:&amp;tbnh=106&amp;tbnw=106&amp;hl=en&amp;start=239&amp;prev=/images%3Fq%3Dtennis%2Bballs%26start%3D220%26svnum%3D10%26hl%3Den%26lr%3D%26sa%3DN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idlynhrc.com/images/PostIts.jpg&amp;imgrefurl=http://www.curbly.com/recent%3Fpage%3D3&amp;h=520&amp;w=520&amp;sz=60&amp;hl=en&amp;start=250&amp;sig2=Kf25Iqboi_cIpXCFKYePrQ&amp;um=1&amp;tbnid=NurbXblPGxNO6M:&amp;tbnh=131&amp;tbnw=131&amp;ei=xNGgSOGVNoO0hAKQ3czGBQ&amp;prev=/images%3Fq%3Dpost%2Bit%2Bnotes%26start%3D240%26ndsp%3D20%26um%3D1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cmu.edu/~pattis/videos/5minuteU.wv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cmu.edu/~pattis/videos/5minuteU.wv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2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ession 5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hursday Aug 21</a:t>
            </a:r>
            <a:r>
              <a:rPr b="0" lang="en-US" sz="4000" spc="-1" strike="noStrike" baseline="30000">
                <a:solidFill>
                  <a:srgbClr val="0d469b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, 2008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1:15 – 3:30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84360" y="1052640"/>
            <a:ext cx="5832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Selecting Tools and  </a:t>
            </a:r>
            <a:br>
              <a:rPr sz="3200"/>
            </a:b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  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99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s Processes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9280" y="177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Pair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62040" y="2684520"/>
          <a:ext cx="7812000" cy="23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84520"/>
                    <a:ext cx="78120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792000" y="2744640"/>
          <a:ext cx="7561440" cy="2016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2744640"/>
                    <a:ext cx="75614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26920" y="2565360"/>
          <a:ext cx="7488360" cy="2386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565360"/>
                    <a:ext cx="74883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826920" y="2421000"/>
          <a:ext cx="7574040" cy="2496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2421000"/>
                    <a:ext cx="757404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863640" y="2421000"/>
          <a:ext cx="7423200" cy="3276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2421000"/>
                    <a:ext cx="74232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826920" y="2457360"/>
          <a:ext cx="7450200" cy="33163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2457360"/>
                    <a:ext cx="745020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11280" y="2897280"/>
          <a:ext cx="7634160" cy="153972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2897280"/>
                    <a:ext cx="763416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63640" y="1916280"/>
            <a:ext cx="7164360" cy="4856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08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ing and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1916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916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ng Tools and Computa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429000"/>
            <a:ext cx="766764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The distance around a tennis b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an is less than the height of the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posite Sid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24172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g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/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ag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/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on’t K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1021600">
            <a:off x="-180720" y="3212640"/>
            <a:ext cx="1332000" cy="155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92360" y="5265720"/>
            <a:ext cx="67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fy your answer with you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know”s explore fur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79640" y="533520"/>
            <a:ext cx="5562360" cy="556236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2117880" y="774720"/>
            <a:ext cx="785520" cy="4572000"/>
            <a:chOff x="2117880" y="774720"/>
            <a:chExt cx="785520" cy="4572000"/>
          </a:xfrm>
        </p:grpSpPr>
        <p:sp>
          <p:nvSpPr>
            <p:cNvPr id="236" name=""/>
            <p:cNvSpPr/>
            <p:nvPr/>
          </p:nvSpPr>
          <p:spPr>
            <a:xfrm flipV="1">
              <a:off x="2622600" y="774720"/>
              <a:ext cx="0" cy="914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2600" y="4203720"/>
              <a:ext cx="0" cy="1143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1481760" y="2553120"/>
              <a:ext cx="2057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h = 3 ba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   </a:t>
              </a:r>
              <a:r>
                <a:rPr b="1" lang="en-CA" sz="1800" spc="-1" strike="noStrike">
                  <a:solidFill>
                    <a:srgbClr val="009999"/>
                  </a:solidFill>
                  <a:latin typeface="Arial"/>
                </a:rPr>
                <a:t>= 3 diame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752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9999"/>
                </a:solidFill>
                <a:latin typeface="Arial"/>
              </a:rPr>
              <a:t>C = </a:t>
            </a:r>
            <a:r>
              <a:rPr b="1" lang="en-CA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lang="en-CA" sz="1800" spc="-1" strike="noStrike">
                <a:solidFill>
                  <a:srgbClr val="009999"/>
                </a:solidFill>
                <a:latin typeface="Arial"/>
              </a:rPr>
              <a:t> di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6172200"/>
            <a:ext cx="79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he distance around a tennis b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can is less than the height of the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nnis Ball Can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122560"/>
            <a:ext cx="82296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P were used in solving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brics could be used to assess the MP with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 rot="21021600">
            <a:off x="7128000" y="1233000"/>
            <a:ext cx="15588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050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How do we effectively teach math processe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569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 the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ing investigations and solving ri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k questions and provide feedback related to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TIPS lessons found on the LMS website, that demonstrate how lessons can be adjusted to focus on particular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543640" y="1449360"/>
            <a:ext cx="3352680" cy="241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9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55680" y="914400"/>
            <a:ext cx="8254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udents learn content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 problem solving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trategies by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olving problem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 sharing solu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blem Se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ach of the following problems to answer the questio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ch problems are best suited to which Mathematical Proces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Combination of Functions Card Gam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050920" y="1989000"/>
            <a:ext cx="5061240" cy="4592880"/>
            <a:chOff x="2050920" y="1989000"/>
            <a:chExt cx="5061240" cy="4592880"/>
          </a:xfrm>
        </p:grpSpPr>
        <p:sp>
          <p:nvSpPr>
            <p:cNvPr id="252" name=""/>
            <p:cNvSpPr/>
            <p:nvPr/>
          </p:nvSpPr>
          <p:spPr>
            <a:xfrm>
              <a:off x="2050920" y="1989000"/>
              <a:ext cx="5061240" cy="459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" name=""/>
            <p:cNvGraphicFramePr/>
            <p:nvPr/>
          </p:nvGraphicFramePr>
          <p:xfrm>
            <a:off x="2147760" y="2080440"/>
            <a:ext cx="4866120" cy="4463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7760" y="2080440"/>
                      <a:ext cx="4866120" cy="44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Volume of Three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mensional Shap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0472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, through investigation (e.g. using concrete materials) the formulas for the volume of a pyramid, a cone and a 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040360" y="4113360"/>
            <a:ext cx="2819520" cy="23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2840" y="29829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aching through the 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592360" y="5300280"/>
            <a:ext cx="60120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5: Assessing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Volume of Three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mensional Shap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students already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a of rectangle, triangle and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 of all pr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 = (area of base)(h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732720" y="4545000"/>
            <a:ext cx="1838160" cy="191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870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201312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of a pyramid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hird the volume of the corresponding prism.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666880" y="3483000"/>
                <a:ext cx="34894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yami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sm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1600200" y="4471920"/>
            <a:ext cx="5105520" cy="862200"/>
            <a:chOff x="1600200" y="4471920"/>
            <a:chExt cx="5105520" cy="862200"/>
          </a:xfrm>
        </p:grpSpPr>
        <p:grpSp>
          <p:nvGrpSpPr>
            <p:cNvPr id="265" name=""/>
            <p:cNvGrpSpPr/>
            <p:nvPr/>
          </p:nvGrpSpPr>
          <p:grpSpPr>
            <a:xfrm>
              <a:off x="2828880" y="4471920"/>
              <a:ext cx="895320" cy="838440"/>
              <a:chOff x="2828880" y="4471920"/>
              <a:chExt cx="895320" cy="838440"/>
            </a:xfrm>
          </p:grpSpPr>
          <p:sp>
            <p:nvSpPr>
              <p:cNvPr id="266" name=""/>
              <p:cNvSpPr/>
              <p:nvPr/>
            </p:nvSpPr>
            <p:spPr>
              <a:xfrm>
                <a:off x="2842200" y="44719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28880" y="45529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3297240" y="45529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809960" y="44956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3848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4648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1447920"/>
            <a:ext cx="7696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ff"/>
                </a:solidFill>
                <a:latin typeface="Times New Roman"/>
              </a:rPr>
              <a:t>Developing the Formula for the Volume of a 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352680" y="3652920"/>
            <a:ext cx="2662200" cy="28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1828800"/>
            <a:ext cx="769608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elational solids and pouring material we noted that the volume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me as the volume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corresponding dimen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“math language”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= ½ 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    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81280" y="4619520"/>
            <a:ext cx="5881320" cy="866880"/>
            <a:chOff x="1781280" y="4619520"/>
            <a:chExt cx="5881320" cy="866880"/>
          </a:xfrm>
        </p:grpSpPr>
        <p:grpSp>
          <p:nvGrpSpPr>
            <p:cNvPr id="279" name=""/>
            <p:cNvGrpSpPr/>
            <p:nvPr/>
          </p:nvGrpSpPr>
          <p:grpSpPr>
            <a:xfrm>
              <a:off x="4600440" y="4648320"/>
              <a:ext cx="895320" cy="838080"/>
              <a:chOff x="4600440" y="4648320"/>
              <a:chExt cx="895320" cy="838080"/>
            </a:xfrm>
          </p:grpSpPr>
          <p:sp>
            <p:nvSpPr>
              <p:cNvPr id="280" name=""/>
              <p:cNvSpPr/>
              <p:nvPr/>
            </p:nvSpPr>
            <p:spPr>
              <a:xfrm>
                <a:off x="4613760" y="464832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00440" y="4729320"/>
                <a:ext cx="44208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068800" y="4729320"/>
                <a:ext cx="42696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34160" y="4619520"/>
              <a:ext cx="928440" cy="866880"/>
              <a:chOff x="6734160" y="4619520"/>
              <a:chExt cx="928440" cy="866880"/>
            </a:xfrm>
          </p:grpSpPr>
          <p:sp>
            <p:nvSpPr>
              <p:cNvPr id="284" name=""/>
              <p:cNvSpPr/>
              <p:nvPr/>
            </p:nvSpPr>
            <p:spPr>
              <a:xfrm>
                <a:off x="6734160" y="4619520"/>
                <a:ext cx="915480" cy="866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47120" y="4998600"/>
                <a:ext cx="915480" cy="12924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5896080" y="4800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1280" y="4724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152880" y="4648320"/>
              <a:ext cx="895320" cy="838080"/>
              <a:chOff x="3152880" y="4648320"/>
              <a:chExt cx="895320" cy="838080"/>
            </a:xfrm>
          </p:grpSpPr>
          <p:sp>
            <p:nvSpPr>
              <p:cNvPr id="289" name=""/>
              <p:cNvSpPr/>
              <p:nvPr/>
            </p:nvSpPr>
            <p:spPr>
              <a:xfrm>
                <a:off x="3166200" y="464832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52880" y="4729320"/>
                <a:ext cx="44208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621240" y="4729320"/>
                <a:ext cx="426960" cy="75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14324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01312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lready know the formula for the volume of a con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7560" cy="144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436840" y="3471840"/>
                <a:ext cx="3828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ylinder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600200" y="4471920"/>
            <a:ext cx="5105520" cy="862200"/>
            <a:chOff x="1600200" y="4471920"/>
            <a:chExt cx="5105520" cy="862200"/>
          </a:xfrm>
        </p:grpSpPr>
        <p:grpSp>
          <p:nvGrpSpPr>
            <p:cNvPr id="297" name=""/>
            <p:cNvGrpSpPr/>
            <p:nvPr/>
          </p:nvGrpSpPr>
          <p:grpSpPr>
            <a:xfrm>
              <a:off x="2828880" y="4471920"/>
              <a:ext cx="895320" cy="838440"/>
              <a:chOff x="2828880" y="4471920"/>
              <a:chExt cx="895320" cy="838440"/>
            </a:xfrm>
          </p:grpSpPr>
          <p:sp>
            <p:nvSpPr>
              <p:cNvPr id="298" name=""/>
              <p:cNvSpPr/>
              <p:nvPr/>
            </p:nvSpPr>
            <p:spPr>
              <a:xfrm>
                <a:off x="2842200" y="44719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8880" y="45529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3297240" y="45529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809960" y="44956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3848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4648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0200" y="4648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657600" y="3673440"/>
            <a:ext cx="2286000" cy="2060640"/>
            <a:chOff x="3657600" y="3673440"/>
            <a:chExt cx="2286000" cy="2060640"/>
          </a:xfrm>
        </p:grpSpPr>
        <p:sp>
          <p:nvSpPr>
            <p:cNvPr id="307" name=""/>
            <p:cNvSpPr/>
            <p:nvPr/>
          </p:nvSpPr>
          <p:spPr>
            <a:xfrm flipH="1">
              <a:off x="3657600" y="3673440"/>
              <a:ext cx="2286000" cy="2057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7600" y="5197320"/>
              <a:ext cx="2286000" cy="53676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04920" y="188136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63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e know the formula fo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03400" y="2838600"/>
                <a:ext cx="6453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ylinde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rPr>
                        <m:lit/>
                        <m:nor/>
                      </m:rPr>
                      <m:t xml:space="preserve">of</m:t>
                    </m:r>
                    <m:r>
                      <m:rPr>
                        <m:lit/>
                        <m:nor/>
                      </m:rPr>
                      <m:t xml:space="preserve">Base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igh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2" name=""/>
          <p:cNvGrpSpPr/>
          <p:nvPr/>
        </p:nvGrpSpPr>
        <p:grpSpPr>
          <a:xfrm>
            <a:off x="4191120" y="3828600"/>
            <a:ext cx="2288520" cy="1908000"/>
            <a:chOff x="4191120" y="3828600"/>
            <a:chExt cx="2288520" cy="1908000"/>
          </a:xfrm>
        </p:grpSpPr>
        <p:grpSp>
          <p:nvGrpSpPr>
            <p:cNvPr id="313" name=""/>
            <p:cNvGrpSpPr/>
            <p:nvPr/>
          </p:nvGrpSpPr>
          <p:grpSpPr>
            <a:xfrm>
              <a:off x="4191120" y="4057200"/>
              <a:ext cx="2288520" cy="1679400"/>
              <a:chOff x="4191120" y="4057200"/>
              <a:chExt cx="2288520" cy="1679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5276880"/>
                <a:ext cx="121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5678280" y="439884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Heigh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V="1">
              <a:off x="6248520" y="3828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48520" y="5124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1447920"/>
            <a:ext cx="723888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UMMARIZ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ylinder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(Area Base) (height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ylinder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/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rows2"/>
                <a:ea typeface="Arrows2"/>
              </a:rPr>
              <a:t>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 (Area Base) (height)/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705720" y="12193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85800" y="617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95280" y="3100320"/>
            <a:ext cx="3876840" cy="862200"/>
            <a:chOff x="1295280" y="3100320"/>
            <a:chExt cx="3876840" cy="862200"/>
          </a:xfrm>
        </p:grpSpPr>
        <p:grpSp>
          <p:nvGrpSpPr>
            <p:cNvPr id="323" name=""/>
            <p:cNvGrpSpPr/>
            <p:nvPr/>
          </p:nvGrpSpPr>
          <p:grpSpPr>
            <a:xfrm>
              <a:off x="1295280" y="3100320"/>
              <a:ext cx="895320" cy="838440"/>
              <a:chOff x="1295280" y="3100320"/>
              <a:chExt cx="895320" cy="838440"/>
            </a:xfrm>
          </p:grpSpPr>
          <p:sp>
            <p:nvSpPr>
              <p:cNvPr id="324" name=""/>
              <p:cNvSpPr/>
              <p:nvPr/>
            </p:nvSpPr>
            <p:spPr>
              <a:xfrm>
                <a:off x="1308600" y="310032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5280" y="3181320"/>
                <a:ext cx="44208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763640" y="3181320"/>
                <a:ext cx="426960" cy="7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3276360" y="3124080"/>
              <a:ext cx="838440" cy="83844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0488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5772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÷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476360" y="5410080"/>
            <a:ext cx="3781080" cy="838440"/>
            <a:chOff x="1476360" y="5410080"/>
            <a:chExt cx="3781080" cy="838440"/>
          </a:xfrm>
        </p:grpSpPr>
        <p:grpSp>
          <p:nvGrpSpPr>
            <p:cNvPr id="331" name=""/>
            <p:cNvGrpSpPr/>
            <p:nvPr/>
          </p:nvGrpSpPr>
          <p:grpSpPr>
            <a:xfrm>
              <a:off x="2238480" y="5410080"/>
              <a:ext cx="895320" cy="838440"/>
              <a:chOff x="2238480" y="5410080"/>
              <a:chExt cx="895320" cy="838440"/>
            </a:xfrm>
          </p:grpSpPr>
          <p:sp>
            <p:nvSpPr>
              <p:cNvPr id="332" name=""/>
              <p:cNvSpPr/>
              <p:nvPr/>
            </p:nvSpPr>
            <p:spPr>
              <a:xfrm>
                <a:off x="2251800" y="5410080"/>
                <a:ext cx="881640" cy="173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38480" y="5491080"/>
                <a:ext cx="442080" cy="75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706840" y="5491080"/>
                <a:ext cx="426960" cy="75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371840" y="5411880"/>
              <a:ext cx="885600" cy="836640"/>
              <a:chOff x="4371840" y="5411880"/>
              <a:chExt cx="885600" cy="836640"/>
            </a:xfrm>
          </p:grpSpPr>
          <p:sp>
            <p:nvSpPr>
              <p:cNvPr id="336" name=""/>
              <p:cNvSpPr/>
              <p:nvPr/>
            </p:nvSpPr>
            <p:spPr>
              <a:xfrm>
                <a:off x="4371840" y="5411880"/>
                <a:ext cx="873360" cy="836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84080" y="5777640"/>
                <a:ext cx="873360" cy="124920"/>
              </a:xfrm>
              <a:prstGeom prst="ellipse">
                <a:avLst/>
              </a:prstGeom>
              <a:solidFill>
                <a:srgbClr val="ffffff"/>
              </a:solidFill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1476360" y="5553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2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33760" y="5562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990720"/>
            <a:ext cx="72388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(Volume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(cone)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) 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(height) /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(h)/3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UT  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=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r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3 =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(spher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/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(sp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5800" y="4730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24040" y="2185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Area of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94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CA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CA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1732680" y="2590920"/>
            <a:ext cx="3124440" cy="380880"/>
          </a:xfrm>
          <a:custGeom>
            <a:avLst/>
            <a:gdLst/>
            <a:ahLst/>
            <a:rect l="l" t="t" r="r" b="b"/>
            <a:pathLst>
              <a:path w="2016" h="240">
                <a:moveTo>
                  <a:pt x="0" y="240"/>
                </a:moveTo>
                <a:cubicBezTo>
                  <a:pt x="36" y="156"/>
                  <a:pt x="72" y="72"/>
                  <a:pt x="192" y="48"/>
                </a:cubicBezTo>
                <a:cubicBezTo>
                  <a:pt x="312" y="24"/>
                  <a:pt x="608" y="104"/>
                  <a:pt x="720" y="96"/>
                </a:cubicBezTo>
                <a:cubicBezTo>
                  <a:pt x="832" y="88"/>
                  <a:pt x="816" y="0"/>
                  <a:pt x="864" y="0"/>
                </a:cubicBezTo>
                <a:cubicBezTo>
                  <a:pt x="912" y="0"/>
                  <a:pt x="872" y="88"/>
                  <a:pt x="1008" y="96"/>
                </a:cubicBezTo>
                <a:cubicBezTo>
                  <a:pt x="1144" y="104"/>
                  <a:pt x="1512" y="24"/>
                  <a:pt x="1680" y="48"/>
                </a:cubicBezTo>
                <a:cubicBezTo>
                  <a:pt x="1848" y="72"/>
                  <a:pt x="1932" y="156"/>
                  <a:pt x="2016" y="24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452600"/>
            <a:ext cx="3781080" cy="838080"/>
            <a:chOff x="2209680" y="1452600"/>
            <a:chExt cx="3781080" cy="838080"/>
          </a:xfrm>
        </p:grpSpPr>
        <p:grpSp>
          <p:nvGrpSpPr>
            <p:cNvPr id="348" name=""/>
            <p:cNvGrpSpPr/>
            <p:nvPr/>
          </p:nvGrpSpPr>
          <p:grpSpPr>
            <a:xfrm>
              <a:off x="2971800" y="1452600"/>
              <a:ext cx="895320" cy="838080"/>
              <a:chOff x="2971800" y="1452600"/>
              <a:chExt cx="895320" cy="8380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85120" y="1452600"/>
                <a:ext cx="881640" cy="172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71800" y="1533600"/>
                <a:ext cx="442080" cy="757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440160" y="1533600"/>
                <a:ext cx="426960" cy="757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105520" y="1454040"/>
              <a:ext cx="885240" cy="836280"/>
              <a:chOff x="5105520" y="1454040"/>
              <a:chExt cx="885240" cy="836280"/>
            </a:xfrm>
          </p:grpSpPr>
          <p:sp>
            <p:nvSpPr>
              <p:cNvPr id="353" name=""/>
              <p:cNvSpPr/>
              <p:nvPr/>
            </p:nvSpPr>
            <p:spPr>
              <a:xfrm>
                <a:off x="5105520" y="1454040"/>
                <a:ext cx="873000" cy="836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17760" y="1819800"/>
                <a:ext cx="873000" cy="124920"/>
              </a:xfrm>
              <a:prstGeom prst="ellipse">
                <a:avLst/>
              </a:prstGeom>
              <a:solidFill>
                <a:srgbClr val="ffffff"/>
              </a:solidFill>
              <a:ln cap="rnd" w="1908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2209680" y="15951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2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7080" y="1604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0920" y="4419720"/>
            <a:ext cx="761400" cy="609480"/>
            <a:chOff x="2590920" y="4419720"/>
            <a:chExt cx="761400" cy="609480"/>
          </a:xfrm>
        </p:grpSpPr>
        <p:sp>
          <p:nvSpPr>
            <p:cNvPr id="358" name=""/>
            <p:cNvSpPr/>
            <p:nvPr/>
          </p:nvSpPr>
          <p:spPr>
            <a:xfrm>
              <a:off x="2590920" y="4419720"/>
              <a:ext cx="15228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819160" y="4419720"/>
              <a:ext cx="5331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971800" y="4419720"/>
            <a:ext cx="533520" cy="609480"/>
            <a:chOff x="2971800" y="4419720"/>
            <a:chExt cx="533520" cy="609480"/>
          </a:xfrm>
        </p:grpSpPr>
        <p:sp>
          <p:nvSpPr>
            <p:cNvPr id="361" name=""/>
            <p:cNvSpPr/>
            <p:nvPr/>
          </p:nvSpPr>
          <p:spPr>
            <a:xfrm>
              <a:off x="2971800" y="4419720"/>
              <a:ext cx="22860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265560" y="4419720"/>
              <a:ext cx="239760" cy="57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934320" y="3124080"/>
            <a:ext cx="1066680" cy="990720"/>
            <a:chOff x="6934320" y="3124080"/>
            <a:chExt cx="1066680" cy="990720"/>
          </a:xfrm>
        </p:grpSpPr>
        <p:sp>
          <p:nvSpPr>
            <p:cNvPr id="364" name=""/>
            <p:cNvSpPr/>
            <p:nvPr/>
          </p:nvSpPr>
          <p:spPr>
            <a:xfrm>
              <a:off x="6934320" y="3124080"/>
              <a:ext cx="1051560" cy="9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9440" y="3557160"/>
              <a:ext cx="1051560" cy="147960"/>
            </a:xfrm>
            <a:prstGeom prst="ellipse">
              <a:avLst/>
            </a:prstGeom>
            <a:solidFill>
              <a:srgbClr val="ffffff"/>
            </a:solidFill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467480" y="3124080"/>
            <a:ext cx="357120" cy="1005120"/>
            <a:chOff x="7467480" y="3124080"/>
            <a:chExt cx="357120" cy="1005120"/>
          </a:xfrm>
        </p:grpSpPr>
        <p:grpSp>
          <p:nvGrpSpPr>
            <p:cNvPr id="367" name=""/>
            <p:cNvGrpSpPr/>
            <p:nvPr/>
          </p:nvGrpSpPr>
          <p:grpSpPr>
            <a:xfrm>
              <a:off x="7500600" y="3124080"/>
              <a:ext cx="324000" cy="1005120"/>
              <a:chOff x="7500600" y="3124080"/>
              <a:chExt cx="324000" cy="100512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7500600" y="3124080"/>
                <a:ext cx="304920" cy="533520"/>
                <a:chOff x="7500600" y="3124080"/>
                <a:chExt cx="304920" cy="533520"/>
              </a:xfrm>
            </p:grpSpPr>
            <p:sp>
              <p:nvSpPr>
                <p:cNvPr id="369" name=""/>
                <p:cNvSpPr/>
                <p:nvPr/>
              </p:nvSpPr>
              <p:spPr>
                <a:xfrm flipV="1">
                  <a:off x="7500600" y="3124080"/>
                  <a:ext cx="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576920" y="3157560"/>
                  <a:ext cx="22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500600" y="3595680"/>
                <a:ext cx="324000" cy="533520"/>
                <a:chOff x="7500600" y="3595680"/>
                <a:chExt cx="324000" cy="5335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500600" y="3595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96000" y="3657600"/>
                  <a:ext cx="228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7467480" y="3600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33520" y="2438280"/>
            <a:ext cx="838080" cy="762120"/>
            <a:chOff x="533520" y="2438280"/>
            <a:chExt cx="838080" cy="762120"/>
          </a:xfrm>
        </p:grpSpPr>
        <p:sp>
          <p:nvSpPr>
            <p:cNvPr id="376" name=""/>
            <p:cNvSpPr/>
            <p:nvPr/>
          </p:nvSpPr>
          <p:spPr>
            <a:xfrm flipH="1">
              <a:off x="533520" y="2438280"/>
              <a:ext cx="838080" cy="762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520" y="3000240"/>
              <a:ext cx="838080" cy="19836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400800" y="3124080"/>
            <a:ext cx="380880" cy="990720"/>
            <a:chOff x="6400800" y="3124080"/>
            <a:chExt cx="380880" cy="990720"/>
          </a:xfrm>
        </p:grpSpPr>
        <p:sp>
          <p:nvSpPr>
            <p:cNvPr id="379" name=""/>
            <p:cNvSpPr/>
            <p:nvPr/>
          </p:nvSpPr>
          <p:spPr>
            <a:xfrm>
              <a:off x="6705720" y="3124080"/>
              <a:ext cx="0" cy="99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133720" y="1981080"/>
                <a:ext cx="48448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her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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3657600" y="4267080"/>
            <a:ext cx="1523880" cy="1523880"/>
            <a:chOff x="3657600" y="4267080"/>
            <a:chExt cx="1523880" cy="15238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657600" y="426708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033800" y="4647960"/>
                  <a:ext cx="87156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π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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"/>
          <p:cNvSpPr/>
          <p:nvPr/>
        </p:nvSpPr>
        <p:spPr>
          <a:xfrm>
            <a:off x="900000" y="9810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emperature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801720" cy="107964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7048440" y="1570320"/>
            <a:ext cx="1747080" cy="2811960"/>
            <a:chOff x="7048440" y="1570320"/>
            <a:chExt cx="1747080" cy="2811960"/>
          </a:xfrm>
        </p:grpSpPr>
        <p:sp>
          <p:nvSpPr>
            <p:cNvPr id="389" name=""/>
            <p:cNvSpPr/>
            <p:nvPr/>
          </p:nvSpPr>
          <p:spPr>
            <a:xfrm rot="792600">
              <a:off x="7387560" y="1665360"/>
              <a:ext cx="1130040" cy="2560320"/>
            </a:xfrm>
            <a:custGeom>
              <a:avLst/>
              <a:gdLst/>
              <a:ahLst/>
              <a:rect l="l" t="t" r="r" b="b"/>
              <a:pathLst>
                <a:path w="7803" h="15940">
                  <a:moveTo>
                    <a:pt x="327" y="15606"/>
                  </a:moveTo>
                  <a:lnTo>
                    <a:pt x="324" y="15581"/>
                  </a:lnTo>
                  <a:lnTo>
                    <a:pt x="314" y="15510"/>
                  </a:lnTo>
                  <a:lnTo>
                    <a:pt x="297" y="15398"/>
                  </a:lnTo>
                  <a:lnTo>
                    <a:pt x="276" y="15252"/>
                  </a:lnTo>
                  <a:lnTo>
                    <a:pt x="251" y="15076"/>
                  </a:lnTo>
                  <a:lnTo>
                    <a:pt x="223" y="14880"/>
                  </a:lnTo>
                  <a:lnTo>
                    <a:pt x="193" y="14668"/>
                  </a:lnTo>
                  <a:lnTo>
                    <a:pt x="163" y="14445"/>
                  </a:lnTo>
                  <a:lnTo>
                    <a:pt x="132" y="14219"/>
                  </a:lnTo>
                  <a:lnTo>
                    <a:pt x="103" y="13995"/>
                  </a:lnTo>
                  <a:lnTo>
                    <a:pt x="75" y="13778"/>
                  </a:lnTo>
                  <a:lnTo>
                    <a:pt x="50" y="13577"/>
                  </a:lnTo>
                  <a:lnTo>
                    <a:pt x="30" y="13397"/>
                  </a:lnTo>
                  <a:lnTo>
                    <a:pt x="13" y="13242"/>
                  </a:lnTo>
                  <a:lnTo>
                    <a:pt x="7" y="13177"/>
                  </a:lnTo>
                  <a:lnTo>
                    <a:pt x="3" y="13120"/>
                  </a:lnTo>
                  <a:lnTo>
                    <a:pt x="1" y="13073"/>
                  </a:lnTo>
                  <a:lnTo>
                    <a:pt x="0" y="13037"/>
                  </a:lnTo>
                  <a:lnTo>
                    <a:pt x="0" y="12962"/>
                  </a:lnTo>
                  <a:lnTo>
                    <a:pt x="0" y="12866"/>
                  </a:lnTo>
                  <a:lnTo>
                    <a:pt x="0" y="12750"/>
                  </a:lnTo>
                  <a:lnTo>
                    <a:pt x="0" y="12619"/>
                  </a:lnTo>
                  <a:lnTo>
                    <a:pt x="0" y="12475"/>
                  </a:lnTo>
                  <a:lnTo>
                    <a:pt x="0" y="12321"/>
                  </a:lnTo>
                  <a:lnTo>
                    <a:pt x="0" y="12161"/>
                  </a:lnTo>
                  <a:lnTo>
                    <a:pt x="0" y="11998"/>
                  </a:lnTo>
                  <a:lnTo>
                    <a:pt x="1" y="11835"/>
                  </a:lnTo>
                  <a:lnTo>
                    <a:pt x="1" y="11675"/>
                  </a:lnTo>
                  <a:lnTo>
                    <a:pt x="1" y="11523"/>
                  </a:lnTo>
                  <a:lnTo>
                    <a:pt x="2" y="11379"/>
                  </a:lnTo>
                  <a:lnTo>
                    <a:pt x="3" y="11248"/>
                  </a:lnTo>
                  <a:lnTo>
                    <a:pt x="3" y="11133"/>
                  </a:lnTo>
                  <a:lnTo>
                    <a:pt x="4" y="11038"/>
                  </a:lnTo>
                  <a:lnTo>
                    <a:pt x="5" y="10963"/>
                  </a:lnTo>
                  <a:lnTo>
                    <a:pt x="5" y="10889"/>
                  </a:lnTo>
                  <a:lnTo>
                    <a:pt x="7" y="10795"/>
                  </a:lnTo>
                  <a:lnTo>
                    <a:pt x="10" y="10684"/>
                  </a:lnTo>
                  <a:lnTo>
                    <a:pt x="14" y="10557"/>
                  </a:lnTo>
                  <a:lnTo>
                    <a:pt x="20" y="10418"/>
                  </a:lnTo>
                  <a:lnTo>
                    <a:pt x="27" y="10270"/>
                  </a:lnTo>
                  <a:lnTo>
                    <a:pt x="34" y="10115"/>
                  </a:lnTo>
                  <a:lnTo>
                    <a:pt x="41" y="9957"/>
                  </a:lnTo>
                  <a:lnTo>
                    <a:pt x="48" y="9798"/>
                  </a:lnTo>
                  <a:lnTo>
                    <a:pt x="56" y="9640"/>
                  </a:lnTo>
                  <a:lnTo>
                    <a:pt x="63" y="9488"/>
                  </a:lnTo>
                  <a:lnTo>
                    <a:pt x="70" y="9341"/>
                  </a:lnTo>
                  <a:lnTo>
                    <a:pt x="75" y="9207"/>
                  </a:lnTo>
                  <a:lnTo>
                    <a:pt x="80" y="9084"/>
                  </a:lnTo>
                  <a:lnTo>
                    <a:pt x="84" y="8977"/>
                  </a:lnTo>
                  <a:lnTo>
                    <a:pt x="86" y="8889"/>
                  </a:lnTo>
                  <a:lnTo>
                    <a:pt x="85" y="8806"/>
                  </a:lnTo>
                  <a:lnTo>
                    <a:pt x="84" y="8715"/>
                  </a:lnTo>
                  <a:lnTo>
                    <a:pt x="82" y="8618"/>
                  </a:lnTo>
                  <a:lnTo>
                    <a:pt x="82" y="8514"/>
                  </a:lnTo>
                  <a:lnTo>
                    <a:pt x="81" y="8406"/>
                  </a:lnTo>
                  <a:lnTo>
                    <a:pt x="81" y="8295"/>
                  </a:lnTo>
                  <a:lnTo>
                    <a:pt x="81" y="8183"/>
                  </a:lnTo>
                  <a:lnTo>
                    <a:pt x="81" y="8071"/>
                  </a:lnTo>
                  <a:lnTo>
                    <a:pt x="81" y="7960"/>
                  </a:lnTo>
                  <a:lnTo>
                    <a:pt x="81" y="7850"/>
                  </a:lnTo>
                  <a:lnTo>
                    <a:pt x="81" y="7746"/>
                  </a:lnTo>
                  <a:lnTo>
                    <a:pt x="82" y="7645"/>
                  </a:lnTo>
                  <a:lnTo>
                    <a:pt x="82" y="7551"/>
                  </a:lnTo>
                  <a:lnTo>
                    <a:pt x="84" y="7464"/>
                  </a:lnTo>
                  <a:lnTo>
                    <a:pt x="85" y="7385"/>
                  </a:lnTo>
                  <a:lnTo>
                    <a:pt x="86" y="7317"/>
                  </a:lnTo>
                  <a:lnTo>
                    <a:pt x="84" y="7243"/>
                  </a:lnTo>
                  <a:lnTo>
                    <a:pt x="80" y="7145"/>
                  </a:lnTo>
                  <a:lnTo>
                    <a:pt x="76" y="7030"/>
                  </a:lnTo>
                  <a:lnTo>
                    <a:pt x="72" y="6900"/>
                  </a:lnTo>
                  <a:lnTo>
                    <a:pt x="68" y="6756"/>
                  </a:lnTo>
                  <a:lnTo>
                    <a:pt x="65" y="6605"/>
                  </a:lnTo>
                  <a:lnTo>
                    <a:pt x="62" y="6447"/>
                  </a:lnTo>
                  <a:lnTo>
                    <a:pt x="61" y="6288"/>
                  </a:lnTo>
                  <a:lnTo>
                    <a:pt x="62" y="6209"/>
                  </a:lnTo>
                  <a:lnTo>
                    <a:pt x="62" y="6130"/>
                  </a:lnTo>
                  <a:lnTo>
                    <a:pt x="64" y="6052"/>
                  </a:lnTo>
                  <a:lnTo>
                    <a:pt x="66" y="5976"/>
                  </a:lnTo>
                  <a:lnTo>
                    <a:pt x="69" y="5901"/>
                  </a:lnTo>
                  <a:lnTo>
                    <a:pt x="72" y="5828"/>
                  </a:lnTo>
                  <a:lnTo>
                    <a:pt x="77" y="5759"/>
                  </a:lnTo>
                  <a:lnTo>
                    <a:pt x="82" y="5693"/>
                  </a:lnTo>
                  <a:lnTo>
                    <a:pt x="89" y="5630"/>
                  </a:lnTo>
                  <a:lnTo>
                    <a:pt x="96" y="5571"/>
                  </a:lnTo>
                  <a:lnTo>
                    <a:pt x="104" y="5517"/>
                  </a:lnTo>
                  <a:lnTo>
                    <a:pt x="115" y="5468"/>
                  </a:lnTo>
                  <a:lnTo>
                    <a:pt x="125" y="5423"/>
                  </a:lnTo>
                  <a:lnTo>
                    <a:pt x="137" y="5384"/>
                  </a:lnTo>
                  <a:lnTo>
                    <a:pt x="151" y="5350"/>
                  </a:lnTo>
                  <a:lnTo>
                    <a:pt x="166" y="5325"/>
                  </a:lnTo>
                  <a:lnTo>
                    <a:pt x="181" y="5298"/>
                  </a:lnTo>
                  <a:lnTo>
                    <a:pt x="196" y="5266"/>
                  </a:lnTo>
                  <a:lnTo>
                    <a:pt x="212" y="5230"/>
                  </a:lnTo>
                  <a:lnTo>
                    <a:pt x="227" y="5189"/>
                  </a:lnTo>
                  <a:lnTo>
                    <a:pt x="242" y="5143"/>
                  </a:lnTo>
                  <a:lnTo>
                    <a:pt x="257" y="5093"/>
                  </a:lnTo>
                  <a:lnTo>
                    <a:pt x="272" y="5040"/>
                  </a:lnTo>
                  <a:lnTo>
                    <a:pt x="287" y="4983"/>
                  </a:lnTo>
                  <a:lnTo>
                    <a:pt x="301" y="4924"/>
                  </a:lnTo>
                  <a:lnTo>
                    <a:pt x="316" y="4863"/>
                  </a:lnTo>
                  <a:lnTo>
                    <a:pt x="330" y="4800"/>
                  </a:lnTo>
                  <a:lnTo>
                    <a:pt x="345" y="4735"/>
                  </a:lnTo>
                  <a:lnTo>
                    <a:pt x="374" y="4601"/>
                  </a:lnTo>
                  <a:lnTo>
                    <a:pt x="401" y="4464"/>
                  </a:lnTo>
                  <a:lnTo>
                    <a:pt x="428" y="4329"/>
                  </a:lnTo>
                  <a:lnTo>
                    <a:pt x="452" y="4198"/>
                  </a:lnTo>
                  <a:lnTo>
                    <a:pt x="477" y="4074"/>
                  </a:lnTo>
                  <a:lnTo>
                    <a:pt x="500" y="3960"/>
                  </a:lnTo>
                  <a:lnTo>
                    <a:pt x="521" y="3859"/>
                  </a:lnTo>
                  <a:lnTo>
                    <a:pt x="541" y="3774"/>
                  </a:lnTo>
                  <a:lnTo>
                    <a:pt x="550" y="3739"/>
                  </a:lnTo>
                  <a:lnTo>
                    <a:pt x="559" y="3708"/>
                  </a:lnTo>
                  <a:lnTo>
                    <a:pt x="568" y="3684"/>
                  </a:lnTo>
                  <a:lnTo>
                    <a:pt x="575" y="3666"/>
                  </a:lnTo>
                  <a:lnTo>
                    <a:pt x="583" y="3647"/>
                  </a:lnTo>
                  <a:lnTo>
                    <a:pt x="592" y="3625"/>
                  </a:lnTo>
                  <a:lnTo>
                    <a:pt x="602" y="3599"/>
                  </a:lnTo>
                  <a:lnTo>
                    <a:pt x="612" y="3570"/>
                  </a:lnTo>
                  <a:lnTo>
                    <a:pt x="636" y="3501"/>
                  </a:lnTo>
                  <a:lnTo>
                    <a:pt x="662" y="3420"/>
                  </a:lnTo>
                  <a:lnTo>
                    <a:pt x="690" y="3329"/>
                  </a:lnTo>
                  <a:lnTo>
                    <a:pt x="719" y="3229"/>
                  </a:lnTo>
                  <a:lnTo>
                    <a:pt x="749" y="3123"/>
                  </a:lnTo>
                  <a:lnTo>
                    <a:pt x="780" y="3012"/>
                  </a:lnTo>
                  <a:lnTo>
                    <a:pt x="811" y="2898"/>
                  </a:lnTo>
                  <a:lnTo>
                    <a:pt x="841" y="2783"/>
                  </a:lnTo>
                  <a:lnTo>
                    <a:pt x="871" y="2669"/>
                  </a:lnTo>
                  <a:lnTo>
                    <a:pt x="899" y="2558"/>
                  </a:lnTo>
                  <a:lnTo>
                    <a:pt x="926" y="2450"/>
                  </a:lnTo>
                  <a:lnTo>
                    <a:pt x="950" y="2350"/>
                  </a:lnTo>
                  <a:lnTo>
                    <a:pt x="972" y="2256"/>
                  </a:lnTo>
                  <a:lnTo>
                    <a:pt x="989" y="2173"/>
                  </a:lnTo>
                  <a:lnTo>
                    <a:pt x="997" y="2135"/>
                  </a:lnTo>
                  <a:lnTo>
                    <a:pt x="1003" y="2098"/>
                  </a:lnTo>
                  <a:lnTo>
                    <a:pt x="1008" y="2062"/>
                  </a:lnTo>
                  <a:lnTo>
                    <a:pt x="1013" y="2028"/>
                  </a:lnTo>
                  <a:lnTo>
                    <a:pt x="1022" y="1962"/>
                  </a:lnTo>
                  <a:lnTo>
                    <a:pt x="1029" y="1898"/>
                  </a:lnTo>
                  <a:lnTo>
                    <a:pt x="1035" y="1836"/>
                  </a:lnTo>
                  <a:lnTo>
                    <a:pt x="1042" y="1776"/>
                  </a:lnTo>
                  <a:lnTo>
                    <a:pt x="1051" y="1715"/>
                  </a:lnTo>
                  <a:lnTo>
                    <a:pt x="1061" y="1654"/>
                  </a:lnTo>
                  <a:lnTo>
                    <a:pt x="1067" y="1623"/>
                  </a:lnTo>
                  <a:lnTo>
                    <a:pt x="1074" y="1591"/>
                  </a:lnTo>
                  <a:lnTo>
                    <a:pt x="1082" y="1558"/>
                  </a:lnTo>
                  <a:lnTo>
                    <a:pt x="1091" y="1524"/>
                  </a:lnTo>
                  <a:lnTo>
                    <a:pt x="1101" y="1489"/>
                  </a:lnTo>
                  <a:lnTo>
                    <a:pt x="1113" y="1454"/>
                  </a:lnTo>
                  <a:lnTo>
                    <a:pt x="1125" y="1417"/>
                  </a:lnTo>
                  <a:lnTo>
                    <a:pt x="1140" y="1378"/>
                  </a:lnTo>
                  <a:lnTo>
                    <a:pt x="1155" y="1339"/>
                  </a:lnTo>
                  <a:lnTo>
                    <a:pt x="1173" y="1297"/>
                  </a:lnTo>
                  <a:lnTo>
                    <a:pt x="1191" y="1255"/>
                  </a:lnTo>
                  <a:lnTo>
                    <a:pt x="1212" y="1209"/>
                  </a:lnTo>
                  <a:lnTo>
                    <a:pt x="1236" y="1162"/>
                  </a:lnTo>
                  <a:lnTo>
                    <a:pt x="1261" y="1114"/>
                  </a:lnTo>
                  <a:lnTo>
                    <a:pt x="1288" y="1063"/>
                  </a:lnTo>
                  <a:lnTo>
                    <a:pt x="1318" y="1009"/>
                  </a:lnTo>
                  <a:lnTo>
                    <a:pt x="1347" y="955"/>
                  </a:lnTo>
                  <a:lnTo>
                    <a:pt x="1372" y="902"/>
                  </a:lnTo>
                  <a:lnTo>
                    <a:pt x="1394" y="850"/>
                  </a:lnTo>
                  <a:lnTo>
                    <a:pt x="1413" y="800"/>
                  </a:lnTo>
                  <a:lnTo>
                    <a:pt x="1430" y="750"/>
                  </a:lnTo>
                  <a:lnTo>
                    <a:pt x="1444" y="701"/>
                  </a:lnTo>
                  <a:lnTo>
                    <a:pt x="1456" y="654"/>
                  </a:lnTo>
                  <a:lnTo>
                    <a:pt x="1466" y="609"/>
                  </a:lnTo>
                  <a:lnTo>
                    <a:pt x="1475" y="564"/>
                  </a:lnTo>
                  <a:lnTo>
                    <a:pt x="1483" y="521"/>
                  </a:lnTo>
                  <a:lnTo>
                    <a:pt x="1490" y="479"/>
                  </a:lnTo>
                  <a:lnTo>
                    <a:pt x="1496" y="439"/>
                  </a:lnTo>
                  <a:lnTo>
                    <a:pt x="1502" y="399"/>
                  </a:lnTo>
                  <a:lnTo>
                    <a:pt x="1509" y="363"/>
                  </a:lnTo>
                  <a:lnTo>
                    <a:pt x="1516" y="327"/>
                  </a:lnTo>
                  <a:lnTo>
                    <a:pt x="1523" y="293"/>
                  </a:lnTo>
                  <a:lnTo>
                    <a:pt x="1531" y="260"/>
                  </a:lnTo>
                  <a:lnTo>
                    <a:pt x="1541" y="230"/>
                  </a:lnTo>
                  <a:lnTo>
                    <a:pt x="1551" y="201"/>
                  </a:lnTo>
                  <a:lnTo>
                    <a:pt x="1565" y="175"/>
                  </a:lnTo>
                  <a:lnTo>
                    <a:pt x="1579" y="149"/>
                  </a:lnTo>
                  <a:lnTo>
                    <a:pt x="1597" y="127"/>
                  </a:lnTo>
                  <a:lnTo>
                    <a:pt x="1617" y="106"/>
                  </a:lnTo>
                  <a:lnTo>
                    <a:pt x="1640" y="87"/>
                  </a:lnTo>
                  <a:lnTo>
                    <a:pt x="1667" y="70"/>
                  </a:lnTo>
                  <a:lnTo>
                    <a:pt x="1698" y="55"/>
                  </a:lnTo>
                  <a:lnTo>
                    <a:pt x="1733" y="43"/>
                  </a:lnTo>
                  <a:lnTo>
                    <a:pt x="1771" y="32"/>
                  </a:lnTo>
                  <a:lnTo>
                    <a:pt x="1814" y="24"/>
                  </a:lnTo>
                  <a:lnTo>
                    <a:pt x="1862" y="18"/>
                  </a:lnTo>
                  <a:lnTo>
                    <a:pt x="1915" y="15"/>
                  </a:lnTo>
                  <a:lnTo>
                    <a:pt x="1974" y="13"/>
                  </a:lnTo>
                  <a:lnTo>
                    <a:pt x="2092" y="13"/>
                  </a:lnTo>
                  <a:lnTo>
                    <a:pt x="2201" y="13"/>
                  </a:lnTo>
                  <a:lnTo>
                    <a:pt x="2302" y="13"/>
                  </a:lnTo>
                  <a:lnTo>
                    <a:pt x="2396" y="13"/>
                  </a:lnTo>
                  <a:lnTo>
                    <a:pt x="2486" y="13"/>
                  </a:lnTo>
                  <a:lnTo>
                    <a:pt x="2573" y="13"/>
                  </a:lnTo>
                  <a:lnTo>
                    <a:pt x="2660" y="13"/>
                  </a:lnTo>
                  <a:lnTo>
                    <a:pt x="2748" y="13"/>
                  </a:lnTo>
                  <a:lnTo>
                    <a:pt x="2838" y="13"/>
                  </a:lnTo>
                  <a:lnTo>
                    <a:pt x="2934" y="13"/>
                  </a:lnTo>
                  <a:lnTo>
                    <a:pt x="3035" y="13"/>
                  </a:lnTo>
                  <a:lnTo>
                    <a:pt x="3145" y="13"/>
                  </a:lnTo>
                  <a:lnTo>
                    <a:pt x="3266" y="13"/>
                  </a:lnTo>
                  <a:lnTo>
                    <a:pt x="3399" y="13"/>
                  </a:lnTo>
                  <a:lnTo>
                    <a:pt x="3545" y="13"/>
                  </a:lnTo>
                  <a:lnTo>
                    <a:pt x="3707" y="13"/>
                  </a:lnTo>
                  <a:lnTo>
                    <a:pt x="3865" y="13"/>
                  </a:lnTo>
                  <a:lnTo>
                    <a:pt x="4002" y="9"/>
                  </a:lnTo>
                  <a:lnTo>
                    <a:pt x="4123" y="7"/>
                  </a:lnTo>
                  <a:lnTo>
                    <a:pt x="4228" y="4"/>
                  </a:lnTo>
                  <a:lnTo>
                    <a:pt x="4323" y="2"/>
                  </a:lnTo>
                  <a:lnTo>
                    <a:pt x="4409" y="0"/>
                  </a:lnTo>
                  <a:lnTo>
                    <a:pt x="4449" y="0"/>
                  </a:lnTo>
                  <a:lnTo>
                    <a:pt x="4488" y="1"/>
                  </a:lnTo>
                  <a:lnTo>
                    <a:pt x="4527" y="2"/>
                  </a:lnTo>
                  <a:lnTo>
                    <a:pt x="4566" y="3"/>
                  </a:lnTo>
                  <a:lnTo>
                    <a:pt x="4605" y="6"/>
                  </a:lnTo>
                  <a:lnTo>
                    <a:pt x="4643" y="9"/>
                  </a:lnTo>
                  <a:lnTo>
                    <a:pt x="4683" y="14"/>
                  </a:lnTo>
                  <a:lnTo>
                    <a:pt x="4724" y="19"/>
                  </a:lnTo>
                  <a:lnTo>
                    <a:pt x="4766" y="24"/>
                  </a:lnTo>
                  <a:lnTo>
                    <a:pt x="4810" y="31"/>
                  </a:lnTo>
                  <a:lnTo>
                    <a:pt x="4856" y="40"/>
                  </a:lnTo>
                  <a:lnTo>
                    <a:pt x="4905" y="50"/>
                  </a:lnTo>
                  <a:lnTo>
                    <a:pt x="4956" y="60"/>
                  </a:lnTo>
                  <a:lnTo>
                    <a:pt x="5011" y="73"/>
                  </a:lnTo>
                  <a:lnTo>
                    <a:pt x="5070" y="86"/>
                  </a:lnTo>
                  <a:lnTo>
                    <a:pt x="5132" y="102"/>
                  </a:lnTo>
                  <a:lnTo>
                    <a:pt x="5270" y="137"/>
                  </a:lnTo>
                  <a:lnTo>
                    <a:pt x="5429" y="180"/>
                  </a:lnTo>
                  <a:lnTo>
                    <a:pt x="5591" y="224"/>
                  </a:lnTo>
                  <a:lnTo>
                    <a:pt x="5741" y="266"/>
                  </a:lnTo>
                  <a:lnTo>
                    <a:pt x="5875" y="304"/>
                  </a:lnTo>
                  <a:lnTo>
                    <a:pt x="5999" y="339"/>
                  </a:lnTo>
                  <a:lnTo>
                    <a:pt x="6111" y="372"/>
                  </a:lnTo>
                  <a:lnTo>
                    <a:pt x="6212" y="403"/>
                  </a:lnTo>
                  <a:lnTo>
                    <a:pt x="6304" y="433"/>
                  </a:lnTo>
                  <a:lnTo>
                    <a:pt x="6389" y="461"/>
                  </a:lnTo>
                  <a:lnTo>
                    <a:pt x="6468" y="487"/>
                  </a:lnTo>
                  <a:lnTo>
                    <a:pt x="6540" y="514"/>
                  </a:lnTo>
                  <a:lnTo>
                    <a:pt x="6608" y="540"/>
                  </a:lnTo>
                  <a:lnTo>
                    <a:pt x="6671" y="567"/>
                  </a:lnTo>
                  <a:lnTo>
                    <a:pt x="6733" y="594"/>
                  </a:lnTo>
                  <a:lnTo>
                    <a:pt x="6794" y="622"/>
                  </a:lnTo>
                  <a:lnTo>
                    <a:pt x="6854" y="650"/>
                  </a:lnTo>
                  <a:lnTo>
                    <a:pt x="6914" y="681"/>
                  </a:lnTo>
                  <a:lnTo>
                    <a:pt x="6945" y="701"/>
                  </a:lnTo>
                  <a:lnTo>
                    <a:pt x="6977" y="731"/>
                  </a:lnTo>
                  <a:lnTo>
                    <a:pt x="7008" y="770"/>
                  </a:lnTo>
                  <a:lnTo>
                    <a:pt x="7040" y="816"/>
                  </a:lnTo>
                  <a:lnTo>
                    <a:pt x="7072" y="871"/>
                  </a:lnTo>
                  <a:lnTo>
                    <a:pt x="7104" y="932"/>
                  </a:lnTo>
                  <a:lnTo>
                    <a:pt x="7137" y="1000"/>
                  </a:lnTo>
                  <a:lnTo>
                    <a:pt x="7169" y="1073"/>
                  </a:lnTo>
                  <a:lnTo>
                    <a:pt x="7201" y="1151"/>
                  </a:lnTo>
                  <a:lnTo>
                    <a:pt x="7232" y="1234"/>
                  </a:lnTo>
                  <a:lnTo>
                    <a:pt x="7263" y="1319"/>
                  </a:lnTo>
                  <a:lnTo>
                    <a:pt x="7293" y="1408"/>
                  </a:lnTo>
                  <a:lnTo>
                    <a:pt x="7323" y="1499"/>
                  </a:lnTo>
                  <a:lnTo>
                    <a:pt x="7352" y="1592"/>
                  </a:lnTo>
                  <a:lnTo>
                    <a:pt x="7381" y="1685"/>
                  </a:lnTo>
                  <a:lnTo>
                    <a:pt x="7409" y="1778"/>
                  </a:lnTo>
                  <a:lnTo>
                    <a:pt x="7435" y="1872"/>
                  </a:lnTo>
                  <a:lnTo>
                    <a:pt x="7461" y="1964"/>
                  </a:lnTo>
                  <a:lnTo>
                    <a:pt x="7485" y="2053"/>
                  </a:lnTo>
                  <a:lnTo>
                    <a:pt x="7509" y="2141"/>
                  </a:lnTo>
                  <a:lnTo>
                    <a:pt x="7551" y="2306"/>
                  </a:lnTo>
                  <a:lnTo>
                    <a:pt x="7587" y="2453"/>
                  </a:lnTo>
                  <a:lnTo>
                    <a:pt x="7617" y="2578"/>
                  </a:lnTo>
                  <a:lnTo>
                    <a:pt x="7638" y="2672"/>
                  </a:lnTo>
                  <a:lnTo>
                    <a:pt x="7653" y="2733"/>
                  </a:lnTo>
                  <a:lnTo>
                    <a:pt x="7657" y="2755"/>
                  </a:lnTo>
                  <a:lnTo>
                    <a:pt x="7661" y="2762"/>
                  </a:lnTo>
                  <a:lnTo>
                    <a:pt x="7670" y="2785"/>
                  </a:lnTo>
                  <a:lnTo>
                    <a:pt x="7685" y="2821"/>
                  </a:lnTo>
                  <a:lnTo>
                    <a:pt x="7704" y="2870"/>
                  </a:lnTo>
                  <a:lnTo>
                    <a:pt x="7713" y="2899"/>
                  </a:lnTo>
                  <a:lnTo>
                    <a:pt x="7723" y="2931"/>
                  </a:lnTo>
                  <a:lnTo>
                    <a:pt x="7734" y="2967"/>
                  </a:lnTo>
                  <a:lnTo>
                    <a:pt x="7744" y="3004"/>
                  </a:lnTo>
                  <a:lnTo>
                    <a:pt x="7753" y="3044"/>
                  </a:lnTo>
                  <a:lnTo>
                    <a:pt x="7763" y="3087"/>
                  </a:lnTo>
                  <a:lnTo>
                    <a:pt x="7772" y="3133"/>
                  </a:lnTo>
                  <a:lnTo>
                    <a:pt x="7780" y="3180"/>
                  </a:lnTo>
                  <a:lnTo>
                    <a:pt x="7788" y="3229"/>
                  </a:lnTo>
                  <a:lnTo>
                    <a:pt x="7794" y="3281"/>
                  </a:lnTo>
                  <a:lnTo>
                    <a:pt x="7798" y="3335"/>
                  </a:lnTo>
                  <a:lnTo>
                    <a:pt x="7801" y="3391"/>
                  </a:lnTo>
                  <a:lnTo>
                    <a:pt x="7803" y="3448"/>
                  </a:lnTo>
                  <a:lnTo>
                    <a:pt x="7802" y="3507"/>
                  </a:lnTo>
                  <a:lnTo>
                    <a:pt x="7800" y="3568"/>
                  </a:lnTo>
                  <a:lnTo>
                    <a:pt x="7796" y="3630"/>
                  </a:lnTo>
                  <a:lnTo>
                    <a:pt x="7789" y="3693"/>
                  </a:lnTo>
                  <a:lnTo>
                    <a:pt x="7779" y="3758"/>
                  </a:lnTo>
                  <a:lnTo>
                    <a:pt x="7767" y="3824"/>
                  </a:lnTo>
                  <a:lnTo>
                    <a:pt x="7751" y="3891"/>
                  </a:lnTo>
                  <a:lnTo>
                    <a:pt x="7733" y="3958"/>
                  </a:lnTo>
                  <a:lnTo>
                    <a:pt x="7711" y="4027"/>
                  </a:lnTo>
                  <a:lnTo>
                    <a:pt x="7686" y="4096"/>
                  </a:lnTo>
                  <a:lnTo>
                    <a:pt x="7657" y="4166"/>
                  </a:lnTo>
                  <a:lnTo>
                    <a:pt x="7625" y="4239"/>
                  </a:lnTo>
                  <a:lnTo>
                    <a:pt x="7592" y="4319"/>
                  </a:lnTo>
                  <a:lnTo>
                    <a:pt x="7557" y="4404"/>
                  </a:lnTo>
                  <a:lnTo>
                    <a:pt x="7522" y="4495"/>
                  </a:lnTo>
                  <a:lnTo>
                    <a:pt x="7486" y="4591"/>
                  </a:lnTo>
                  <a:lnTo>
                    <a:pt x="7449" y="4693"/>
                  </a:lnTo>
                  <a:lnTo>
                    <a:pt x="7411" y="4799"/>
                  </a:lnTo>
                  <a:lnTo>
                    <a:pt x="7373" y="4910"/>
                  </a:lnTo>
                  <a:lnTo>
                    <a:pt x="7335" y="5023"/>
                  </a:lnTo>
                  <a:lnTo>
                    <a:pt x="7295" y="5141"/>
                  </a:lnTo>
                  <a:lnTo>
                    <a:pt x="7257" y="5261"/>
                  </a:lnTo>
                  <a:lnTo>
                    <a:pt x="7219" y="5384"/>
                  </a:lnTo>
                  <a:lnTo>
                    <a:pt x="7180" y="5509"/>
                  </a:lnTo>
                  <a:lnTo>
                    <a:pt x="7142" y="5636"/>
                  </a:lnTo>
                  <a:lnTo>
                    <a:pt x="7103" y="5764"/>
                  </a:lnTo>
                  <a:lnTo>
                    <a:pt x="7067" y="5895"/>
                  </a:lnTo>
                  <a:lnTo>
                    <a:pt x="7031" y="6024"/>
                  </a:lnTo>
                  <a:lnTo>
                    <a:pt x="6995" y="6156"/>
                  </a:lnTo>
                  <a:lnTo>
                    <a:pt x="6960" y="6287"/>
                  </a:lnTo>
                  <a:lnTo>
                    <a:pt x="6927" y="6416"/>
                  </a:lnTo>
                  <a:lnTo>
                    <a:pt x="6895" y="6547"/>
                  </a:lnTo>
                  <a:lnTo>
                    <a:pt x="6865" y="6675"/>
                  </a:lnTo>
                  <a:lnTo>
                    <a:pt x="6836" y="6802"/>
                  </a:lnTo>
                  <a:lnTo>
                    <a:pt x="6808" y="6926"/>
                  </a:lnTo>
                  <a:lnTo>
                    <a:pt x="6783" y="7050"/>
                  </a:lnTo>
                  <a:lnTo>
                    <a:pt x="6759" y="7170"/>
                  </a:lnTo>
                  <a:lnTo>
                    <a:pt x="6738" y="7286"/>
                  </a:lnTo>
                  <a:lnTo>
                    <a:pt x="6719" y="7400"/>
                  </a:lnTo>
                  <a:lnTo>
                    <a:pt x="6701" y="7510"/>
                  </a:lnTo>
                  <a:lnTo>
                    <a:pt x="6688" y="7616"/>
                  </a:lnTo>
                  <a:lnTo>
                    <a:pt x="6675" y="7717"/>
                  </a:lnTo>
                  <a:lnTo>
                    <a:pt x="6667" y="7813"/>
                  </a:lnTo>
                  <a:lnTo>
                    <a:pt x="6659" y="7904"/>
                  </a:lnTo>
                  <a:lnTo>
                    <a:pt x="6651" y="7994"/>
                  </a:lnTo>
                  <a:lnTo>
                    <a:pt x="6642" y="8083"/>
                  </a:lnTo>
                  <a:lnTo>
                    <a:pt x="6633" y="8169"/>
                  </a:lnTo>
                  <a:lnTo>
                    <a:pt x="6614" y="8336"/>
                  </a:lnTo>
                  <a:lnTo>
                    <a:pt x="6594" y="8495"/>
                  </a:lnTo>
                  <a:lnTo>
                    <a:pt x="6572" y="8648"/>
                  </a:lnTo>
                  <a:lnTo>
                    <a:pt x="6550" y="8793"/>
                  </a:lnTo>
                  <a:lnTo>
                    <a:pt x="6527" y="8931"/>
                  </a:lnTo>
                  <a:lnTo>
                    <a:pt x="6504" y="9062"/>
                  </a:lnTo>
                  <a:lnTo>
                    <a:pt x="6482" y="9187"/>
                  </a:lnTo>
                  <a:lnTo>
                    <a:pt x="6459" y="9305"/>
                  </a:lnTo>
                  <a:lnTo>
                    <a:pt x="6437" y="9417"/>
                  </a:lnTo>
                  <a:lnTo>
                    <a:pt x="6415" y="9522"/>
                  </a:lnTo>
                  <a:lnTo>
                    <a:pt x="6393" y="9620"/>
                  </a:lnTo>
                  <a:lnTo>
                    <a:pt x="6374" y="9714"/>
                  </a:lnTo>
                  <a:lnTo>
                    <a:pt x="6355" y="9800"/>
                  </a:lnTo>
                  <a:lnTo>
                    <a:pt x="6339" y="9881"/>
                  </a:lnTo>
                  <a:lnTo>
                    <a:pt x="6321" y="9962"/>
                  </a:lnTo>
                  <a:lnTo>
                    <a:pt x="6299" y="10050"/>
                  </a:lnTo>
                  <a:lnTo>
                    <a:pt x="6275" y="10143"/>
                  </a:lnTo>
                  <a:lnTo>
                    <a:pt x="6248" y="10241"/>
                  </a:lnTo>
                  <a:lnTo>
                    <a:pt x="6219" y="10346"/>
                  </a:lnTo>
                  <a:lnTo>
                    <a:pt x="6188" y="10456"/>
                  </a:lnTo>
                  <a:lnTo>
                    <a:pt x="6155" y="10572"/>
                  </a:lnTo>
                  <a:lnTo>
                    <a:pt x="6121" y="10693"/>
                  </a:lnTo>
                  <a:lnTo>
                    <a:pt x="6087" y="10821"/>
                  </a:lnTo>
                  <a:lnTo>
                    <a:pt x="6050" y="10954"/>
                  </a:lnTo>
                  <a:lnTo>
                    <a:pt x="6015" y="11093"/>
                  </a:lnTo>
                  <a:lnTo>
                    <a:pt x="5979" y="11238"/>
                  </a:lnTo>
                  <a:lnTo>
                    <a:pt x="5944" y="11388"/>
                  </a:lnTo>
                  <a:lnTo>
                    <a:pt x="5909" y="11544"/>
                  </a:lnTo>
                  <a:lnTo>
                    <a:pt x="5892" y="11625"/>
                  </a:lnTo>
                  <a:lnTo>
                    <a:pt x="5875" y="11705"/>
                  </a:lnTo>
                  <a:lnTo>
                    <a:pt x="5860" y="11789"/>
                  </a:lnTo>
                  <a:lnTo>
                    <a:pt x="5843" y="11873"/>
                  </a:lnTo>
                  <a:lnTo>
                    <a:pt x="5828" y="11957"/>
                  </a:lnTo>
                  <a:lnTo>
                    <a:pt x="5812" y="12037"/>
                  </a:lnTo>
                  <a:lnTo>
                    <a:pt x="5796" y="12113"/>
                  </a:lnTo>
                  <a:lnTo>
                    <a:pt x="5781" y="12184"/>
                  </a:lnTo>
                  <a:lnTo>
                    <a:pt x="5764" y="12253"/>
                  </a:lnTo>
                  <a:lnTo>
                    <a:pt x="5749" y="12317"/>
                  </a:lnTo>
                  <a:lnTo>
                    <a:pt x="5733" y="12379"/>
                  </a:lnTo>
                  <a:lnTo>
                    <a:pt x="5717" y="12439"/>
                  </a:lnTo>
                  <a:lnTo>
                    <a:pt x="5701" y="12496"/>
                  </a:lnTo>
                  <a:lnTo>
                    <a:pt x="5685" y="12549"/>
                  </a:lnTo>
                  <a:lnTo>
                    <a:pt x="5668" y="12601"/>
                  </a:lnTo>
                  <a:lnTo>
                    <a:pt x="5651" y="12652"/>
                  </a:lnTo>
                  <a:lnTo>
                    <a:pt x="5635" y="12701"/>
                  </a:lnTo>
                  <a:lnTo>
                    <a:pt x="5618" y="12747"/>
                  </a:lnTo>
                  <a:lnTo>
                    <a:pt x="5601" y="12793"/>
                  </a:lnTo>
                  <a:lnTo>
                    <a:pt x="5584" y="12839"/>
                  </a:lnTo>
                  <a:lnTo>
                    <a:pt x="5548" y="12927"/>
                  </a:lnTo>
                  <a:lnTo>
                    <a:pt x="5512" y="13013"/>
                  </a:lnTo>
                  <a:lnTo>
                    <a:pt x="5474" y="13101"/>
                  </a:lnTo>
                  <a:lnTo>
                    <a:pt x="5436" y="13191"/>
                  </a:lnTo>
                  <a:lnTo>
                    <a:pt x="5396" y="13286"/>
                  </a:lnTo>
                  <a:lnTo>
                    <a:pt x="5355" y="13386"/>
                  </a:lnTo>
                  <a:lnTo>
                    <a:pt x="5312" y="13495"/>
                  </a:lnTo>
                  <a:lnTo>
                    <a:pt x="5268" y="13613"/>
                  </a:lnTo>
                  <a:lnTo>
                    <a:pt x="5245" y="13674"/>
                  </a:lnTo>
                  <a:lnTo>
                    <a:pt x="5224" y="13735"/>
                  </a:lnTo>
                  <a:lnTo>
                    <a:pt x="5206" y="13793"/>
                  </a:lnTo>
                  <a:lnTo>
                    <a:pt x="5189" y="13849"/>
                  </a:lnTo>
                  <a:lnTo>
                    <a:pt x="5174" y="13903"/>
                  </a:lnTo>
                  <a:lnTo>
                    <a:pt x="5159" y="13955"/>
                  </a:lnTo>
                  <a:lnTo>
                    <a:pt x="5147" y="14006"/>
                  </a:lnTo>
                  <a:lnTo>
                    <a:pt x="5134" y="14055"/>
                  </a:lnTo>
                  <a:lnTo>
                    <a:pt x="5124" y="14103"/>
                  </a:lnTo>
                  <a:lnTo>
                    <a:pt x="5114" y="14148"/>
                  </a:lnTo>
                  <a:lnTo>
                    <a:pt x="5105" y="14193"/>
                  </a:lnTo>
                  <a:lnTo>
                    <a:pt x="5098" y="14235"/>
                  </a:lnTo>
                  <a:lnTo>
                    <a:pt x="5083" y="14317"/>
                  </a:lnTo>
                  <a:lnTo>
                    <a:pt x="5071" y="14393"/>
                  </a:lnTo>
                  <a:lnTo>
                    <a:pt x="5060" y="14465"/>
                  </a:lnTo>
                  <a:lnTo>
                    <a:pt x="5049" y="14531"/>
                  </a:lnTo>
                  <a:lnTo>
                    <a:pt x="5043" y="14563"/>
                  </a:lnTo>
                  <a:lnTo>
                    <a:pt x="5037" y="14594"/>
                  </a:lnTo>
                  <a:lnTo>
                    <a:pt x="5031" y="14623"/>
                  </a:lnTo>
                  <a:lnTo>
                    <a:pt x="5024" y="14652"/>
                  </a:lnTo>
                  <a:lnTo>
                    <a:pt x="5016" y="14681"/>
                  </a:lnTo>
                  <a:lnTo>
                    <a:pt x="5009" y="14708"/>
                  </a:lnTo>
                  <a:lnTo>
                    <a:pt x="4999" y="14734"/>
                  </a:lnTo>
                  <a:lnTo>
                    <a:pt x="4989" y="14760"/>
                  </a:lnTo>
                  <a:lnTo>
                    <a:pt x="4979" y="14786"/>
                  </a:lnTo>
                  <a:lnTo>
                    <a:pt x="4967" y="14810"/>
                  </a:lnTo>
                  <a:lnTo>
                    <a:pt x="4954" y="14834"/>
                  </a:lnTo>
                  <a:lnTo>
                    <a:pt x="4939" y="14858"/>
                  </a:lnTo>
                  <a:lnTo>
                    <a:pt x="4910" y="14902"/>
                  </a:lnTo>
                  <a:lnTo>
                    <a:pt x="4886" y="14942"/>
                  </a:lnTo>
                  <a:lnTo>
                    <a:pt x="4867" y="14977"/>
                  </a:lnTo>
                  <a:lnTo>
                    <a:pt x="4849" y="15009"/>
                  </a:lnTo>
                  <a:lnTo>
                    <a:pt x="4833" y="15039"/>
                  </a:lnTo>
                  <a:lnTo>
                    <a:pt x="4817" y="15067"/>
                  </a:lnTo>
                  <a:lnTo>
                    <a:pt x="4800" y="15094"/>
                  </a:lnTo>
                  <a:lnTo>
                    <a:pt x="4783" y="15121"/>
                  </a:lnTo>
                  <a:lnTo>
                    <a:pt x="4761" y="15149"/>
                  </a:lnTo>
                  <a:lnTo>
                    <a:pt x="4736" y="15179"/>
                  </a:lnTo>
                  <a:lnTo>
                    <a:pt x="4706" y="15212"/>
                  </a:lnTo>
                  <a:lnTo>
                    <a:pt x="4671" y="15248"/>
                  </a:lnTo>
                  <a:lnTo>
                    <a:pt x="4627" y="15289"/>
                  </a:lnTo>
                  <a:lnTo>
                    <a:pt x="4576" y="15334"/>
                  </a:lnTo>
                  <a:lnTo>
                    <a:pt x="4515" y="15386"/>
                  </a:lnTo>
                  <a:lnTo>
                    <a:pt x="4444" y="15445"/>
                  </a:lnTo>
                  <a:lnTo>
                    <a:pt x="4372" y="15501"/>
                  </a:lnTo>
                  <a:lnTo>
                    <a:pt x="4312" y="15547"/>
                  </a:lnTo>
                  <a:lnTo>
                    <a:pt x="4286" y="15566"/>
                  </a:lnTo>
                  <a:lnTo>
                    <a:pt x="4261" y="15583"/>
                  </a:lnTo>
                  <a:lnTo>
                    <a:pt x="4239" y="15598"/>
                  </a:lnTo>
                  <a:lnTo>
                    <a:pt x="4217" y="15611"/>
                  </a:lnTo>
                  <a:lnTo>
                    <a:pt x="4195" y="15623"/>
                  </a:lnTo>
                  <a:lnTo>
                    <a:pt x="4175" y="15633"/>
                  </a:lnTo>
                  <a:lnTo>
                    <a:pt x="4156" y="15641"/>
                  </a:lnTo>
                  <a:lnTo>
                    <a:pt x="4136" y="15650"/>
                  </a:lnTo>
                  <a:lnTo>
                    <a:pt x="4116" y="15656"/>
                  </a:lnTo>
                  <a:lnTo>
                    <a:pt x="4096" y="15661"/>
                  </a:lnTo>
                  <a:lnTo>
                    <a:pt x="4074" y="15665"/>
                  </a:lnTo>
                  <a:lnTo>
                    <a:pt x="4052" y="15669"/>
                  </a:lnTo>
                  <a:lnTo>
                    <a:pt x="4002" y="15677"/>
                  </a:lnTo>
                  <a:lnTo>
                    <a:pt x="3945" y="15683"/>
                  </a:lnTo>
                  <a:lnTo>
                    <a:pt x="3877" y="15689"/>
                  </a:lnTo>
                  <a:lnTo>
                    <a:pt x="3796" y="15697"/>
                  </a:lnTo>
                  <a:lnTo>
                    <a:pt x="3699" y="15709"/>
                  </a:lnTo>
                  <a:lnTo>
                    <a:pt x="3585" y="15724"/>
                  </a:lnTo>
                  <a:lnTo>
                    <a:pt x="3520" y="15735"/>
                  </a:lnTo>
                  <a:lnTo>
                    <a:pt x="3450" y="15746"/>
                  </a:lnTo>
                  <a:lnTo>
                    <a:pt x="3374" y="15759"/>
                  </a:lnTo>
                  <a:lnTo>
                    <a:pt x="3292" y="15773"/>
                  </a:lnTo>
                  <a:lnTo>
                    <a:pt x="3206" y="15789"/>
                  </a:lnTo>
                  <a:lnTo>
                    <a:pt x="3118" y="15803"/>
                  </a:lnTo>
                  <a:lnTo>
                    <a:pt x="3027" y="15817"/>
                  </a:lnTo>
                  <a:lnTo>
                    <a:pt x="2934" y="15829"/>
                  </a:lnTo>
                  <a:lnTo>
                    <a:pt x="2839" y="15840"/>
                  </a:lnTo>
                  <a:lnTo>
                    <a:pt x="2744" y="15851"/>
                  </a:lnTo>
                  <a:lnTo>
                    <a:pt x="2648" y="15861"/>
                  </a:lnTo>
                  <a:lnTo>
                    <a:pt x="2551" y="15870"/>
                  </a:lnTo>
                  <a:lnTo>
                    <a:pt x="2455" y="15879"/>
                  </a:lnTo>
                  <a:lnTo>
                    <a:pt x="2358" y="15886"/>
                  </a:lnTo>
                  <a:lnTo>
                    <a:pt x="2262" y="15893"/>
                  </a:lnTo>
                  <a:lnTo>
                    <a:pt x="2167" y="15900"/>
                  </a:lnTo>
                  <a:lnTo>
                    <a:pt x="1980" y="15911"/>
                  </a:lnTo>
                  <a:lnTo>
                    <a:pt x="1802" y="15919"/>
                  </a:lnTo>
                  <a:lnTo>
                    <a:pt x="1634" y="15927"/>
                  </a:lnTo>
                  <a:lnTo>
                    <a:pt x="1480" y="15932"/>
                  </a:lnTo>
                  <a:lnTo>
                    <a:pt x="1342" y="15936"/>
                  </a:lnTo>
                  <a:lnTo>
                    <a:pt x="1223" y="15938"/>
                  </a:lnTo>
                  <a:lnTo>
                    <a:pt x="1124" y="15939"/>
                  </a:lnTo>
                  <a:lnTo>
                    <a:pt x="1052" y="15940"/>
                  </a:lnTo>
                  <a:lnTo>
                    <a:pt x="1006" y="15940"/>
                  </a:lnTo>
                  <a:lnTo>
                    <a:pt x="989" y="15940"/>
                  </a:lnTo>
                  <a:lnTo>
                    <a:pt x="327" y="1560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92600">
              <a:off x="7671960" y="1839600"/>
              <a:ext cx="434520" cy="2266560"/>
            </a:xfrm>
            <a:custGeom>
              <a:avLst/>
              <a:gdLst/>
              <a:ahLst/>
              <a:rect l="l" t="t" r="r" b="b"/>
              <a:pathLst>
                <a:path w="3004" h="14107">
                  <a:moveTo>
                    <a:pt x="0" y="13612"/>
                  </a:moveTo>
                  <a:lnTo>
                    <a:pt x="241" y="11664"/>
                  </a:lnTo>
                  <a:lnTo>
                    <a:pt x="247" y="11645"/>
                  </a:lnTo>
                  <a:lnTo>
                    <a:pt x="266" y="11586"/>
                  </a:lnTo>
                  <a:lnTo>
                    <a:pt x="295" y="11495"/>
                  </a:lnTo>
                  <a:lnTo>
                    <a:pt x="331" y="11377"/>
                  </a:lnTo>
                  <a:lnTo>
                    <a:pt x="376" y="11236"/>
                  </a:lnTo>
                  <a:lnTo>
                    <a:pt x="425" y="11079"/>
                  </a:lnTo>
                  <a:lnTo>
                    <a:pt x="477" y="10909"/>
                  </a:lnTo>
                  <a:lnTo>
                    <a:pt x="531" y="10731"/>
                  </a:lnTo>
                  <a:lnTo>
                    <a:pt x="586" y="10552"/>
                  </a:lnTo>
                  <a:lnTo>
                    <a:pt x="638" y="10376"/>
                  </a:lnTo>
                  <a:lnTo>
                    <a:pt x="688" y="10208"/>
                  </a:lnTo>
                  <a:lnTo>
                    <a:pt x="731" y="10054"/>
                  </a:lnTo>
                  <a:lnTo>
                    <a:pt x="751" y="9984"/>
                  </a:lnTo>
                  <a:lnTo>
                    <a:pt x="769" y="9917"/>
                  </a:lnTo>
                  <a:lnTo>
                    <a:pt x="784" y="9858"/>
                  </a:lnTo>
                  <a:lnTo>
                    <a:pt x="798" y="9805"/>
                  </a:lnTo>
                  <a:lnTo>
                    <a:pt x="808" y="9760"/>
                  </a:lnTo>
                  <a:lnTo>
                    <a:pt x="816" y="9721"/>
                  </a:lnTo>
                  <a:lnTo>
                    <a:pt x="821" y="9692"/>
                  </a:lnTo>
                  <a:lnTo>
                    <a:pt x="823" y="9672"/>
                  </a:lnTo>
                  <a:lnTo>
                    <a:pt x="824" y="9623"/>
                  </a:lnTo>
                  <a:lnTo>
                    <a:pt x="826" y="9542"/>
                  </a:lnTo>
                  <a:lnTo>
                    <a:pt x="830" y="9434"/>
                  </a:lnTo>
                  <a:lnTo>
                    <a:pt x="835" y="9303"/>
                  </a:lnTo>
                  <a:lnTo>
                    <a:pt x="841" y="9155"/>
                  </a:lnTo>
                  <a:lnTo>
                    <a:pt x="847" y="8995"/>
                  </a:lnTo>
                  <a:lnTo>
                    <a:pt x="856" y="8826"/>
                  </a:lnTo>
                  <a:lnTo>
                    <a:pt x="863" y="8655"/>
                  </a:lnTo>
                  <a:lnTo>
                    <a:pt x="870" y="8486"/>
                  </a:lnTo>
                  <a:lnTo>
                    <a:pt x="878" y="8325"/>
                  </a:lnTo>
                  <a:lnTo>
                    <a:pt x="885" y="8173"/>
                  </a:lnTo>
                  <a:lnTo>
                    <a:pt x="891" y="8039"/>
                  </a:lnTo>
                  <a:lnTo>
                    <a:pt x="895" y="7926"/>
                  </a:lnTo>
                  <a:lnTo>
                    <a:pt x="899" y="7840"/>
                  </a:lnTo>
                  <a:lnTo>
                    <a:pt x="902" y="7784"/>
                  </a:lnTo>
                  <a:lnTo>
                    <a:pt x="903" y="7765"/>
                  </a:lnTo>
                  <a:lnTo>
                    <a:pt x="1070" y="6441"/>
                  </a:lnTo>
                  <a:lnTo>
                    <a:pt x="1151" y="5028"/>
                  </a:lnTo>
                  <a:lnTo>
                    <a:pt x="1479" y="3369"/>
                  </a:lnTo>
                  <a:lnTo>
                    <a:pt x="1479" y="2379"/>
                  </a:lnTo>
                  <a:lnTo>
                    <a:pt x="1477" y="2371"/>
                  </a:lnTo>
                  <a:lnTo>
                    <a:pt x="1468" y="2347"/>
                  </a:lnTo>
                  <a:lnTo>
                    <a:pt x="1456" y="2309"/>
                  </a:lnTo>
                  <a:lnTo>
                    <a:pt x="1440" y="2260"/>
                  </a:lnTo>
                  <a:lnTo>
                    <a:pt x="1422" y="2201"/>
                  </a:lnTo>
                  <a:lnTo>
                    <a:pt x="1401" y="2133"/>
                  </a:lnTo>
                  <a:lnTo>
                    <a:pt x="1378" y="2061"/>
                  </a:lnTo>
                  <a:lnTo>
                    <a:pt x="1355" y="1984"/>
                  </a:lnTo>
                  <a:lnTo>
                    <a:pt x="1332" y="1905"/>
                  </a:lnTo>
                  <a:lnTo>
                    <a:pt x="1310" y="1827"/>
                  </a:lnTo>
                  <a:lnTo>
                    <a:pt x="1289" y="1750"/>
                  </a:lnTo>
                  <a:lnTo>
                    <a:pt x="1270" y="1677"/>
                  </a:lnTo>
                  <a:lnTo>
                    <a:pt x="1254" y="1610"/>
                  </a:lnTo>
                  <a:lnTo>
                    <a:pt x="1242" y="1551"/>
                  </a:lnTo>
                  <a:lnTo>
                    <a:pt x="1237" y="1525"/>
                  </a:lnTo>
                  <a:lnTo>
                    <a:pt x="1234" y="1501"/>
                  </a:lnTo>
                  <a:lnTo>
                    <a:pt x="1232" y="1480"/>
                  </a:lnTo>
                  <a:lnTo>
                    <a:pt x="1231" y="1464"/>
                  </a:lnTo>
                  <a:lnTo>
                    <a:pt x="1231" y="1428"/>
                  </a:lnTo>
                  <a:lnTo>
                    <a:pt x="1231" y="1387"/>
                  </a:lnTo>
                  <a:lnTo>
                    <a:pt x="1231" y="1339"/>
                  </a:lnTo>
                  <a:lnTo>
                    <a:pt x="1231" y="1286"/>
                  </a:lnTo>
                  <a:lnTo>
                    <a:pt x="1231" y="1230"/>
                  </a:lnTo>
                  <a:lnTo>
                    <a:pt x="1231" y="1171"/>
                  </a:lnTo>
                  <a:lnTo>
                    <a:pt x="1231" y="1110"/>
                  </a:lnTo>
                  <a:lnTo>
                    <a:pt x="1231" y="1049"/>
                  </a:lnTo>
                  <a:lnTo>
                    <a:pt x="1231" y="987"/>
                  </a:lnTo>
                  <a:lnTo>
                    <a:pt x="1231" y="925"/>
                  </a:lnTo>
                  <a:lnTo>
                    <a:pt x="1231" y="866"/>
                  </a:lnTo>
                  <a:lnTo>
                    <a:pt x="1231" y="810"/>
                  </a:lnTo>
                  <a:lnTo>
                    <a:pt x="1231" y="758"/>
                  </a:lnTo>
                  <a:lnTo>
                    <a:pt x="1231" y="711"/>
                  </a:lnTo>
                  <a:lnTo>
                    <a:pt x="1231" y="668"/>
                  </a:lnTo>
                  <a:lnTo>
                    <a:pt x="1231" y="634"/>
                  </a:lnTo>
                  <a:lnTo>
                    <a:pt x="1232" y="602"/>
                  </a:lnTo>
                  <a:lnTo>
                    <a:pt x="1235" y="571"/>
                  </a:lnTo>
                  <a:lnTo>
                    <a:pt x="1240" y="541"/>
                  </a:lnTo>
                  <a:lnTo>
                    <a:pt x="1247" y="510"/>
                  </a:lnTo>
                  <a:lnTo>
                    <a:pt x="1255" y="480"/>
                  </a:lnTo>
                  <a:lnTo>
                    <a:pt x="1265" y="451"/>
                  </a:lnTo>
                  <a:lnTo>
                    <a:pt x="1271" y="436"/>
                  </a:lnTo>
                  <a:lnTo>
                    <a:pt x="1278" y="422"/>
                  </a:lnTo>
                  <a:lnTo>
                    <a:pt x="1285" y="408"/>
                  </a:lnTo>
                  <a:lnTo>
                    <a:pt x="1292" y="394"/>
                  </a:lnTo>
                  <a:lnTo>
                    <a:pt x="1300" y="380"/>
                  </a:lnTo>
                  <a:lnTo>
                    <a:pt x="1309" y="368"/>
                  </a:lnTo>
                  <a:lnTo>
                    <a:pt x="1318" y="354"/>
                  </a:lnTo>
                  <a:lnTo>
                    <a:pt x="1327" y="342"/>
                  </a:lnTo>
                  <a:lnTo>
                    <a:pt x="1337" y="329"/>
                  </a:lnTo>
                  <a:lnTo>
                    <a:pt x="1347" y="317"/>
                  </a:lnTo>
                  <a:lnTo>
                    <a:pt x="1358" y="305"/>
                  </a:lnTo>
                  <a:lnTo>
                    <a:pt x="1370" y="294"/>
                  </a:lnTo>
                  <a:lnTo>
                    <a:pt x="1381" y="284"/>
                  </a:lnTo>
                  <a:lnTo>
                    <a:pt x="1394" y="273"/>
                  </a:lnTo>
                  <a:lnTo>
                    <a:pt x="1407" y="263"/>
                  </a:lnTo>
                  <a:lnTo>
                    <a:pt x="1421" y="253"/>
                  </a:lnTo>
                  <a:lnTo>
                    <a:pt x="1434" y="244"/>
                  </a:lnTo>
                  <a:lnTo>
                    <a:pt x="1449" y="235"/>
                  </a:lnTo>
                  <a:lnTo>
                    <a:pt x="1463" y="227"/>
                  </a:lnTo>
                  <a:lnTo>
                    <a:pt x="1479" y="219"/>
                  </a:lnTo>
                  <a:lnTo>
                    <a:pt x="1511" y="204"/>
                  </a:lnTo>
                  <a:lnTo>
                    <a:pt x="1545" y="188"/>
                  </a:lnTo>
                  <a:lnTo>
                    <a:pt x="1581" y="174"/>
                  </a:lnTo>
                  <a:lnTo>
                    <a:pt x="1620" y="159"/>
                  </a:lnTo>
                  <a:lnTo>
                    <a:pt x="1660" y="145"/>
                  </a:lnTo>
                  <a:lnTo>
                    <a:pt x="1704" y="130"/>
                  </a:lnTo>
                  <a:lnTo>
                    <a:pt x="1749" y="118"/>
                  </a:lnTo>
                  <a:lnTo>
                    <a:pt x="1797" y="105"/>
                  </a:lnTo>
                  <a:lnTo>
                    <a:pt x="1848" y="94"/>
                  </a:lnTo>
                  <a:lnTo>
                    <a:pt x="1903" y="84"/>
                  </a:lnTo>
                  <a:lnTo>
                    <a:pt x="1960" y="74"/>
                  </a:lnTo>
                  <a:lnTo>
                    <a:pt x="2020" y="67"/>
                  </a:lnTo>
                  <a:lnTo>
                    <a:pt x="2084" y="61"/>
                  </a:lnTo>
                  <a:lnTo>
                    <a:pt x="2151" y="56"/>
                  </a:lnTo>
                  <a:lnTo>
                    <a:pt x="2222" y="52"/>
                  </a:lnTo>
                  <a:lnTo>
                    <a:pt x="2296" y="51"/>
                  </a:lnTo>
                  <a:lnTo>
                    <a:pt x="2335" y="51"/>
                  </a:lnTo>
                  <a:lnTo>
                    <a:pt x="2370" y="49"/>
                  </a:lnTo>
                  <a:lnTo>
                    <a:pt x="2404" y="47"/>
                  </a:lnTo>
                  <a:lnTo>
                    <a:pt x="2437" y="44"/>
                  </a:lnTo>
                  <a:lnTo>
                    <a:pt x="2467" y="40"/>
                  </a:lnTo>
                  <a:lnTo>
                    <a:pt x="2496" y="36"/>
                  </a:lnTo>
                  <a:lnTo>
                    <a:pt x="2524" y="31"/>
                  </a:lnTo>
                  <a:lnTo>
                    <a:pt x="2550" y="25"/>
                  </a:lnTo>
                  <a:lnTo>
                    <a:pt x="2597" y="16"/>
                  </a:lnTo>
                  <a:lnTo>
                    <a:pt x="2640" y="8"/>
                  </a:lnTo>
                  <a:lnTo>
                    <a:pt x="2659" y="5"/>
                  </a:lnTo>
                  <a:lnTo>
                    <a:pt x="2677" y="3"/>
                  </a:lnTo>
                  <a:lnTo>
                    <a:pt x="2693" y="1"/>
                  </a:lnTo>
                  <a:lnTo>
                    <a:pt x="2710" y="0"/>
                  </a:lnTo>
                  <a:lnTo>
                    <a:pt x="2725" y="1"/>
                  </a:lnTo>
                  <a:lnTo>
                    <a:pt x="2738" y="3"/>
                  </a:lnTo>
                  <a:lnTo>
                    <a:pt x="2751" y="6"/>
                  </a:lnTo>
                  <a:lnTo>
                    <a:pt x="2764" y="11"/>
                  </a:lnTo>
                  <a:lnTo>
                    <a:pt x="2775" y="18"/>
                  </a:lnTo>
                  <a:lnTo>
                    <a:pt x="2787" y="28"/>
                  </a:lnTo>
                  <a:lnTo>
                    <a:pt x="2797" y="39"/>
                  </a:lnTo>
                  <a:lnTo>
                    <a:pt x="2806" y="51"/>
                  </a:lnTo>
                  <a:lnTo>
                    <a:pt x="2816" y="68"/>
                  </a:lnTo>
                  <a:lnTo>
                    <a:pt x="2825" y="86"/>
                  </a:lnTo>
                  <a:lnTo>
                    <a:pt x="2833" y="107"/>
                  </a:lnTo>
                  <a:lnTo>
                    <a:pt x="2842" y="131"/>
                  </a:lnTo>
                  <a:lnTo>
                    <a:pt x="2849" y="158"/>
                  </a:lnTo>
                  <a:lnTo>
                    <a:pt x="2857" y="188"/>
                  </a:lnTo>
                  <a:lnTo>
                    <a:pt x="2864" y="222"/>
                  </a:lnTo>
                  <a:lnTo>
                    <a:pt x="2873" y="259"/>
                  </a:lnTo>
                  <a:lnTo>
                    <a:pt x="2889" y="336"/>
                  </a:lnTo>
                  <a:lnTo>
                    <a:pt x="2907" y="407"/>
                  </a:lnTo>
                  <a:lnTo>
                    <a:pt x="2926" y="477"/>
                  </a:lnTo>
                  <a:lnTo>
                    <a:pt x="2943" y="542"/>
                  </a:lnTo>
                  <a:lnTo>
                    <a:pt x="2961" y="604"/>
                  </a:lnTo>
                  <a:lnTo>
                    <a:pt x="2975" y="664"/>
                  </a:lnTo>
                  <a:lnTo>
                    <a:pt x="2983" y="693"/>
                  </a:lnTo>
                  <a:lnTo>
                    <a:pt x="2988" y="721"/>
                  </a:lnTo>
                  <a:lnTo>
                    <a:pt x="2993" y="749"/>
                  </a:lnTo>
                  <a:lnTo>
                    <a:pt x="2997" y="777"/>
                  </a:lnTo>
                  <a:lnTo>
                    <a:pt x="3001" y="804"/>
                  </a:lnTo>
                  <a:lnTo>
                    <a:pt x="3003" y="830"/>
                  </a:lnTo>
                  <a:lnTo>
                    <a:pt x="3004" y="856"/>
                  </a:lnTo>
                  <a:lnTo>
                    <a:pt x="3004" y="882"/>
                  </a:lnTo>
                  <a:lnTo>
                    <a:pt x="3002" y="907"/>
                  </a:lnTo>
                  <a:lnTo>
                    <a:pt x="2999" y="932"/>
                  </a:lnTo>
                  <a:lnTo>
                    <a:pt x="2995" y="957"/>
                  </a:lnTo>
                  <a:lnTo>
                    <a:pt x="2989" y="981"/>
                  </a:lnTo>
                  <a:lnTo>
                    <a:pt x="2982" y="1005"/>
                  </a:lnTo>
                  <a:lnTo>
                    <a:pt x="2971" y="1029"/>
                  </a:lnTo>
                  <a:lnTo>
                    <a:pt x="2960" y="1053"/>
                  </a:lnTo>
                  <a:lnTo>
                    <a:pt x="2947" y="1076"/>
                  </a:lnTo>
                  <a:lnTo>
                    <a:pt x="2932" y="1100"/>
                  </a:lnTo>
                  <a:lnTo>
                    <a:pt x="2914" y="1122"/>
                  </a:lnTo>
                  <a:lnTo>
                    <a:pt x="2894" y="1146"/>
                  </a:lnTo>
                  <a:lnTo>
                    <a:pt x="2873" y="1169"/>
                  </a:lnTo>
                  <a:lnTo>
                    <a:pt x="2849" y="1195"/>
                  </a:lnTo>
                  <a:lnTo>
                    <a:pt x="2822" y="1226"/>
                  </a:lnTo>
                  <a:lnTo>
                    <a:pt x="2794" y="1261"/>
                  </a:lnTo>
                  <a:lnTo>
                    <a:pt x="2764" y="1300"/>
                  </a:lnTo>
                  <a:lnTo>
                    <a:pt x="2732" y="1342"/>
                  </a:lnTo>
                  <a:lnTo>
                    <a:pt x="2699" y="1388"/>
                  </a:lnTo>
                  <a:lnTo>
                    <a:pt x="2664" y="1436"/>
                  </a:lnTo>
                  <a:lnTo>
                    <a:pt x="2629" y="1486"/>
                  </a:lnTo>
                  <a:lnTo>
                    <a:pt x="2556" y="1595"/>
                  </a:lnTo>
                  <a:lnTo>
                    <a:pt x="2480" y="1710"/>
                  </a:lnTo>
                  <a:lnTo>
                    <a:pt x="2404" y="1830"/>
                  </a:lnTo>
                  <a:lnTo>
                    <a:pt x="2330" y="1951"/>
                  </a:lnTo>
                  <a:lnTo>
                    <a:pt x="2258" y="2070"/>
                  </a:lnTo>
                  <a:lnTo>
                    <a:pt x="2191" y="2186"/>
                  </a:lnTo>
                  <a:lnTo>
                    <a:pt x="2159" y="2242"/>
                  </a:lnTo>
                  <a:lnTo>
                    <a:pt x="2130" y="2297"/>
                  </a:lnTo>
                  <a:lnTo>
                    <a:pt x="2102" y="2349"/>
                  </a:lnTo>
                  <a:lnTo>
                    <a:pt x="2076" y="2398"/>
                  </a:lnTo>
                  <a:lnTo>
                    <a:pt x="2052" y="2445"/>
                  </a:lnTo>
                  <a:lnTo>
                    <a:pt x="2031" y="2489"/>
                  </a:lnTo>
                  <a:lnTo>
                    <a:pt x="2012" y="2528"/>
                  </a:lnTo>
                  <a:lnTo>
                    <a:pt x="1997" y="2565"/>
                  </a:lnTo>
                  <a:lnTo>
                    <a:pt x="1984" y="2598"/>
                  </a:lnTo>
                  <a:lnTo>
                    <a:pt x="1976" y="2626"/>
                  </a:lnTo>
                  <a:lnTo>
                    <a:pt x="1970" y="2649"/>
                  </a:lnTo>
                  <a:lnTo>
                    <a:pt x="1968" y="2667"/>
                  </a:lnTo>
                  <a:lnTo>
                    <a:pt x="1969" y="2707"/>
                  </a:lnTo>
                  <a:lnTo>
                    <a:pt x="1971" y="2763"/>
                  </a:lnTo>
                  <a:lnTo>
                    <a:pt x="1974" y="2832"/>
                  </a:lnTo>
                  <a:lnTo>
                    <a:pt x="1977" y="2915"/>
                  </a:lnTo>
                  <a:lnTo>
                    <a:pt x="1979" y="3009"/>
                  </a:lnTo>
                  <a:lnTo>
                    <a:pt x="1980" y="3112"/>
                  </a:lnTo>
                  <a:lnTo>
                    <a:pt x="1980" y="3167"/>
                  </a:lnTo>
                  <a:lnTo>
                    <a:pt x="1980" y="3223"/>
                  </a:lnTo>
                  <a:lnTo>
                    <a:pt x="1979" y="3281"/>
                  </a:lnTo>
                  <a:lnTo>
                    <a:pt x="1977" y="3341"/>
                  </a:lnTo>
                  <a:lnTo>
                    <a:pt x="1975" y="3402"/>
                  </a:lnTo>
                  <a:lnTo>
                    <a:pt x="1972" y="3464"/>
                  </a:lnTo>
                  <a:lnTo>
                    <a:pt x="1968" y="3526"/>
                  </a:lnTo>
                  <a:lnTo>
                    <a:pt x="1963" y="3589"/>
                  </a:lnTo>
                  <a:lnTo>
                    <a:pt x="1956" y="3654"/>
                  </a:lnTo>
                  <a:lnTo>
                    <a:pt x="1949" y="3717"/>
                  </a:lnTo>
                  <a:lnTo>
                    <a:pt x="1941" y="3781"/>
                  </a:lnTo>
                  <a:lnTo>
                    <a:pt x="1932" y="3845"/>
                  </a:lnTo>
                  <a:lnTo>
                    <a:pt x="1921" y="3909"/>
                  </a:lnTo>
                  <a:lnTo>
                    <a:pt x="1909" y="3971"/>
                  </a:lnTo>
                  <a:lnTo>
                    <a:pt x="1895" y="4033"/>
                  </a:lnTo>
                  <a:lnTo>
                    <a:pt x="1880" y="4094"/>
                  </a:lnTo>
                  <a:lnTo>
                    <a:pt x="1862" y="4154"/>
                  </a:lnTo>
                  <a:lnTo>
                    <a:pt x="1844" y="4213"/>
                  </a:lnTo>
                  <a:lnTo>
                    <a:pt x="1824" y="4270"/>
                  </a:lnTo>
                  <a:lnTo>
                    <a:pt x="1801" y="4326"/>
                  </a:lnTo>
                  <a:lnTo>
                    <a:pt x="1779" y="4381"/>
                  </a:lnTo>
                  <a:lnTo>
                    <a:pt x="1756" y="4438"/>
                  </a:lnTo>
                  <a:lnTo>
                    <a:pt x="1735" y="4498"/>
                  </a:lnTo>
                  <a:lnTo>
                    <a:pt x="1713" y="4558"/>
                  </a:lnTo>
                  <a:lnTo>
                    <a:pt x="1690" y="4620"/>
                  </a:lnTo>
                  <a:lnTo>
                    <a:pt x="1668" y="4682"/>
                  </a:lnTo>
                  <a:lnTo>
                    <a:pt x="1647" y="4746"/>
                  </a:lnTo>
                  <a:lnTo>
                    <a:pt x="1625" y="4811"/>
                  </a:lnTo>
                  <a:lnTo>
                    <a:pt x="1583" y="4942"/>
                  </a:lnTo>
                  <a:lnTo>
                    <a:pt x="1543" y="5076"/>
                  </a:lnTo>
                  <a:lnTo>
                    <a:pt x="1523" y="5142"/>
                  </a:lnTo>
                  <a:lnTo>
                    <a:pt x="1505" y="5209"/>
                  </a:lnTo>
                  <a:lnTo>
                    <a:pt x="1486" y="5276"/>
                  </a:lnTo>
                  <a:lnTo>
                    <a:pt x="1468" y="5343"/>
                  </a:lnTo>
                  <a:lnTo>
                    <a:pt x="1451" y="5408"/>
                  </a:lnTo>
                  <a:lnTo>
                    <a:pt x="1435" y="5473"/>
                  </a:lnTo>
                  <a:lnTo>
                    <a:pt x="1420" y="5538"/>
                  </a:lnTo>
                  <a:lnTo>
                    <a:pt x="1404" y="5601"/>
                  </a:lnTo>
                  <a:lnTo>
                    <a:pt x="1391" y="5663"/>
                  </a:lnTo>
                  <a:lnTo>
                    <a:pt x="1378" y="5724"/>
                  </a:lnTo>
                  <a:lnTo>
                    <a:pt x="1366" y="5783"/>
                  </a:lnTo>
                  <a:lnTo>
                    <a:pt x="1355" y="5841"/>
                  </a:lnTo>
                  <a:lnTo>
                    <a:pt x="1345" y="5898"/>
                  </a:lnTo>
                  <a:lnTo>
                    <a:pt x="1337" y="5952"/>
                  </a:lnTo>
                  <a:lnTo>
                    <a:pt x="1329" y="6005"/>
                  </a:lnTo>
                  <a:lnTo>
                    <a:pt x="1323" y="6056"/>
                  </a:lnTo>
                  <a:lnTo>
                    <a:pt x="1318" y="6104"/>
                  </a:lnTo>
                  <a:lnTo>
                    <a:pt x="1315" y="6149"/>
                  </a:lnTo>
                  <a:lnTo>
                    <a:pt x="1313" y="6193"/>
                  </a:lnTo>
                  <a:lnTo>
                    <a:pt x="1312" y="6233"/>
                  </a:lnTo>
                  <a:lnTo>
                    <a:pt x="1313" y="6311"/>
                  </a:lnTo>
                  <a:lnTo>
                    <a:pt x="1316" y="6392"/>
                  </a:lnTo>
                  <a:lnTo>
                    <a:pt x="1320" y="6474"/>
                  </a:lnTo>
                  <a:lnTo>
                    <a:pt x="1325" y="6558"/>
                  </a:lnTo>
                  <a:lnTo>
                    <a:pt x="1332" y="6643"/>
                  </a:lnTo>
                  <a:lnTo>
                    <a:pt x="1339" y="6729"/>
                  </a:lnTo>
                  <a:lnTo>
                    <a:pt x="1347" y="6817"/>
                  </a:lnTo>
                  <a:lnTo>
                    <a:pt x="1355" y="6905"/>
                  </a:lnTo>
                  <a:lnTo>
                    <a:pt x="1364" y="6995"/>
                  </a:lnTo>
                  <a:lnTo>
                    <a:pt x="1371" y="7086"/>
                  </a:lnTo>
                  <a:lnTo>
                    <a:pt x="1378" y="7177"/>
                  </a:lnTo>
                  <a:lnTo>
                    <a:pt x="1384" y="7268"/>
                  </a:lnTo>
                  <a:lnTo>
                    <a:pt x="1391" y="7360"/>
                  </a:lnTo>
                  <a:lnTo>
                    <a:pt x="1395" y="7453"/>
                  </a:lnTo>
                  <a:lnTo>
                    <a:pt x="1397" y="7546"/>
                  </a:lnTo>
                  <a:lnTo>
                    <a:pt x="1398" y="7638"/>
                  </a:lnTo>
                  <a:lnTo>
                    <a:pt x="1398" y="7688"/>
                  </a:lnTo>
                  <a:lnTo>
                    <a:pt x="1395" y="7741"/>
                  </a:lnTo>
                  <a:lnTo>
                    <a:pt x="1391" y="7798"/>
                  </a:lnTo>
                  <a:lnTo>
                    <a:pt x="1384" y="7858"/>
                  </a:lnTo>
                  <a:lnTo>
                    <a:pt x="1376" y="7922"/>
                  </a:lnTo>
                  <a:lnTo>
                    <a:pt x="1368" y="7989"/>
                  </a:lnTo>
                  <a:lnTo>
                    <a:pt x="1357" y="8058"/>
                  </a:lnTo>
                  <a:lnTo>
                    <a:pt x="1346" y="8131"/>
                  </a:lnTo>
                  <a:lnTo>
                    <a:pt x="1333" y="8205"/>
                  </a:lnTo>
                  <a:lnTo>
                    <a:pt x="1319" y="8282"/>
                  </a:lnTo>
                  <a:lnTo>
                    <a:pt x="1306" y="8360"/>
                  </a:lnTo>
                  <a:lnTo>
                    <a:pt x="1290" y="8440"/>
                  </a:lnTo>
                  <a:lnTo>
                    <a:pt x="1258" y="8603"/>
                  </a:lnTo>
                  <a:lnTo>
                    <a:pt x="1224" y="8768"/>
                  </a:lnTo>
                  <a:lnTo>
                    <a:pt x="1188" y="8935"/>
                  </a:lnTo>
                  <a:lnTo>
                    <a:pt x="1153" y="9101"/>
                  </a:lnTo>
                  <a:lnTo>
                    <a:pt x="1118" y="9264"/>
                  </a:lnTo>
                  <a:lnTo>
                    <a:pt x="1085" y="9422"/>
                  </a:lnTo>
                  <a:lnTo>
                    <a:pt x="1054" y="9572"/>
                  </a:lnTo>
                  <a:lnTo>
                    <a:pt x="1027" y="9714"/>
                  </a:lnTo>
                  <a:lnTo>
                    <a:pt x="1014" y="9780"/>
                  </a:lnTo>
                  <a:lnTo>
                    <a:pt x="1003" y="9844"/>
                  </a:lnTo>
                  <a:lnTo>
                    <a:pt x="993" y="9904"/>
                  </a:lnTo>
                  <a:lnTo>
                    <a:pt x="983" y="9960"/>
                  </a:lnTo>
                  <a:lnTo>
                    <a:pt x="977" y="10016"/>
                  </a:lnTo>
                  <a:lnTo>
                    <a:pt x="972" y="10075"/>
                  </a:lnTo>
                  <a:lnTo>
                    <a:pt x="968" y="10137"/>
                  </a:lnTo>
                  <a:lnTo>
                    <a:pt x="965" y="10202"/>
                  </a:lnTo>
                  <a:lnTo>
                    <a:pt x="963" y="10269"/>
                  </a:lnTo>
                  <a:lnTo>
                    <a:pt x="961" y="10338"/>
                  </a:lnTo>
                  <a:lnTo>
                    <a:pt x="963" y="10409"/>
                  </a:lnTo>
                  <a:lnTo>
                    <a:pt x="964" y="10480"/>
                  </a:lnTo>
                  <a:lnTo>
                    <a:pt x="966" y="10554"/>
                  </a:lnTo>
                  <a:lnTo>
                    <a:pt x="968" y="10628"/>
                  </a:lnTo>
                  <a:lnTo>
                    <a:pt x="972" y="10702"/>
                  </a:lnTo>
                  <a:lnTo>
                    <a:pt x="976" y="10777"/>
                  </a:lnTo>
                  <a:lnTo>
                    <a:pt x="985" y="10925"/>
                  </a:lnTo>
                  <a:lnTo>
                    <a:pt x="997" y="11071"/>
                  </a:lnTo>
                  <a:lnTo>
                    <a:pt x="1009" y="11213"/>
                  </a:lnTo>
                  <a:lnTo>
                    <a:pt x="1022" y="11347"/>
                  </a:lnTo>
                  <a:lnTo>
                    <a:pt x="1034" y="11472"/>
                  </a:lnTo>
                  <a:lnTo>
                    <a:pt x="1045" y="11585"/>
                  </a:lnTo>
                  <a:lnTo>
                    <a:pt x="1055" y="11684"/>
                  </a:lnTo>
                  <a:lnTo>
                    <a:pt x="1063" y="11766"/>
                  </a:lnTo>
                  <a:lnTo>
                    <a:pt x="1068" y="11829"/>
                  </a:lnTo>
                  <a:lnTo>
                    <a:pt x="1070" y="11872"/>
                  </a:lnTo>
                  <a:lnTo>
                    <a:pt x="1070" y="11915"/>
                  </a:lnTo>
                  <a:lnTo>
                    <a:pt x="1070" y="11982"/>
                  </a:lnTo>
                  <a:lnTo>
                    <a:pt x="1069" y="12066"/>
                  </a:lnTo>
                  <a:lnTo>
                    <a:pt x="1069" y="12166"/>
                  </a:lnTo>
                  <a:lnTo>
                    <a:pt x="1067" y="12278"/>
                  </a:lnTo>
                  <a:lnTo>
                    <a:pt x="1065" y="12401"/>
                  </a:lnTo>
                  <a:lnTo>
                    <a:pt x="1063" y="12529"/>
                  </a:lnTo>
                  <a:lnTo>
                    <a:pt x="1059" y="12661"/>
                  </a:lnTo>
                  <a:lnTo>
                    <a:pt x="1055" y="12793"/>
                  </a:lnTo>
                  <a:lnTo>
                    <a:pt x="1049" y="12920"/>
                  </a:lnTo>
                  <a:lnTo>
                    <a:pt x="1042" y="13042"/>
                  </a:lnTo>
                  <a:lnTo>
                    <a:pt x="1034" y="13154"/>
                  </a:lnTo>
                  <a:lnTo>
                    <a:pt x="1029" y="13206"/>
                  </a:lnTo>
                  <a:lnTo>
                    <a:pt x="1024" y="13254"/>
                  </a:lnTo>
                  <a:lnTo>
                    <a:pt x="1018" y="13299"/>
                  </a:lnTo>
                  <a:lnTo>
                    <a:pt x="1012" y="13338"/>
                  </a:lnTo>
                  <a:lnTo>
                    <a:pt x="1006" y="13373"/>
                  </a:lnTo>
                  <a:lnTo>
                    <a:pt x="999" y="13402"/>
                  </a:lnTo>
                  <a:lnTo>
                    <a:pt x="992" y="13427"/>
                  </a:lnTo>
                  <a:lnTo>
                    <a:pt x="983" y="13445"/>
                  </a:lnTo>
                  <a:lnTo>
                    <a:pt x="966" y="13480"/>
                  </a:lnTo>
                  <a:lnTo>
                    <a:pt x="943" y="13521"/>
                  </a:lnTo>
                  <a:lnTo>
                    <a:pt x="916" y="13568"/>
                  </a:lnTo>
                  <a:lnTo>
                    <a:pt x="886" y="13619"/>
                  </a:lnTo>
                  <a:lnTo>
                    <a:pt x="818" y="13728"/>
                  </a:lnTo>
                  <a:lnTo>
                    <a:pt x="749" y="13839"/>
                  </a:lnTo>
                  <a:lnTo>
                    <a:pt x="683" y="13941"/>
                  </a:lnTo>
                  <a:lnTo>
                    <a:pt x="628" y="14027"/>
                  </a:lnTo>
                  <a:lnTo>
                    <a:pt x="589" y="14086"/>
                  </a:lnTo>
                  <a:lnTo>
                    <a:pt x="575" y="14107"/>
                  </a:lnTo>
                  <a:lnTo>
                    <a:pt x="554" y="14105"/>
                  </a:lnTo>
                  <a:lnTo>
                    <a:pt x="497" y="14101"/>
                  </a:lnTo>
                  <a:lnTo>
                    <a:pt x="418" y="14095"/>
                  </a:lnTo>
                  <a:lnTo>
                    <a:pt x="327" y="14088"/>
                  </a:lnTo>
                  <a:lnTo>
                    <a:pt x="236" y="14079"/>
                  </a:lnTo>
                  <a:lnTo>
                    <a:pt x="157" y="14073"/>
                  </a:lnTo>
                  <a:lnTo>
                    <a:pt x="101" y="14069"/>
                  </a:lnTo>
                  <a:lnTo>
                    <a:pt x="79" y="14067"/>
                  </a:lnTo>
                  <a:lnTo>
                    <a:pt x="0" y="136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92600">
              <a:off x="7871760" y="1679040"/>
              <a:ext cx="880920" cy="210600"/>
            </a:xfrm>
            <a:custGeom>
              <a:avLst/>
              <a:gdLst/>
              <a:ahLst/>
              <a:rect l="l" t="t" r="r" b="b"/>
              <a:pathLst>
                <a:path w="6086" h="1301">
                  <a:moveTo>
                    <a:pt x="2450" y="322"/>
                  </a:moveTo>
                  <a:lnTo>
                    <a:pt x="2461" y="330"/>
                  </a:lnTo>
                  <a:lnTo>
                    <a:pt x="2474" y="338"/>
                  </a:lnTo>
                  <a:lnTo>
                    <a:pt x="2491" y="345"/>
                  </a:lnTo>
                  <a:lnTo>
                    <a:pt x="2510" y="352"/>
                  </a:lnTo>
                  <a:lnTo>
                    <a:pt x="2531" y="359"/>
                  </a:lnTo>
                  <a:lnTo>
                    <a:pt x="2555" y="365"/>
                  </a:lnTo>
                  <a:lnTo>
                    <a:pt x="2581" y="371"/>
                  </a:lnTo>
                  <a:lnTo>
                    <a:pt x="2609" y="377"/>
                  </a:lnTo>
                  <a:lnTo>
                    <a:pt x="2638" y="382"/>
                  </a:lnTo>
                  <a:lnTo>
                    <a:pt x="2669" y="387"/>
                  </a:lnTo>
                  <a:lnTo>
                    <a:pt x="2701" y="392"/>
                  </a:lnTo>
                  <a:lnTo>
                    <a:pt x="2734" y="395"/>
                  </a:lnTo>
                  <a:lnTo>
                    <a:pt x="2769" y="399"/>
                  </a:lnTo>
                  <a:lnTo>
                    <a:pt x="2804" y="402"/>
                  </a:lnTo>
                  <a:lnTo>
                    <a:pt x="2839" y="404"/>
                  </a:lnTo>
                  <a:lnTo>
                    <a:pt x="2874" y="407"/>
                  </a:lnTo>
                  <a:lnTo>
                    <a:pt x="2910" y="408"/>
                  </a:lnTo>
                  <a:lnTo>
                    <a:pt x="2945" y="409"/>
                  </a:lnTo>
                  <a:lnTo>
                    <a:pt x="2980" y="410"/>
                  </a:lnTo>
                  <a:lnTo>
                    <a:pt x="3014" y="410"/>
                  </a:lnTo>
                  <a:lnTo>
                    <a:pt x="3047" y="409"/>
                  </a:lnTo>
                  <a:lnTo>
                    <a:pt x="3080" y="408"/>
                  </a:lnTo>
                  <a:lnTo>
                    <a:pt x="3112" y="407"/>
                  </a:lnTo>
                  <a:lnTo>
                    <a:pt x="3141" y="404"/>
                  </a:lnTo>
                  <a:lnTo>
                    <a:pt x="3169" y="401"/>
                  </a:lnTo>
                  <a:lnTo>
                    <a:pt x="3196" y="398"/>
                  </a:lnTo>
                  <a:lnTo>
                    <a:pt x="3220" y="394"/>
                  </a:lnTo>
                  <a:lnTo>
                    <a:pt x="3241" y="389"/>
                  </a:lnTo>
                  <a:lnTo>
                    <a:pt x="3261" y="383"/>
                  </a:lnTo>
                  <a:lnTo>
                    <a:pt x="3278" y="377"/>
                  </a:lnTo>
                  <a:lnTo>
                    <a:pt x="3292" y="370"/>
                  </a:lnTo>
                  <a:lnTo>
                    <a:pt x="3302" y="362"/>
                  </a:lnTo>
                  <a:lnTo>
                    <a:pt x="3321" y="355"/>
                  </a:lnTo>
                  <a:lnTo>
                    <a:pt x="3344" y="351"/>
                  </a:lnTo>
                  <a:lnTo>
                    <a:pt x="3369" y="349"/>
                  </a:lnTo>
                  <a:lnTo>
                    <a:pt x="3397" y="349"/>
                  </a:lnTo>
                  <a:lnTo>
                    <a:pt x="3428" y="351"/>
                  </a:lnTo>
                  <a:lnTo>
                    <a:pt x="3461" y="355"/>
                  </a:lnTo>
                  <a:lnTo>
                    <a:pt x="3496" y="361"/>
                  </a:lnTo>
                  <a:lnTo>
                    <a:pt x="3534" y="369"/>
                  </a:lnTo>
                  <a:lnTo>
                    <a:pt x="3573" y="377"/>
                  </a:lnTo>
                  <a:lnTo>
                    <a:pt x="3613" y="388"/>
                  </a:lnTo>
                  <a:lnTo>
                    <a:pt x="3656" y="399"/>
                  </a:lnTo>
                  <a:lnTo>
                    <a:pt x="3699" y="411"/>
                  </a:lnTo>
                  <a:lnTo>
                    <a:pt x="3789" y="439"/>
                  </a:lnTo>
                  <a:lnTo>
                    <a:pt x="3879" y="470"/>
                  </a:lnTo>
                  <a:lnTo>
                    <a:pt x="3971" y="501"/>
                  </a:lnTo>
                  <a:lnTo>
                    <a:pt x="4060" y="533"/>
                  </a:lnTo>
                  <a:lnTo>
                    <a:pt x="4147" y="564"/>
                  </a:lnTo>
                  <a:lnTo>
                    <a:pt x="4230" y="593"/>
                  </a:lnTo>
                  <a:lnTo>
                    <a:pt x="4306" y="619"/>
                  </a:lnTo>
                  <a:lnTo>
                    <a:pt x="4373" y="641"/>
                  </a:lnTo>
                  <a:lnTo>
                    <a:pt x="4403" y="650"/>
                  </a:lnTo>
                  <a:lnTo>
                    <a:pt x="4431" y="657"/>
                  </a:lnTo>
                  <a:lnTo>
                    <a:pt x="4456" y="663"/>
                  </a:lnTo>
                  <a:lnTo>
                    <a:pt x="4477" y="668"/>
                  </a:lnTo>
                  <a:lnTo>
                    <a:pt x="4529" y="675"/>
                  </a:lnTo>
                  <a:lnTo>
                    <a:pt x="4584" y="684"/>
                  </a:lnTo>
                  <a:lnTo>
                    <a:pt x="4642" y="695"/>
                  </a:lnTo>
                  <a:lnTo>
                    <a:pt x="4704" y="708"/>
                  </a:lnTo>
                  <a:lnTo>
                    <a:pt x="4768" y="723"/>
                  </a:lnTo>
                  <a:lnTo>
                    <a:pt x="4833" y="738"/>
                  </a:lnTo>
                  <a:lnTo>
                    <a:pt x="4900" y="757"/>
                  </a:lnTo>
                  <a:lnTo>
                    <a:pt x="4967" y="776"/>
                  </a:lnTo>
                  <a:lnTo>
                    <a:pt x="5034" y="799"/>
                  </a:lnTo>
                  <a:lnTo>
                    <a:pt x="5101" y="823"/>
                  </a:lnTo>
                  <a:lnTo>
                    <a:pt x="5133" y="836"/>
                  </a:lnTo>
                  <a:lnTo>
                    <a:pt x="5165" y="849"/>
                  </a:lnTo>
                  <a:lnTo>
                    <a:pt x="5197" y="862"/>
                  </a:lnTo>
                  <a:lnTo>
                    <a:pt x="5228" y="876"/>
                  </a:lnTo>
                  <a:lnTo>
                    <a:pt x="5258" y="892"/>
                  </a:lnTo>
                  <a:lnTo>
                    <a:pt x="5287" y="906"/>
                  </a:lnTo>
                  <a:lnTo>
                    <a:pt x="5316" y="922"/>
                  </a:lnTo>
                  <a:lnTo>
                    <a:pt x="5344" y="938"/>
                  </a:lnTo>
                  <a:lnTo>
                    <a:pt x="5371" y="955"/>
                  </a:lnTo>
                  <a:lnTo>
                    <a:pt x="5397" y="971"/>
                  </a:lnTo>
                  <a:lnTo>
                    <a:pt x="5421" y="989"/>
                  </a:lnTo>
                  <a:lnTo>
                    <a:pt x="5445" y="1008"/>
                  </a:lnTo>
                  <a:lnTo>
                    <a:pt x="5456" y="1012"/>
                  </a:lnTo>
                  <a:lnTo>
                    <a:pt x="5469" y="1018"/>
                  </a:lnTo>
                  <a:lnTo>
                    <a:pt x="5481" y="1025"/>
                  </a:lnTo>
                  <a:lnTo>
                    <a:pt x="5495" y="1033"/>
                  </a:lnTo>
                  <a:lnTo>
                    <a:pt x="5524" y="1050"/>
                  </a:lnTo>
                  <a:lnTo>
                    <a:pt x="5555" y="1070"/>
                  </a:lnTo>
                  <a:lnTo>
                    <a:pt x="5619" y="1113"/>
                  </a:lnTo>
                  <a:lnTo>
                    <a:pt x="5687" y="1156"/>
                  </a:lnTo>
                  <a:lnTo>
                    <a:pt x="5704" y="1166"/>
                  </a:lnTo>
                  <a:lnTo>
                    <a:pt x="5722" y="1176"/>
                  </a:lnTo>
                  <a:lnTo>
                    <a:pt x="5738" y="1185"/>
                  </a:lnTo>
                  <a:lnTo>
                    <a:pt x="5756" y="1192"/>
                  </a:lnTo>
                  <a:lnTo>
                    <a:pt x="5772" y="1199"/>
                  </a:lnTo>
                  <a:lnTo>
                    <a:pt x="5789" y="1206"/>
                  </a:lnTo>
                  <a:lnTo>
                    <a:pt x="5804" y="1211"/>
                  </a:lnTo>
                  <a:lnTo>
                    <a:pt x="5821" y="1215"/>
                  </a:lnTo>
                  <a:lnTo>
                    <a:pt x="5837" y="1218"/>
                  </a:lnTo>
                  <a:lnTo>
                    <a:pt x="5852" y="1220"/>
                  </a:lnTo>
                  <a:lnTo>
                    <a:pt x="5867" y="1220"/>
                  </a:lnTo>
                  <a:lnTo>
                    <a:pt x="5881" y="1219"/>
                  </a:lnTo>
                  <a:lnTo>
                    <a:pt x="5896" y="1216"/>
                  </a:lnTo>
                  <a:lnTo>
                    <a:pt x="5909" y="1212"/>
                  </a:lnTo>
                  <a:lnTo>
                    <a:pt x="5922" y="1206"/>
                  </a:lnTo>
                  <a:lnTo>
                    <a:pt x="5934" y="1197"/>
                  </a:lnTo>
                  <a:lnTo>
                    <a:pt x="5967" y="1231"/>
                  </a:lnTo>
                  <a:lnTo>
                    <a:pt x="5997" y="1257"/>
                  </a:lnTo>
                  <a:lnTo>
                    <a:pt x="6021" y="1277"/>
                  </a:lnTo>
                  <a:lnTo>
                    <a:pt x="6042" y="1291"/>
                  </a:lnTo>
                  <a:lnTo>
                    <a:pt x="6058" y="1299"/>
                  </a:lnTo>
                  <a:lnTo>
                    <a:pt x="6071" y="1301"/>
                  </a:lnTo>
                  <a:lnTo>
                    <a:pt x="6079" y="1299"/>
                  </a:lnTo>
                  <a:lnTo>
                    <a:pt x="6084" y="1292"/>
                  </a:lnTo>
                  <a:lnTo>
                    <a:pt x="6086" y="1281"/>
                  </a:lnTo>
                  <a:lnTo>
                    <a:pt x="6084" y="1266"/>
                  </a:lnTo>
                  <a:lnTo>
                    <a:pt x="6080" y="1247"/>
                  </a:lnTo>
                  <a:lnTo>
                    <a:pt x="6073" y="1225"/>
                  </a:lnTo>
                  <a:lnTo>
                    <a:pt x="6064" y="1202"/>
                  </a:lnTo>
                  <a:lnTo>
                    <a:pt x="6051" y="1175"/>
                  </a:lnTo>
                  <a:lnTo>
                    <a:pt x="6037" y="1147"/>
                  </a:lnTo>
                  <a:lnTo>
                    <a:pt x="6020" y="1117"/>
                  </a:lnTo>
                  <a:lnTo>
                    <a:pt x="6001" y="1084"/>
                  </a:lnTo>
                  <a:lnTo>
                    <a:pt x="5981" y="1052"/>
                  </a:lnTo>
                  <a:lnTo>
                    <a:pt x="5959" y="1019"/>
                  </a:lnTo>
                  <a:lnTo>
                    <a:pt x="5935" y="987"/>
                  </a:lnTo>
                  <a:lnTo>
                    <a:pt x="5911" y="954"/>
                  </a:lnTo>
                  <a:lnTo>
                    <a:pt x="5885" y="922"/>
                  </a:lnTo>
                  <a:lnTo>
                    <a:pt x="5859" y="890"/>
                  </a:lnTo>
                  <a:lnTo>
                    <a:pt x="5832" y="861"/>
                  </a:lnTo>
                  <a:lnTo>
                    <a:pt x="5805" y="833"/>
                  </a:lnTo>
                  <a:lnTo>
                    <a:pt x="5778" y="808"/>
                  </a:lnTo>
                  <a:lnTo>
                    <a:pt x="5751" y="785"/>
                  </a:lnTo>
                  <a:lnTo>
                    <a:pt x="5723" y="764"/>
                  </a:lnTo>
                  <a:lnTo>
                    <a:pt x="5696" y="747"/>
                  </a:lnTo>
                  <a:lnTo>
                    <a:pt x="5669" y="734"/>
                  </a:lnTo>
                  <a:lnTo>
                    <a:pt x="5643" y="725"/>
                  </a:lnTo>
                  <a:lnTo>
                    <a:pt x="5617" y="719"/>
                  </a:lnTo>
                  <a:lnTo>
                    <a:pt x="5575" y="711"/>
                  </a:lnTo>
                  <a:lnTo>
                    <a:pt x="5520" y="697"/>
                  </a:lnTo>
                  <a:lnTo>
                    <a:pt x="5455" y="676"/>
                  </a:lnTo>
                  <a:lnTo>
                    <a:pt x="5377" y="650"/>
                  </a:lnTo>
                  <a:lnTo>
                    <a:pt x="5191" y="586"/>
                  </a:lnTo>
                  <a:lnTo>
                    <a:pt x="4966" y="508"/>
                  </a:lnTo>
                  <a:lnTo>
                    <a:pt x="4841" y="465"/>
                  </a:lnTo>
                  <a:lnTo>
                    <a:pt x="4707" y="422"/>
                  </a:lnTo>
                  <a:lnTo>
                    <a:pt x="4565" y="376"/>
                  </a:lnTo>
                  <a:lnTo>
                    <a:pt x="4417" y="332"/>
                  </a:lnTo>
                  <a:lnTo>
                    <a:pt x="4262" y="287"/>
                  </a:lnTo>
                  <a:lnTo>
                    <a:pt x="4102" y="243"/>
                  </a:lnTo>
                  <a:lnTo>
                    <a:pt x="3936" y="202"/>
                  </a:lnTo>
                  <a:lnTo>
                    <a:pt x="3766" y="162"/>
                  </a:lnTo>
                  <a:lnTo>
                    <a:pt x="3591" y="125"/>
                  </a:lnTo>
                  <a:lnTo>
                    <a:pt x="3412" y="92"/>
                  </a:lnTo>
                  <a:lnTo>
                    <a:pt x="3230" y="63"/>
                  </a:lnTo>
                  <a:lnTo>
                    <a:pt x="3045" y="38"/>
                  </a:lnTo>
                  <a:lnTo>
                    <a:pt x="2859" y="20"/>
                  </a:lnTo>
                  <a:lnTo>
                    <a:pt x="2670" y="6"/>
                  </a:lnTo>
                  <a:lnTo>
                    <a:pt x="2482" y="0"/>
                  </a:lnTo>
                  <a:lnTo>
                    <a:pt x="2292" y="0"/>
                  </a:lnTo>
                  <a:lnTo>
                    <a:pt x="2102" y="8"/>
                  </a:lnTo>
                  <a:lnTo>
                    <a:pt x="1914" y="26"/>
                  </a:lnTo>
                  <a:lnTo>
                    <a:pt x="1725" y="52"/>
                  </a:lnTo>
                  <a:lnTo>
                    <a:pt x="1538" y="87"/>
                  </a:lnTo>
                  <a:lnTo>
                    <a:pt x="1355" y="134"/>
                  </a:lnTo>
                  <a:lnTo>
                    <a:pt x="1174" y="190"/>
                  </a:lnTo>
                  <a:lnTo>
                    <a:pt x="995" y="258"/>
                  </a:lnTo>
                  <a:lnTo>
                    <a:pt x="821" y="339"/>
                  </a:lnTo>
                  <a:lnTo>
                    <a:pt x="797" y="352"/>
                  </a:lnTo>
                  <a:lnTo>
                    <a:pt x="769" y="369"/>
                  </a:lnTo>
                  <a:lnTo>
                    <a:pt x="738" y="391"/>
                  </a:lnTo>
                  <a:lnTo>
                    <a:pt x="702" y="415"/>
                  </a:lnTo>
                  <a:lnTo>
                    <a:pt x="664" y="443"/>
                  </a:lnTo>
                  <a:lnTo>
                    <a:pt x="623" y="473"/>
                  </a:lnTo>
                  <a:lnTo>
                    <a:pt x="581" y="505"/>
                  </a:lnTo>
                  <a:lnTo>
                    <a:pt x="536" y="539"/>
                  </a:lnTo>
                  <a:lnTo>
                    <a:pt x="444" y="612"/>
                  </a:lnTo>
                  <a:lnTo>
                    <a:pt x="352" y="687"/>
                  </a:lnTo>
                  <a:lnTo>
                    <a:pt x="263" y="762"/>
                  </a:lnTo>
                  <a:lnTo>
                    <a:pt x="181" y="833"/>
                  </a:lnTo>
                  <a:lnTo>
                    <a:pt x="143" y="868"/>
                  </a:lnTo>
                  <a:lnTo>
                    <a:pt x="109" y="899"/>
                  </a:lnTo>
                  <a:lnTo>
                    <a:pt x="79" y="928"/>
                  </a:lnTo>
                  <a:lnTo>
                    <a:pt x="53" y="955"/>
                  </a:lnTo>
                  <a:lnTo>
                    <a:pt x="31" y="978"/>
                  </a:lnTo>
                  <a:lnTo>
                    <a:pt x="15" y="997"/>
                  </a:lnTo>
                  <a:lnTo>
                    <a:pt x="4" y="1013"/>
                  </a:lnTo>
                  <a:lnTo>
                    <a:pt x="0" y="1023"/>
                  </a:lnTo>
                  <a:lnTo>
                    <a:pt x="2" y="1030"/>
                  </a:lnTo>
                  <a:lnTo>
                    <a:pt x="11" y="1032"/>
                  </a:lnTo>
                  <a:lnTo>
                    <a:pt x="27" y="1027"/>
                  </a:lnTo>
                  <a:lnTo>
                    <a:pt x="52" y="1017"/>
                  </a:lnTo>
                  <a:lnTo>
                    <a:pt x="85" y="1000"/>
                  </a:lnTo>
                  <a:lnTo>
                    <a:pt x="127" y="978"/>
                  </a:lnTo>
                  <a:lnTo>
                    <a:pt x="179" y="948"/>
                  </a:lnTo>
                  <a:lnTo>
                    <a:pt x="240" y="909"/>
                  </a:lnTo>
                  <a:lnTo>
                    <a:pt x="295" y="875"/>
                  </a:lnTo>
                  <a:lnTo>
                    <a:pt x="351" y="838"/>
                  </a:lnTo>
                  <a:lnTo>
                    <a:pt x="408" y="800"/>
                  </a:lnTo>
                  <a:lnTo>
                    <a:pt x="466" y="761"/>
                  </a:lnTo>
                  <a:lnTo>
                    <a:pt x="523" y="723"/>
                  </a:lnTo>
                  <a:lnTo>
                    <a:pt x="581" y="685"/>
                  </a:lnTo>
                  <a:lnTo>
                    <a:pt x="640" y="649"/>
                  </a:lnTo>
                  <a:lnTo>
                    <a:pt x="698" y="615"/>
                  </a:lnTo>
                  <a:lnTo>
                    <a:pt x="727" y="598"/>
                  </a:lnTo>
                  <a:lnTo>
                    <a:pt x="757" y="583"/>
                  </a:lnTo>
                  <a:lnTo>
                    <a:pt x="786" y="568"/>
                  </a:lnTo>
                  <a:lnTo>
                    <a:pt x="815" y="555"/>
                  </a:lnTo>
                  <a:lnTo>
                    <a:pt x="844" y="542"/>
                  </a:lnTo>
                  <a:lnTo>
                    <a:pt x="873" y="532"/>
                  </a:lnTo>
                  <a:lnTo>
                    <a:pt x="903" y="521"/>
                  </a:lnTo>
                  <a:lnTo>
                    <a:pt x="932" y="512"/>
                  </a:lnTo>
                  <a:lnTo>
                    <a:pt x="961" y="505"/>
                  </a:lnTo>
                  <a:lnTo>
                    <a:pt x="990" y="500"/>
                  </a:lnTo>
                  <a:lnTo>
                    <a:pt x="1018" y="495"/>
                  </a:lnTo>
                  <a:lnTo>
                    <a:pt x="1047" y="492"/>
                  </a:lnTo>
                  <a:lnTo>
                    <a:pt x="1076" y="491"/>
                  </a:lnTo>
                  <a:lnTo>
                    <a:pt x="1104" y="492"/>
                  </a:lnTo>
                  <a:lnTo>
                    <a:pt x="1132" y="495"/>
                  </a:lnTo>
                  <a:lnTo>
                    <a:pt x="1161" y="501"/>
                  </a:lnTo>
                  <a:lnTo>
                    <a:pt x="1171" y="502"/>
                  </a:lnTo>
                  <a:lnTo>
                    <a:pt x="1183" y="503"/>
                  </a:lnTo>
                  <a:lnTo>
                    <a:pt x="1196" y="503"/>
                  </a:lnTo>
                  <a:lnTo>
                    <a:pt x="1210" y="502"/>
                  </a:lnTo>
                  <a:lnTo>
                    <a:pt x="1240" y="499"/>
                  </a:lnTo>
                  <a:lnTo>
                    <a:pt x="1272" y="493"/>
                  </a:lnTo>
                  <a:lnTo>
                    <a:pt x="1307" y="486"/>
                  </a:lnTo>
                  <a:lnTo>
                    <a:pt x="1344" y="478"/>
                  </a:lnTo>
                  <a:lnTo>
                    <a:pt x="1381" y="466"/>
                  </a:lnTo>
                  <a:lnTo>
                    <a:pt x="1418" y="454"/>
                  </a:lnTo>
                  <a:lnTo>
                    <a:pt x="1455" y="440"/>
                  </a:lnTo>
                  <a:lnTo>
                    <a:pt x="1493" y="426"/>
                  </a:lnTo>
                  <a:lnTo>
                    <a:pt x="1528" y="410"/>
                  </a:lnTo>
                  <a:lnTo>
                    <a:pt x="1562" y="394"/>
                  </a:lnTo>
                  <a:lnTo>
                    <a:pt x="1593" y="376"/>
                  </a:lnTo>
                  <a:lnTo>
                    <a:pt x="1622" y="359"/>
                  </a:lnTo>
                  <a:lnTo>
                    <a:pt x="1635" y="349"/>
                  </a:lnTo>
                  <a:lnTo>
                    <a:pt x="1647" y="340"/>
                  </a:lnTo>
                  <a:lnTo>
                    <a:pt x="1658" y="331"/>
                  </a:lnTo>
                  <a:lnTo>
                    <a:pt x="1667" y="322"/>
                  </a:lnTo>
                  <a:lnTo>
                    <a:pt x="1682" y="331"/>
                  </a:lnTo>
                  <a:lnTo>
                    <a:pt x="1700" y="339"/>
                  </a:lnTo>
                  <a:lnTo>
                    <a:pt x="1719" y="346"/>
                  </a:lnTo>
                  <a:lnTo>
                    <a:pt x="1738" y="351"/>
                  </a:lnTo>
                  <a:lnTo>
                    <a:pt x="1759" y="357"/>
                  </a:lnTo>
                  <a:lnTo>
                    <a:pt x="1782" y="361"/>
                  </a:lnTo>
                  <a:lnTo>
                    <a:pt x="1805" y="364"/>
                  </a:lnTo>
                  <a:lnTo>
                    <a:pt x="1830" y="366"/>
                  </a:lnTo>
                  <a:lnTo>
                    <a:pt x="1855" y="367"/>
                  </a:lnTo>
                  <a:lnTo>
                    <a:pt x="1880" y="368"/>
                  </a:lnTo>
                  <a:lnTo>
                    <a:pt x="1907" y="368"/>
                  </a:lnTo>
                  <a:lnTo>
                    <a:pt x="1935" y="368"/>
                  </a:lnTo>
                  <a:lnTo>
                    <a:pt x="1991" y="365"/>
                  </a:lnTo>
                  <a:lnTo>
                    <a:pt x="2048" y="361"/>
                  </a:lnTo>
                  <a:lnTo>
                    <a:pt x="2105" y="355"/>
                  </a:lnTo>
                  <a:lnTo>
                    <a:pt x="2162" y="349"/>
                  </a:lnTo>
                  <a:lnTo>
                    <a:pt x="2218" y="343"/>
                  </a:lnTo>
                  <a:lnTo>
                    <a:pt x="2272" y="337"/>
                  </a:lnTo>
                  <a:lnTo>
                    <a:pt x="2323" y="331"/>
                  </a:lnTo>
                  <a:lnTo>
                    <a:pt x="2371" y="326"/>
                  </a:lnTo>
                  <a:lnTo>
                    <a:pt x="2413" y="323"/>
                  </a:lnTo>
                  <a:lnTo>
                    <a:pt x="2450" y="322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92600">
              <a:off x="7310160" y="1858680"/>
              <a:ext cx="1153800" cy="2423880"/>
            </a:xfrm>
            <a:custGeom>
              <a:avLst/>
              <a:gdLst/>
              <a:ahLst/>
              <a:rect l="l" t="t" r="r" b="b"/>
              <a:pathLst>
                <a:path w="7978" h="15093">
                  <a:moveTo>
                    <a:pt x="918" y="1452"/>
                  </a:moveTo>
                  <a:lnTo>
                    <a:pt x="916" y="1517"/>
                  </a:lnTo>
                  <a:lnTo>
                    <a:pt x="911" y="1587"/>
                  </a:lnTo>
                  <a:lnTo>
                    <a:pt x="902" y="1659"/>
                  </a:lnTo>
                  <a:lnTo>
                    <a:pt x="890" y="1735"/>
                  </a:lnTo>
                  <a:lnTo>
                    <a:pt x="875" y="1813"/>
                  </a:lnTo>
                  <a:lnTo>
                    <a:pt x="857" y="1895"/>
                  </a:lnTo>
                  <a:lnTo>
                    <a:pt x="837" y="1979"/>
                  </a:lnTo>
                  <a:lnTo>
                    <a:pt x="816" y="2065"/>
                  </a:lnTo>
                  <a:lnTo>
                    <a:pt x="792" y="2152"/>
                  </a:lnTo>
                  <a:lnTo>
                    <a:pt x="767" y="2242"/>
                  </a:lnTo>
                  <a:lnTo>
                    <a:pt x="740" y="2333"/>
                  </a:lnTo>
                  <a:lnTo>
                    <a:pt x="713" y="2425"/>
                  </a:lnTo>
                  <a:lnTo>
                    <a:pt x="657" y="2612"/>
                  </a:lnTo>
                  <a:lnTo>
                    <a:pt x="600" y="2800"/>
                  </a:lnTo>
                  <a:lnTo>
                    <a:pt x="572" y="2894"/>
                  </a:lnTo>
                  <a:lnTo>
                    <a:pt x="545" y="2989"/>
                  </a:lnTo>
                  <a:lnTo>
                    <a:pt x="519" y="3081"/>
                  </a:lnTo>
                  <a:lnTo>
                    <a:pt x="494" y="3173"/>
                  </a:lnTo>
                  <a:lnTo>
                    <a:pt x="471" y="3264"/>
                  </a:lnTo>
                  <a:lnTo>
                    <a:pt x="450" y="3354"/>
                  </a:lnTo>
                  <a:lnTo>
                    <a:pt x="430" y="3442"/>
                  </a:lnTo>
                  <a:lnTo>
                    <a:pt x="413" y="3528"/>
                  </a:lnTo>
                  <a:lnTo>
                    <a:pt x="399" y="3612"/>
                  </a:lnTo>
                  <a:lnTo>
                    <a:pt x="388" y="3693"/>
                  </a:lnTo>
                  <a:lnTo>
                    <a:pt x="379" y="3771"/>
                  </a:lnTo>
                  <a:lnTo>
                    <a:pt x="374" y="3847"/>
                  </a:lnTo>
                  <a:lnTo>
                    <a:pt x="373" y="3919"/>
                  </a:lnTo>
                  <a:lnTo>
                    <a:pt x="376" y="3988"/>
                  </a:lnTo>
                  <a:lnTo>
                    <a:pt x="382" y="4052"/>
                  </a:lnTo>
                  <a:lnTo>
                    <a:pt x="395" y="4114"/>
                  </a:lnTo>
                  <a:lnTo>
                    <a:pt x="380" y="4145"/>
                  </a:lnTo>
                  <a:lnTo>
                    <a:pt x="367" y="4185"/>
                  </a:lnTo>
                  <a:lnTo>
                    <a:pt x="354" y="4232"/>
                  </a:lnTo>
                  <a:lnTo>
                    <a:pt x="341" y="4287"/>
                  </a:lnTo>
                  <a:lnTo>
                    <a:pt x="328" y="4348"/>
                  </a:lnTo>
                  <a:lnTo>
                    <a:pt x="317" y="4415"/>
                  </a:lnTo>
                  <a:lnTo>
                    <a:pt x="306" y="4489"/>
                  </a:lnTo>
                  <a:lnTo>
                    <a:pt x="294" y="4567"/>
                  </a:lnTo>
                  <a:lnTo>
                    <a:pt x="284" y="4650"/>
                  </a:lnTo>
                  <a:lnTo>
                    <a:pt x="274" y="4737"/>
                  </a:lnTo>
                  <a:lnTo>
                    <a:pt x="264" y="4827"/>
                  </a:lnTo>
                  <a:lnTo>
                    <a:pt x="256" y="4921"/>
                  </a:lnTo>
                  <a:lnTo>
                    <a:pt x="248" y="5018"/>
                  </a:lnTo>
                  <a:lnTo>
                    <a:pt x="239" y="5115"/>
                  </a:lnTo>
                  <a:lnTo>
                    <a:pt x="233" y="5215"/>
                  </a:lnTo>
                  <a:lnTo>
                    <a:pt x="227" y="5315"/>
                  </a:lnTo>
                  <a:lnTo>
                    <a:pt x="222" y="5417"/>
                  </a:lnTo>
                  <a:lnTo>
                    <a:pt x="217" y="5517"/>
                  </a:lnTo>
                  <a:lnTo>
                    <a:pt x="212" y="5618"/>
                  </a:lnTo>
                  <a:lnTo>
                    <a:pt x="209" y="5717"/>
                  </a:lnTo>
                  <a:lnTo>
                    <a:pt x="207" y="5814"/>
                  </a:lnTo>
                  <a:lnTo>
                    <a:pt x="206" y="5909"/>
                  </a:lnTo>
                  <a:lnTo>
                    <a:pt x="205" y="6002"/>
                  </a:lnTo>
                  <a:lnTo>
                    <a:pt x="206" y="6091"/>
                  </a:lnTo>
                  <a:lnTo>
                    <a:pt x="207" y="6177"/>
                  </a:lnTo>
                  <a:lnTo>
                    <a:pt x="209" y="6258"/>
                  </a:lnTo>
                  <a:lnTo>
                    <a:pt x="212" y="6335"/>
                  </a:lnTo>
                  <a:lnTo>
                    <a:pt x="217" y="6405"/>
                  </a:lnTo>
                  <a:lnTo>
                    <a:pt x="223" y="6470"/>
                  </a:lnTo>
                  <a:lnTo>
                    <a:pt x="229" y="6529"/>
                  </a:lnTo>
                  <a:lnTo>
                    <a:pt x="236" y="6581"/>
                  </a:lnTo>
                  <a:lnTo>
                    <a:pt x="244" y="6625"/>
                  </a:lnTo>
                  <a:lnTo>
                    <a:pt x="227" y="6704"/>
                  </a:lnTo>
                  <a:lnTo>
                    <a:pt x="210" y="6783"/>
                  </a:lnTo>
                  <a:lnTo>
                    <a:pt x="196" y="6866"/>
                  </a:lnTo>
                  <a:lnTo>
                    <a:pt x="181" y="6951"/>
                  </a:lnTo>
                  <a:lnTo>
                    <a:pt x="169" y="7038"/>
                  </a:lnTo>
                  <a:lnTo>
                    <a:pt x="156" y="7127"/>
                  </a:lnTo>
                  <a:lnTo>
                    <a:pt x="145" y="7217"/>
                  </a:lnTo>
                  <a:lnTo>
                    <a:pt x="136" y="7309"/>
                  </a:lnTo>
                  <a:lnTo>
                    <a:pt x="126" y="7402"/>
                  </a:lnTo>
                  <a:lnTo>
                    <a:pt x="118" y="7497"/>
                  </a:lnTo>
                  <a:lnTo>
                    <a:pt x="110" y="7592"/>
                  </a:lnTo>
                  <a:lnTo>
                    <a:pt x="104" y="7690"/>
                  </a:lnTo>
                  <a:lnTo>
                    <a:pt x="97" y="7787"/>
                  </a:lnTo>
                  <a:lnTo>
                    <a:pt x="91" y="7886"/>
                  </a:lnTo>
                  <a:lnTo>
                    <a:pt x="86" y="7984"/>
                  </a:lnTo>
                  <a:lnTo>
                    <a:pt x="82" y="8084"/>
                  </a:lnTo>
                  <a:lnTo>
                    <a:pt x="73" y="8284"/>
                  </a:lnTo>
                  <a:lnTo>
                    <a:pt x="66" y="8484"/>
                  </a:lnTo>
                  <a:lnTo>
                    <a:pt x="60" y="8682"/>
                  </a:lnTo>
                  <a:lnTo>
                    <a:pt x="55" y="8879"/>
                  </a:lnTo>
                  <a:lnTo>
                    <a:pt x="49" y="9072"/>
                  </a:lnTo>
                  <a:lnTo>
                    <a:pt x="42" y="9261"/>
                  </a:lnTo>
                  <a:lnTo>
                    <a:pt x="35" y="9444"/>
                  </a:lnTo>
                  <a:lnTo>
                    <a:pt x="26" y="9620"/>
                  </a:lnTo>
                  <a:lnTo>
                    <a:pt x="49" y="9672"/>
                  </a:lnTo>
                  <a:lnTo>
                    <a:pt x="49" y="9683"/>
                  </a:lnTo>
                  <a:lnTo>
                    <a:pt x="48" y="9694"/>
                  </a:lnTo>
                  <a:lnTo>
                    <a:pt x="44" y="9707"/>
                  </a:lnTo>
                  <a:lnTo>
                    <a:pt x="41" y="9722"/>
                  </a:lnTo>
                  <a:lnTo>
                    <a:pt x="34" y="9755"/>
                  </a:lnTo>
                  <a:lnTo>
                    <a:pt x="26" y="9791"/>
                  </a:lnTo>
                  <a:lnTo>
                    <a:pt x="18" y="9828"/>
                  </a:lnTo>
                  <a:lnTo>
                    <a:pt x="10" y="9861"/>
                  </a:lnTo>
                  <a:lnTo>
                    <a:pt x="7" y="9876"/>
                  </a:lnTo>
                  <a:lnTo>
                    <a:pt x="5" y="9891"/>
                  </a:lnTo>
                  <a:lnTo>
                    <a:pt x="3" y="9903"/>
                  </a:lnTo>
                  <a:lnTo>
                    <a:pt x="3" y="9915"/>
                  </a:lnTo>
                  <a:lnTo>
                    <a:pt x="9" y="9948"/>
                  </a:lnTo>
                  <a:lnTo>
                    <a:pt x="15" y="9984"/>
                  </a:lnTo>
                  <a:lnTo>
                    <a:pt x="20" y="10025"/>
                  </a:lnTo>
                  <a:lnTo>
                    <a:pt x="24" y="10067"/>
                  </a:lnTo>
                  <a:lnTo>
                    <a:pt x="27" y="10112"/>
                  </a:lnTo>
                  <a:lnTo>
                    <a:pt x="29" y="10160"/>
                  </a:lnTo>
                  <a:lnTo>
                    <a:pt x="30" y="10209"/>
                  </a:lnTo>
                  <a:lnTo>
                    <a:pt x="31" y="10261"/>
                  </a:lnTo>
                  <a:lnTo>
                    <a:pt x="31" y="10370"/>
                  </a:lnTo>
                  <a:lnTo>
                    <a:pt x="30" y="10484"/>
                  </a:lnTo>
                  <a:lnTo>
                    <a:pt x="27" y="10603"/>
                  </a:lnTo>
                  <a:lnTo>
                    <a:pt x="23" y="10725"/>
                  </a:lnTo>
                  <a:lnTo>
                    <a:pt x="18" y="10847"/>
                  </a:lnTo>
                  <a:lnTo>
                    <a:pt x="12" y="10969"/>
                  </a:lnTo>
                  <a:lnTo>
                    <a:pt x="8" y="11090"/>
                  </a:lnTo>
                  <a:lnTo>
                    <a:pt x="4" y="11207"/>
                  </a:lnTo>
                  <a:lnTo>
                    <a:pt x="1" y="11318"/>
                  </a:lnTo>
                  <a:lnTo>
                    <a:pt x="0" y="11423"/>
                  </a:lnTo>
                  <a:lnTo>
                    <a:pt x="0" y="11473"/>
                  </a:lnTo>
                  <a:lnTo>
                    <a:pt x="0" y="11521"/>
                  </a:lnTo>
                  <a:lnTo>
                    <a:pt x="1" y="11566"/>
                  </a:lnTo>
                  <a:lnTo>
                    <a:pt x="3" y="11608"/>
                  </a:lnTo>
                  <a:lnTo>
                    <a:pt x="6" y="11671"/>
                  </a:lnTo>
                  <a:lnTo>
                    <a:pt x="10" y="11737"/>
                  </a:lnTo>
                  <a:lnTo>
                    <a:pt x="15" y="11803"/>
                  </a:lnTo>
                  <a:lnTo>
                    <a:pt x="23" y="11869"/>
                  </a:lnTo>
                  <a:lnTo>
                    <a:pt x="30" y="11937"/>
                  </a:lnTo>
                  <a:lnTo>
                    <a:pt x="38" y="12005"/>
                  </a:lnTo>
                  <a:lnTo>
                    <a:pt x="49" y="12075"/>
                  </a:lnTo>
                  <a:lnTo>
                    <a:pt x="59" y="12144"/>
                  </a:lnTo>
                  <a:lnTo>
                    <a:pt x="82" y="12285"/>
                  </a:lnTo>
                  <a:lnTo>
                    <a:pt x="106" y="12427"/>
                  </a:lnTo>
                  <a:lnTo>
                    <a:pt x="132" y="12570"/>
                  </a:lnTo>
                  <a:lnTo>
                    <a:pt x="158" y="12714"/>
                  </a:lnTo>
                  <a:lnTo>
                    <a:pt x="184" y="12856"/>
                  </a:lnTo>
                  <a:lnTo>
                    <a:pt x="210" y="12999"/>
                  </a:lnTo>
                  <a:lnTo>
                    <a:pt x="233" y="13137"/>
                  </a:lnTo>
                  <a:lnTo>
                    <a:pt x="254" y="13275"/>
                  </a:lnTo>
                  <a:lnTo>
                    <a:pt x="263" y="13343"/>
                  </a:lnTo>
                  <a:lnTo>
                    <a:pt x="271" y="13409"/>
                  </a:lnTo>
                  <a:lnTo>
                    <a:pt x="279" y="13474"/>
                  </a:lnTo>
                  <a:lnTo>
                    <a:pt x="285" y="13539"/>
                  </a:lnTo>
                  <a:lnTo>
                    <a:pt x="290" y="13603"/>
                  </a:lnTo>
                  <a:lnTo>
                    <a:pt x="293" y="13665"/>
                  </a:lnTo>
                  <a:lnTo>
                    <a:pt x="296" y="13725"/>
                  </a:lnTo>
                  <a:lnTo>
                    <a:pt x="296" y="13786"/>
                  </a:lnTo>
                  <a:lnTo>
                    <a:pt x="299" y="13788"/>
                  </a:lnTo>
                  <a:lnTo>
                    <a:pt x="305" y="13795"/>
                  </a:lnTo>
                  <a:lnTo>
                    <a:pt x="312" y="13806"/>
                  </a:lnTo>
                  <a:lnTo>
                    <a:pt x="320" y="13821"/>
                  </a:lnTo>
                  <a:lnTo>
                    <a:pt x="342" y="13862"/>
                  </a:lnTo>
                  <a:lnTo>
                    <a:pt x="368" y="13915"/>
                  </a:lnTo>
                  <a:lnTo>
                    <a:pt x="399" y="13978"/>
                  </a:lnTo>
                  <a:lnTo>
                    <a:pt x="434" y="14049"/>
                  </a:lnTo>
                  <a:lnTo>
                    <a:pt x="471" y="14125"/>
                  </a:lnTo>
                  <a:lnTo>
                    <a:pt x="511" y="14203"/>
                  </a:lnTo>
                  <a:lnTo>
                    <a:pt x="550" y="14282"/>
                  </a:lnTo>
                  <a:lnTo>
                    <a:pt x="591" y="14360"/>
                  </a:lnTo>
                  <a:lnTo>
                    <a:pt x="629" y="14434"/>
                  </a:lnTo>
                  <a:lnTo>
                    <a:pt x="666" y="14500"/>
                  </a:lnTo>
                  <a:lnTo>
                    <a:pt x="684" y="14530"/>
                  </a:lnTo>
                  <a:lnTo>
                    <a:pt x="702" y="14558"/>
                  </a:lnTo>
                  <a:lnTo>
                    <a:pt x="717" y="14583"/>
                  </a:lnTo>
                  <a:lnTo>
                    <a:pt x="733" y="14605"/>
                  </a:lnTo>
                  <a:lnTo>
                    <a:pt x="746" y="14623"/>
                  </a:lnTo>
                  <a:lnTo>
                    <a:pt x="759" y="14638"/>
                  </a:lnTo>
                  <a:lnTo>
                    <a:pt x="770" y="14648"/>
                  </a:lnTo>
                  <a:lnTo>
                    <a:pt x="780" y="14655"/>
                  </a:lnTo>
                  <a:lnTo>
                    <a:pt x="820" y="14682"/>
                  </a:lnTo>
                  <a:lnTo>
                    <a:pt x="860" y="14707"/>
                  </a:lnTo>
                  <a:lnTo>
                    <a:pt x="902" y="14730"/>
                  </a:lnTo>
                  <a:lnTo>
                    <a:pt x="945" y="14753"/>
                  </a:lnTo>
                  <a:lnTo>
                    <a:pt x="990" y="14773"/>
                  </a:lnTo>
                  <a:lnTo>
                    <a:pt x="1035" y="14792"/>
                  </a:lnTo>
                  <a:lnTo>
                    <a:pt x="1081" y="14810"/>
                  </a:lnTo>
                  <a:lnTo>
                    <a:pt x="1129" y="14827"/>
                  </a:lnTo>
                  <a:lnTo>
                    <a:pt x="1177" y="14842"/>
                  </a:lnTo>
                  <a:lnTo>
                    <a:pt x="1226" y="14857"/>
                  </a:lnTo>
                  <a:lnTo>
                    <a:pt x="1276" y="14870"/>
                  </a:lnTo>
                  <a:lnTo>
                    <a:pt x="1326" y="14883"/>
                  </a:lnTo>
                  <a:lnTo>
                    <a:pt x="1376" y="14894"/>
                  </a:lnTo>
                  <a:lnTo>
                    <a:pt x="1427" y="14904"/>
                  </a:lnTo>
                  <a:lnTo>
                    <a:pt x="1478" y="14915"/>
                  </a:lnTo>
                  <a:lnTo>
                    <a:pt x="1530" y="14924"/>
                  </a:lnTo>
                  <a:lnTo>
                    <a:pt x="1632" y="14941"/>
                  </a:lnTo>
                  <a:lnTo>
                    <a:pt x="1735" y="14956"/>
                  </a:lnTo>
                  <a:lnTo>
                    <a:pt x="1836" y="14970"/>
                  </a:lnTo>
                  <a:lnTo>
                    <a:pt x="1936" y="14983"/>
                  </a:lnTo>
                  <a:lnTo>
                    <a:pt x="2032" y="14997"/>
                  </a:lnTo>
                  <a:lnTo>
                    <a:pt x="2126" y="15010"/>
                  </a:lnTo>
                  <a:lnTo>
                    <a:pt x="2171" y="15017"/>
                  </a:lnTo>
                  <a:lnTo>
                    <a:pt x="2216" y="15025"/>
                  </a:lnTo>
                  <a:lnTo>
                    <a:pt x="2258" y="15033"/>
                  </a:lnTo>
                  <a:lnTo>
                    <a:pt x="2301" y="15041"/>
                  </a:lnTo>
                  <a:lnTo>
                    <a:pt x="2324" y="14996"/>
                  </a:lnTo>
                  <a:lnTo>
                    <a:pt x="2363" y="15005"/>
                  </a:lnTo>
                  <a:lnTo>
                    <a:pt x="2410" y="15016"/>
                  </a:lnTo>
                  <a:lnTo>
                    <a:pt x="2460" y="15029"/>
                  </a:lnTo>
                  <a:lnTo>
                    <a:pt x="2515" y="15042"/>
                  </a:lnTo>
                  <a:lnTo>
                    <a:pt x="2573" y="15055"/>
                  </a:lnTo>
                  <a:lnTo>
                    <a:pt x="2635" y="15067"/>
                  </a:lnTo>
                  <a:lnTo>
                    <a:pt x="2666" y="15072"/>
                  </a:lnTo>
                  <a:lnTo>
                    <a:pt x="2697" y="15077"/>
                  </a:lnTo>
                  <a:lnTo>
                    <a:pt x="2729" y="15082"/>
                  </a:lnTo>
                  <a:lnTo>
                    <a:pt x="2760" y="15086"/>
                  </a:lnTo>
                  <a:lnTo>
                    <a:pt x="2792" y="15089"/>
                  </a:lnTo>
                  <a:lnTo>
                    <a:pt x="2823" y="15091"/>
                  </a:lnTo>
                  <a:lnTo>
                    <a:pt x="2854" y="15093"/>
                  </a:lnTo>
                  <a:lnTo>
                    <a:pt x="2885" y="15093"/>
                  </a:lnTo>
                  <a:lnTo>
                    <a:pt x="2916" y="15093"/>
                  </a:lnTo>
                  <a:lnTo>
                    <a:pt x="2947" y="15091"/>
                  </a:lnTo>
                  <a:lnTo>
                    <a:pt x="2976" y="15089"/>
                  </a:lnTo>
                  <a:lnTo>
                    <a:pt x="3005" y="15085"/>
                  </a:lnTo>
                  <a:lnTo>
                    <a:pt x="3032" y="15078"/>
                  </a:lnTo>
                  <a:lnTo>
                    <a:pt x="3058" y="15072"/>
                  </a:lnTo>
                  <a:lnTo>
                    <a:pt x="3084" y="15063"/>
                  </a:lnTo>
                  <a:lnTo>
                    <a:pt x="3109" y="15054"/>
                  </a:lnTo>
                  <a:lnTo>
                    <a:pt x="3132" y="15041"/>
                  </a:lnTo>
                  <a:lnTo>
                    <a:pt x="3154" y="15028"/>
                  </a:lnTo>
                  <a:lnTo>
                    <a:pt x="3175" y="15012"/>
                  </a:lnTo>
                  <a:lnTo>
                    <a:pt x="3193" y="14996"/>
                  </a:lnTo>
                  <a:lnTo>
                    <a:pt x="3209" y="15008"/>
                  </a:lnTo>
                  <a:lnTo>
                    <a:pt x="3227" y="15018"/>
                  </a:lnTo>
                  <a:lnTo>
                    <a:pt x="3248" y="15028"/>
                  </a:lnTo>
                  <a:lnTo>
                    <a:pt x="3272" y="15034"/>
                  </a:lnTo>
                  <a:lnTo>
                    <a:pt x="3299" y="15040"/>
                  </a:lnTo>
                  <a:lnTo>
                    <a:pt x="3328" y="15043"/>
                  </a:lnTo>
                  <a:lnTo>
                    <a:pt x="3358" y="15046"/>
                  </a:lnTo>
                  <a:lnTo>
                    <a:pt x="3391" y="15047"/>
                  </a:lnTo>
                  <a:lnTo>
                    <a:pt x="3425" y="15046"/>
                  </a:lnTo>
                  <a:lnTo>
                    <a:pt x="3461" y="15045"/>
                  </a:lnTo>
                  <a:lnTo>
                    <a:pt x="3497" y="15042"/>
                  </a:lnTo>
                  <a:lnTo>
                    <a:pt x="3535" y="15039"/>
                  </a:lnTo>
                  <a:lnTo>
                    <a:pt x="3574" y="15034"/>
                  </a:lnTo>
                  <a:lnTo>
                    <a:pt x="3613" y="15028"/>
                  </a:lnTo>
                  <a:lnTo>
                    <a:pt x="3653" y="15021"/>
                  </a:lnTo>
                  <a:lnTo>
                    <a:pt x="3693" y="15014"/>
                  </a:lnTo>
                  <a:lnTo>
                    <a:pt x="3733" y="15006"/>
                  </a:lnTo>
                  <a:lnTo>
                    <a:pt x="3773" y="14997"/>
                  </a:lnTo>
                  <a:lnTo>
                    <a:pt x="3813" y="14987"/>
                  </a:lnTo>
                  <a:lnTo>
                    <a:pt x="3851" y="14978"/>
                  </a:lnTo>
                  <a:lnTo>
                    <a:pt x="3890" y="14968"/>
                  </a:lnTo>
                  <a:lnTo>
                    <a:pt x="3927" y="14957"/>
                  </a:lnTo>
                  <a:lnTo>
                    <a:pt x="3963" y="14946"/>
                  </a:lnTo>
                  <a:lnTo>
                    <a:pt x="3999" y="14935"/>
                  </a:lnTo>
                  <a:lnTo>
                    <a:pt x="4032" y="14924"/>
                  </a:lnTo>
                  <a:lnTo>
                    <a:pt x="4064" y="14913"/>
                  </a:lnTo>
                  <a:lnTo>
                    <a:pt x="4093" y="14902"/>
                  </a:lnTo>
                  <a:lnTo>
                    <a:pt x="4121" y="14891"/>
                  </a:lnTo>
                  <a:lnTo>
                    <a:pt x="4146" y="14880"/>
                  </a:lnTo>
                  <a:lnTo>
                    <a:pt x="4169" y="14870"/>
                  </a:lnTo>
                  <a:lnTo>
                    <a:pt x="4189" y="14861"/>
                  </a:lnTo>
                  <a:lnTo>
                    <a:pt x="4206" y="14851"/>
                  </a:lnTo>
                  <a:lnTo>
                    <a:pt x="4247" y="14821"/>
                  </a:lnTo>
                  <a:lnTo>
                    <a:pt x="4289" y="14793"/>
                  </a:lnTo>
                  <a:lnTo>
                    <a:pt x="4331" y="14769"/>
                  </a:lnTo>
                  <a:lnTo>
                    <a:pt x="4374" y="14748"/>
                  </a:lnTo>
                  <a:lnTo>
                    <a:pt x="4417" y="14728"/>
                  </a:lnTo>
                  <a:lnTo>
                    <a:pt x="4462" y="14709"/>
                  </a:lnTo>
                  <a:lnTo>
                    <a:pt x="4505" y="14693"/>
                  </a:lnTo>
                  <a:lnTo>
                    <a:pt x="4551" y="14677"/>
                  </a:lnTo>
                  <a:lnTo>
                    <a:pt x="4640" y="14648"/>
                  </a:lnTo>
                  <a:lnTo>
                    <a:pt x="4729" y="14620"/>
                  </a:lnTo>
                  <a:lnTo>
                    <a:pt x="4774" y="14605"/>
                  </a:lnTo>
                  <a:lnTo>
                    <a:pt x="4818" y="14589"/>
                  </a:lnTo>
                  <a:lnTo>
                    <a:pt x="4862" y="14572"/>
                  </a:lnTo>
                  <a:lnTo>
                    <a:pt x="4905" y="14554"/>
                  </a:lnTo>
                  <a:lnTo>
                    <a:pt x="4948" y="14533"/>
                  </a:lnTo>
                  <a:lnTo>
                    <a:pt x="4989" y="14511"/>
                  </a:lnTo>
                  <a:lnTo>
                    <a:pt x="5031" y="14486"/>
                  </a:lnTo>
                  <a:lnTo>
                    <a:pt x="5071" y="14458"/>
                  </a:lnTo>
                  <a:lnTo>
                    <a:pt x="5112" y="14427"/>
                  </a:lnTo>
                  <a:lnTo>
                    <a:pt x="5150" y="14393"/>
                  </a:lnTo>
                  <a:lnTo>
                    <a:pt x="5187" y="14355"/>
                  </a:lnTo>
                  <a:lnTo>
                    <a:pt x="5224" y="14312"/>
                  </a:lnTo>
                  <a:lnTo>
                    <a:pt x="5259" y="14266"/>
                  </a:lnTo>
                  <a:lnTo>
                    <a:pt x="5293" y="14214"/>
                  </a:lnTo>
                  <a:lnTo>
                    <a:pt x="5325" y="14158"/>
                  </a:lnTo>
                  <a:lnTo>
                    <a:pt x="5355" y="14096"/>
                  </a:lnTo>
                  <a:lnTo>
                    <a:pt x="5384" y="14027"/>
                  </a:lnTo>
                  <a:lnTo>
                    <a:pt x="5412" y="13953"/>
                  </a:lnTo>
                  <a:lnTo>
                    <a:pt x="5438" y="13873"/>
                  </a:lnTo>
                  <a:lnTo>
                    <a:pt x="5461" y="13786"/>
                  </a:lnTo>
                  <a:lnTo>
                    <a:pt x="5497" y="13639"/>
                  </a:lnTo>
                  <a:lnTo>
                    <a:pt x="5533" y="13493"/>
                  </a:lnTo>
                  <a:lnTo>
                    <a:pt x="5567" y="13345"/>
                  </a:lnTo>
                  <a:lnTo>
                    <a:pt x="5601" y="13196"/>
                  </a:lnTo>
                  <a:lnTo>
                    <a:pt x="5634" y="13046"/>
                  </a:lnTo>
                  <a:lnTo>
                    <a:pt x="5667" y="12896"/>
                  </a:lnTo>
                  <a:lnTo>
                    <a:pt x="5699" y="12744"/>
                  </a:lnTo>
                  <a:lnTo>
                    <a:pt x="5732" y="12593"/>
                  </a:lnTo>
                  <a:lnTo>
                    <a:pt x="5795" y="12287"/>
                  </a:lnTo>
                  <a:lnTo>
                    <a:pt x="5857" y="11980"/>
                  </a:lnTo>
                  <a:lnTo>
                    <a:pt x="5919" y="11672"/>
                  </a:lnTo>
                  <a:lnTo>
                    <a:pt x="5980" y="11363"/>
                  </a:lnTo>
                  <a:lnTo>
                    <a:pt x="6041" y="11055"/>
                  </a:lnTo>
                  <a:lnTo>
                    <a:pt x="6104" y="10747"/>
                  </a:lnTo>
                  <a:lnTo>
                    <a:pt x="6166" y="10441"/>
                  </a:lnTo>
                  <a:lnTo>
                    <a:pt x="6230" y="10136"/>
                  </a:lnTo>
                  <a:lnTo>
                    <a:pt x="6262" y="9984"/>
                  </a:lnTo>
                  <a:lnTo>
                    <a:pt x="6295" y="9834"/>
                  </a:lnTo>
                  <a:lnTo>
                    <a:pt x="6329" y="9684"/>
                  </a:lnTo>
                  <a:lnTo>
                    <a:pt x="6362" y="9534"/>
                  </a:lnTo>
                  <a:lnTo>
                    <a:pt x="6397" y="9386"/>
                  </a:lnTo>
                  <a:lnTo>
                    <a:pt x="6431" y="9239"/>
                  </a:lnTo>
                  <a:lnTo>
                    <a:pt x="6467" y="9092"/>
                  </a:lnTo>
                  <a:lnTo>
                    <a:pt x="6504" y="8946"/>
                  </a:lnTo>
                  <a:lnTo>
                    <a:pt x="6533" y="8824"/>
                  </a:lnTo>
                  <a:lnTo>
                    <a:pt x="6561" y="8701"/>
                  </a:lnTo>
                  <a:lnTo>
                    <a:pt x="6589" y="8576"/>
                  </a:lnTo>
                  <a:lnTo>
                    <a:pt x="6616" y="8452"/>
                  </a:lnTo>
                  <a:lnTo>
                    <a:pt x="6670" y="8202"/>
                  </a:lnTo>
                  <a:lnTo>
                    <a:pt x="6721" y="7951"/>
                  </a:lnTo>
                  <a:lnTo>
                    <a:pt x="6772" y="7698"/>
                  </a:lnTo>
                  <a:lnTo>
                    <a:pt x="6822" y="7444"/>
                  </a:lnTo>
                  <a:lnTo>
                    <a:pt x="6871" y="7189"/>
                  </a:lnTo>
                  <a:lnTo>
                    <a:pt x="6918" y="6934"/>
                  </a:lnTo>
                  <a:lnTo>
                    <a:pt x="6965" y="6677"/>
                  </a:lnTo>
                  <a:lnTo>
                    <a:pt x="7013" y="6421"/>
                  </a:lnTo>
                  <a:lnTo>
                    <a:pt x="7059" y="6164"/>
                  </a:lnTo>
                  <a:lnTo>
                    <a:pt x="7106" y="5907"/>
                  </a:lnTo>
                  <a:lnTo>
                    <a:pt x="7154" y="5651"/>
                  </a:lnTo>
                  <a:lnTo>
                    <a:pt x="7200" y="5395"/>
                  </a:lnTo>
                  <a:lnTo>
                    <a:pt x="7249" y="5140"/>
                  </a:lnTo>
                  <a:lnTo>
                    <a:pt x="7298" y="4886"/>
                  </a:lnTo>
                  <a:lnTo>
                    <a:pt x="7308" y="4830"/>
                  </a:lnTo>
                  <a:lnTo>
                    <a:pt x="7319" y="4773"/>
                  </a:lnTo>
                  <a:lnTo>
                    <a:pt x="7332" y="4715"/>
                  </a:lnTo>
                  <a:lnTo>
                    <a:pt x="7345" y="4655"/>
                  </a:lnTo>
                  <a:lnTo>
                    <a:pt x="7375" y="4531"/>
                  </a:lnTo>
                  <a:lnTo>
                    <a:pt x="7409" y="4404"/>
                  </a:lnTo>
                  <a:lnTo>
                    <a:pt x="7444" y="4272"/>
                  </a:lnTo>
                  <a:lnTo>
                    <a:pt x="7481" y="4137"/>
                  </a:lnTo>
                  <a:lnTo>
                    <a:pt x="7518" y="4001"/>
                  </a:lnTo>
                  <a:lnTo>
                    <a:pt x="7557" y="3863"/>
                  </a:lnTo>
                  <a:lnTo>
                    <a:pt x="7593" y="3725"/>
                  </a:lnTo>
                  <a:lnTo>
                    <a:pt x="7628" y="3587"/>
                  </a:lnTo>
                  <a:lnTo>
                    <a:pt x="7645" y="3517"/>
                  </a:lnTo>
                  <a:lnTo>
                    <a:pt x="7661" y="3450"/>
                  </a:lnTo>
                  <a:lnTo>
                    <a:pt x="7677" y="3381"/>
                  </a:lnTo>
                  <a:lnTo>
                    <a:pt x="7690" y="3314"/>
                  </a:lnTo>
                  <a:lnTo>
                    <a:pt x="7704" y="3248"/>
                  </a:lnTo>
                  <a:lnTo>
                    <a:pt x="7716" y="3181"/>
                  </a:lnTo>
                  <a:lnTo>
                    <a:pt x="7727" y="3116"/>
                  </a:lnTo>
                  <a:lnTo>
                    <a:pt x="7736" y="3052"/>
                  </a:lnTo>
                  <a:lnTo>
                    <a:pt x="7744" y="2989"/>
                  </a:lnTo>
                  <a:lnTo>
                    <a:pt x="7751" y="2926"/>
                  </a:lnTo>
                  <a:lnTo>
                    <a:pt x="7756" y="2865"/>
                  </a:lnTo>
                  <a:lnTo>
                    <a:pt x="7759" y="2806"/>
                  </a:lnTo>
                  <a:lnTo>
                    <a:pt x="7736" y="2760"/>
                  </a:lnTo>
                  <a:lnTo>
                    <a:pt x="7738" y="2710"/>
                  </a:lnTo>
                  <a:lnTo>
                    <a:pt x="7742" y="2659"/>
                  </a:lnTo>
                  <a:lnTo>
                    <a:pt x="7746" y="2608"/>
                  </a:lnTo>
                  <a:lnTo>
                    <a:pt x="7752" y="2557"/>
                  </a:lnTo>
                  <a:lnTo>
                    <a:pt x="7758" y="2506"/>
                  </a:lnTo>
                  <a:lnTo>
                    <a:pt x="7764" y="2455"/>
                  </a:lnTo>
                  <a:lnTo>
                    <a:pt x="7771" y="2403"/>
                  </a:lnTo>
                  <a:lnTo>
                    <a:pt x="7780" y="2351"/>
                  </a:lnTo>
                  <a:lnTo>
                    <a:pt x="7796" y="2247"/>
                  </a:lnTo>
                  <a:lnTo>
                    <a:pt x="7815" y="2143"/>
                  </a:lnTo>
                  <a:lnTo>
                    <a:pt x="7834" y="2039"/>
                  </a:lnTo>
                  <a:lnTo>
                    <a:pt x="7854" y="1934"/>
                  </a:lnTo>
                  <a:lnTo>
                    <a:pt x="7875" y="1829"/>
                  </a:lnTo>
                  <a:lnTo>
                    <a:pt x="7895" y="1726"/>
                  </a:lnTo>
                  <a:lnTo>
                    <a:pt x="7913" y="1622"/>
                  </a:lnTo>
                  <a:lnTo>
                    <a:pt x="7931" y="1518"/>
                  </a:lnTo>
                  <a:lnTo>
                    <a:pt x="7939" y="1466"/>
                  </a:lnTo>
                  <a:lnTo>
                    <a:pt x="7946" y="1416"/>
                  </a:lnTo>
                  <a:lnTo>
                    <a:pt x="7954" y="1365"/>
                  </a:lnTo>
                  <a:lnTo>
                    <a:pt x="7960" y="1314"/>
                  </a:lnTo>
                  <a:lnTo>
                    <a:pt x="7965" y="1263"/>
                  </a:lnTo>
                  <a:lnTo>
                    <a:pt x="7970" y="1212"/>
                  </a:lnTo>
                  <a:lnTo>
                    <a:pt x="7974" y="1163"/>
                  </a:lnTo>
                  <a:lnTo>
                    <a:pt x="7978" y="1113"/>
                  </a:lnTo>
                  <a:lnTo>
                    <a:pt x="7949" y="1066"/>
                  </a:lnTo>
                  <a:lnTo>
                    <a:pt x="7953" y="974"/>
                  </a:lnTo>
                  <a:lnTo>
                    <a:pt x="7956" y="888"/>
                  </a:lnTo>
                  <a:lnTo>
                    <a:pt x="7957" y="809"/>
                  </a:lnTo>
                  <a:lnTo>
                    <a:pt x="7956" y="735"/>
                  </a:lnTo>
                  <a:lnTo>
                    <a:pt x="7955" y="669"/>
                  </a:lnTo>
                  <a:lnTo>
                    <a:pt x="7952" y="608"/>
                  </a:lnTo>
                  <a:lnTo>
                    <a:pt x="7947" y="553"/>
                  </a:lnTo>
                  <a:lnTo>
                    <a:pt x="7942" y="504"/>
                  </a:lnTo>
                  <a:lnTo>
                    <a:pt x="7936" y="462"/>
                  </a:lnTo>
                  <a:lnTo>
                    <a:pt x="7929" y="424"/>
                  </a:lnTo>
                  <a:lnTo>
                    <a:pt x="7921" y="393"/>
                  </a:lnTo>
                  <a:lnTo>
                    <a:pt x="7911" y="367"/>
                  </a:lnTo>
                  <a:lnTo>
                    <a:pt x="7901" y="348"/>
                  </a:lnTo>
                  <a:lnTo>
                    <a:pt x="7890" y="333"/>
                  </a:lnTo>
                  <a:lnTo>
                    <a:pt x="7879" y="324"/>
                  </a:lnTo>
                  <a:lnTo>
                    <a:pt x="7867" y="321"/>
                  </a:lnTo>
                  <a:lnTo>
                    <a:pt x="7854" y="322"/>
                  </a:lnTo>
                  <a:lnTo>
                    <a:pt x="7841" y="329"/>
                  </a:lnTo>
                  <a:lnTo>
                    <a:pt x="7827" y="340"/>
                  </a:lnTo>
                  <a:lnTo>
                    <a:pt x="7813" y="357"/>
                  </a:lnTo>
                  <a:lnTo>
                    <a:pt x="7798" y="379"/>
                  </a:lnTo>
                  <a:lnTo>
                    <a:pt x="7784" y="406"/>
                  </a:lnTo>
                  <a:lnTo>
                    <a:pt x="7769" y="438"/>
                  </a:lnTo>
                  <a:lnTo>
                    <a:pt x="7755" y="473"/>
                  </a:lnTo>
                  <a:lnTo>
                    <a:pt x="7739" y="515"/>
                  </a:lnTo>
                  <a:lnTo>
                    <a:pt x="7725" y="559"/>
                  </a:lnTo>
                  <a:lnTo>
                    <a:pt x="7709" y="609"/>
                  </a:lnTo>
                  <a:lnTo>
                    <a:pt x="7695" y="664"/>
                  </a:lnTo>
                  <a:lnTo>
                    <a:pt x="7680" y="722"/>
                  </a:lnTo>
                  <a:lnTo>
                    <a:pt x="7666" y="785"/>
                  </a:lnTo>
                  <a:lnTo>
                    <a:pt x="7651" y="852"/>
                  </a:lnTo>
                  <a:lnTo>
                    <a:pt x="7638" y="922"/>
                  </a:lnTo>
                  <a:lnTo>
                    <a:pt x="7628" y="978"/>
                  </a:lnTo>
                  <a:lnTo>
                    <a:pt x="7616" y="1037"/>
                  </a:lnTo>
                  <a:lnTo>
                    <a:pt x="7602" y="1097"/>
                  </a:lnTo>
                  <a:lnTo>
                    <a:pt x="7588" y="1161"/>
                  </a:lnTo>
                  <a:lnTo>
                    <a:pt x="7572" y="1226"/>
                  </a:lnTo>
                  <a:lnTo>
                    <a:pt x="7556" y="1292"/>
                  </a:lnTo>
                  <a:lnTo>
                    <a:pt x="7539" y="1360"/>
                  </a:lnTo>
                  <a:lnTo>
                    <a:pt x="7523" y="1427"/>
                  </a:lnTo>
                  <a:lnTo>
                    <a:pt x="7507" y="1495"/>
                  </a:lnTo>
                  <a:lnTo>
                    <a:pt x="7491" y="1563"/>
                  </a:lnTo>
                  <a:lnTo>
                    <a:pt x="7478" y="1629"/>
                  </a:lnTo>
                  <a:lnTo>
                    <a:pt x="7467" y="1695"/>
                  </a:lnTo>
                  <a:lnTo>
                    <a:pt x="7461" y="1727"/>
                  </a:lnTo>
                  <a:lnTo>
                    <a:pt x="7456" y="1759"/>
                  </a:lnTo>
                  <a:lnTo>
                    <a:pt x="7452" y="1790"/>
                  </a:lnTo>
                  <a:lnTo>
                    <a:pt x="7449" y="1820"/>
                  </a:lnTo>
                  <a:lnTo>
                    <a:pt x="7446" y="1850"/>
                  </a:lnTo>
                  <a:lnTo>
                    <a:pt x="7444" y="1880"/>
                  </a:lnTo>
                  <a:lnTo>
                    <a:pt x="7443" y="1908"/>
                  </a:lnTo>
                  <a:lnTo>
                    <a:pt x="7442" y="1936"/>
                  </a:lnTo>
                  <a:lnTo>
                    <a:pt x="7471" y="1983"/>
                  </a:lnTo>
                  <a:lnTo>
                    <a:pt x="7462" y="2114"/>
                  </a:lnTo>
                  <a:lnTo>
                    <a:pt x="7452" y="2247"/>
                  </a:lnTo>
                  <a:lnTo>
                    <a:pt x="7439" y="2380"/>
                  </a:lnTo>
                  <a:lnTo>
                    <a:pt x="7423" y="2514"/>
                  </a:lnTo>
                  <a:lnTo>
                    <a:pt x="7405" y="2647"/>
                  </a:lnTo>
                  <a:lnTo>
                    <a:pt x="7386" y="2781"/>
                  </a:lnTo>
                  <a:lnTo>
                    <a:pt x="7365" y="2916"/>
                  </a:lnTo>
                  <a:lnTo>
                    <a:pt x="7341" y="3051"/>
                  </a:lnTo>
                  <a:lnTo>
                    <a:pt x="7317" y="3186"/>
                  </a:lnTo>
                  <a:lnTo>
                    <a:pt x="7291" y="3321"/>
                  </a:lnTo>
                  <a:lnTo>
                    <a:pt x="7264" y="3457"/>
                  </a:lnTo>
                  <a:lnTo>
                    <a:pt x="7237" y="3593"/>
                  </a:lnTo>
                  <a:lnTo>
                    <a:pt x="7179" y="3865"/>
                  </a:lnTo>
                  <a:lnTo>
                    <a:pt x="7119" y="4136"/>
                  </a:lnTo>
                  <a:lnTo>
                    <a:pt x="7059" y="4409"/>
                  </a:lnTo>
                  <a:lnTo>
                    <a:pt x="6999" y="4681"/>
                  </a:lnTo>
                  <a:lnTo>
                    <a:pt x="6969" y="4817"/>
                  </a:lnTo>
                  <a:lnTo>
                    <a:pt x="6940" y="4952"/>
                  </a:lnTo>
                  <a:lnTo>
                    <a:pt x="6912" y="5087"/>
                  </a:lnTo>
                  <a:lnTo>
                    <a:pt x="6885" y="5223"/>
                  </a:lnTo>
                  <a:lnTo>
                    <a:pt x="6858" y="5358"/>
                  </a:lnTo>
                  <a:lnTo>
                    <a:pt x="6833" y="5492"/>
                  </a:lnTo>
                  <a:lnTo>
                    <a:pt x="6809" y="5626"/>
                  </a:lnTo>
                  <a:lnTo>
                    <a:pt x="6788" y="5760"/>
                  </a:lnTo>
                  <a:lnTo>
                    <a:pt x="6767" y="5894"/>
                  </a:lnTo>
                  <a:lnTo>
                    <a:pt x="6748" y="6027"/>
                  </a:lnTo>
                  <a:lnTo>
                    <a:pt x="6731" y="6159"/>
                  </a:lnTo>
                  <a:lnTo>
                    <a:pt x="6716" y="6291"/>
                  </a:lnTo>
                  <a:lnTo>
                    <a:pt x="6701" y="6444"/>
                  </a:lnTo>
                  <a:lnTo>
                    <a:pt x="6682" y="6596"/>
                  </a:lnTo>
                  <a:lnTo>
                    <a:pt x="6662" y="6746"/>
                  </a:lnTo>
                  <a:lnTo>
                    <a:pt x="6642" y="6897"/>
                  </a:lnTo>
                  <a:lnTo>
                    <a:pt x="6620" y="7046"/>
                  </a:lnTo>
                  <a:lnTo>
                    <a:pt x="6596" y="7194"/>
                  </a:lnTo>
                  <a:lnTo>
                    <a:pt x="6572" y="7341"/>
                  </a:lnTo>
                  <a:lnTo>
                    <a:pt x="6546" y="7488"/>
                  </a:lnTo>
                  <a:lnTo>
                    <a:pt x="6519" y="7633"/>
                  </a:lnTo>
                  <a:lnTo>
                    <a:pt x="6491" y="7778"/>
                  </a:lnTo>
                  <a:lnTo>
                    <a:pt x="6462" y="7922"/>
                  </a:lnTo>
                  <a:lnTo>
                    <a:pt x="6433" y="8065"/>
                  </a:lnTo>
                  <a:lnTo>
                    <a:pt x="6402" y="8208"/>
                  </a:lnTo>
                  <a:lnTo>
                    <a:pt x="6371" y="8350"/>
                  </a:lnTo>
                  <a:lnTo>
                    <a:pt x="6339" y="8491"/>
                  </a:lnTo>
                  <a:lnTo>
                    <a:pt x="6307" y="8632"/>
                  </a:lnTo>
                  <a:lnTo>
                    <a:pt x="6274" y="8772"/>
                  </a:lnTo>
                  <a:lnTo>
                    <a:pt x="6239" y="8912"/>
                  </a:lnTo>
                  <a:lnTo>
                    <a:pt x="6205" y="9051"/>
                  </a:lnTo>
                  <a:lnTo>
                    <a:pt x="6171" y="9190"/>
                  </a:lnTo>
                  <a:lnTo>
                    <a:pt x="6101" y="9466"/>
                  </a:lnTo>
                  <a:lnTo>
                    <a:pt x="6030" y="9741"/>
                  </a:lnTo>
                  <a:lnTo>
                    <a:pt x="5959" y="10014"/>
                  </a:lnTo>
                  <a:lnTo>
                    <a:pt x="5888" y="10287"/>
                  </a:lnTo>
                  <a:lnTo>
                    <a:pt x="5818" y="10559"/>
                  </a:lnTo>
                  <a:lnTo>
                    <a:pt x="5749" y="10830"/>
                  </a:lnTo>
                  <a:lnTo>
                    <a:pt x="5723" y="10946"/>
                  </a:lnTo>
                  <a:lnTo>
                    <a:pt x="5697" y="11064"/>
                  </a:lnTo>
                  <a:lnTo>
                    <a:pt x="5673" y="11184"/>
                  </a:lnTo>
                  <a:lnTo>
                    <a:pt x="5651" y="11307"/>
                  </a:lnTo>
                  <a:lnTo>
                    <a:pt x="5628" y="11433"/>
                  </a:lnTo>
                  <a:lnTo>
                    <a:pt x="5606" y="11560"/>
                  </a:lnTo>
                  <a:lnTo>
                    <a:pt x="5584" y="11689"/>
                  </a:lnTo>
                  <a:lnTo>
                    <a:pt x="5564" y="11818"/>
                  </a:lnTo>
                  <a:lnTo>
                    <a:pt x="5521" y="12079"/>
                  </a:lnTo>
                  <a:lnTo>
                    <a:pt x="5477" y="12340"/>
                  </a:lnTo>
                  <a:lnTo>
                    <a:pt x="5454" y="12470"/>
                  </a:lnTo>
                  <a:lnTo>
                    <a:pt x="5431" y="12598"/>
                  </a:lnTo>
                  <a:lnTo>
                    <a:pt x="5406" y="12726"/>
                  </a:lnTo>
                  <a:lnTo>
                    <a:pt x="5381" y="12851"/>
                  </a:lnTo>
                  <a:lnTo>
                    <a:pt x="5354" y="12976"/>
                  </a:lnTo>
                  <a:lnTo>
                    <a:pt x="5325" y="13097"/>
                  </a:lnTo>
                  <a:lnTo>
                    <a:pt x="5295" y="13216"/>
                  </a:lnTo>
                  <a:lnTo>
                    <a:pt x="5264" y="13331"/>
                  </a:lnTo>
                  <a:lnTo>
                    <a:pt x="5230" y="13444"/>
                  </a:lnTo>
                  <a:lnTo>
                    <a:pt x="5195" y="13553"/>
                  </a:lnTo>
                  <a:lnTo>
                    <a:pt x="5156" y="13658"/>
                  </a:lnTo>
                  <a:lnTo>
                    <a:pt x="5116" y="13759"/>
                  </a:lnTo>
                  <a:lnTo>
                    <a:pt x="5073" y="13855"/>
                  </a:lnTo>
                  <a:lnTo>
                    <a:pt x="5027" y="13945"/>
                  </a:lnTo>
                  <a:lnTo>
                    <a:pt x="4978" y="14031"/>
                  </a:lnTo>
                  <a:lnTo>
                    <a:pt x="4926" y="14111"/>
                  </a:lnTo>
                  <a:lnTo>
                    <a:pt x="4871" y="14185"/>
                  </a:lnTo>
                  <a:lnTo>
                    <a:pt x="4812" y="14252"/>
                  </a:lnTo>
                  <a:lnTo>
                    <a:pt x="4750" y="14313"/>
                  </a:lnTo>
                  <a:lnTo>
                    <a:pt x="4684" y="14367"/>
                  </a:lnTo>
                  <a:lnTo>
                    <a:pt x="4659" y="14384"/>
                  </a:lnTo>
                  <a:lnTo>
                    <a:pt x="4633" y="14399"/>
                  </a:lnTo>
                  <a:lnTo>
                    <a:pt x="4606" y="14414"/>
                  </a:lnTo>
                  <a:lnTo>
                    <a:pt x="4578" y="14426"/>
                  </a:lnTo>
                  <a:lnTo>
                    <a:pt x="4549" y="14438"/>
                  </a:lnTo>
                  <a:lnTo>
                    <a:pt x="4520" y="14448"/>
                  </a:lnTo>
                  <a:lnTo>
                    <a:pt x="4491" y="14457"/>
                  </a:lnTo>
                  <a:lnTo>
                    <a:pt x="4460" y="14466"/>
                  </a:lnTo>
                  <a:lnTo>
                    <a:pt x="4430" y="14473"/>
                  </a:lnTo>
                  <a:lnTo>
                    <a:pt x="4399" y="14480"/>
                  </a:lnTo>
                  <a:lnTo>
                    <a:pt x="4367" y="14486"/>
                  </a:lnTo>
                  <a:lnTo>
                    <a:pt x="4335" y="14493"/>
                  </a:lnTo>
                  <a:lnTo>
                    <a:pt x="4271" y="14504"/>
                  </a:lnTo>
                  <a:lnTo>
                    <a:pt x="4206" y="14514"/>
                  </a:lnTo>
                  <a:lnTo>
                    <a:pt x="4142" y="14527"/>
                  </a:lnTo>
                  <a:lnTo>
                    <a:pt x="4077" y="14539"/>
                  </a:lnTo>
                  <a:lnTo>
                    <a:pt x="4045" y="14547"/>
                  </a:lnTo>
                  <a:lnTo>
                    <a:pt x="4014" y="14555"/>
                  </a:lnTo>
                  <a:lnTo>
                    <a:pt x="3983" y="14564"/>
                  </a:lnTo>
                  <a:lnTo>
                    <a:pt x="3952" y="14574"/>
                  </a:lnTo>
                  <a:lnTo>
                    <a:pt x="3922" y="14585"/>
                  </a:lnTo>
                  <a:lnTo>
                    <a:pt x="3892" y="14597"/>
                  </a:lnTo>
                  <a:lnTo>
                    <a:pt x="3863" y="14611"/>
                  </a:lnTo>
                  <a:lnTo>
                    <a:pt x="3835" y="14625"/>
                  </a:lnTo>
                  <a:lnTo>
                    <a:pt x="3807" y="14642"/>
                  </a:lnTo>
                  <a:lnTo>
                    <a:pt x="3780" y="14660"/>
                  </a:lnTo>
                  <a:lnTo>
                    <a:pt x="3754" y="14679"/>
                  </a:lnTo>
                  <a:lnTo>
                    <a:pt x="3728" y="14701"/>
                  </a:lnTo>
                  <a:lnTo>
                    <a:pt x="3700" y="14677"/>
                  </a:lnTo>
                  <a:lnTo>
                    <a:pt x="3670" y="14658"/>
                  </a:lnTo>
                  <a:lnTo>
                    <a:pt x="3639" y="14643"/>
                  </a:lnTo>
                  <a:lnTo>
                    <a:pt x="3607" y="14633"/>
                  </a:lnTo>
                  <a:lnTo>
                    <a:pt x="3574" y="14626"/>
                  </a:lnTo>
                  <a:lnTo>
                    <a:pt x="3539" y="14624"/>
                  </a:lnTo>
                  <a:lnTo>
                    <a:pt x="3503" y="14624"/>
                  </a:lnTo>
                  <a:lnTo>
                    <a:pt x="3467" y="14628"/>
                  </a:lnTo>
                  <a:lnTo>
                    <a:pt x="3430" y="14635"/>
                  </a:lnTo>
                  <a:lnTo>
                    <a:pt x="3392" y="14644"/>
                  </a:lnTo>
                  <a:lnTo>
                    <a:pt x="3354" y="14654"/>
                  </a:lnTo>
                  <a:lnTo>
                    <a:pt x="3314" y="14667"/>
                  </a:lnTo>
                  <a:lnTo>
                    <a:pt x="3275" y="14681"/>
                  </a:lnTo>
                  <a:lnTo>
                    <a:pt x="3236" y="14696"/>
                  </a:lnTo>
                  <a:lnTo>
                    <a:pt x="3195" y="14711"/>
                  </a:lnTo>
                  <a:lnTo>
                    <a:pt x="3155" y="14727"/>
                  </a:lnTo>
                  <a:lnTo>
                    <a:pt x="3115" y="14744"/>
                  </a:lnTo>
                  <a:lnTo>
                    <a:pt x="3075" y="14759"/>
                  </a:lnTo>
                  <a:lnTo>
                    <a:pt x="3035" y="14774"/>
                  </a:lnTo>
                  <a:lnTo>
                    <a:pt x="2995" y="14787"/>
                  </a:lnTo>
                  <a:lnTo>
                    <a:pt x="2955" y="14800"/>
                  </a:lnTo>
                  <a:lnTo>
                    <a:pt x="2916" y="14811"/>
                  </a:lnTo>
                  <a:lnTo>
                    <a:pt x="2877" y="14819"/>
                  </a:lnTo>
                  <a:lnTo>
                    <a:pt x="2839" y="14827"/>
                  </a:lnTo>
                  <a:lnTo>
                    <a:pt x="2801" y="14830"/>
                  </a:lnTo>
                  <a:lnTo>
                    <a:pt x="2765" y="14831"/>
                  </a:lnTo>
                  <a:lnTo>
                    <a:pt x="2729" y="14829"/>
                  </a:lnTo>
                  <a:lnTo>
                    <a:pt x="2694" y="14821"/>
                  </a:lnTo>
                  <a:lnTo>
                    <a:pt x="2660" y="14812"/>
                  </a:lnTo>
                  <a:lnTo>
                    <a:pt x="2627" y="14796"/>
                  </a:lnTo>
                  <a:lnTo>
                    <a:pt x="2595" y="14778"/>
                  </a:lnTo>
                  <a:lnTo>
                    <a:pt x="2565" y="14753"/>
                  </a:lnTo>
                  <a:lnTo>
                    <a:pt x="2541" y="14774"/>
                  </a:lnTo>
                  <a:lnTo>
                    <a:pt x="2514" y="14791"/>
                  </a:lnTo>
                  <a:lnTo>
                    <a:pt x="2485" y="14806"/>
                  </a:lnTo>
                  <a:lnTo>
                    <a:pt x="2454" y="14816"/>
                  </a:lnTo>
                  <a:lnTo>
                    <a:pt x="2421" y="14824"/>
                  </a:lnTo>
                  <a:lnTo>
                    <a:pt x="2387" y="14830"/>
                  </a:lnTo>
                  <a:lnTo>
                    <a:pt x="2350" y="14832"/>
                  </a:lnTo>
                  <a:lnTo>
                    <a:pt x="2311" y="14832"/>
                  </a:lnTo>
                  <a:lnTo>
                    <a:pt x="2272" y="14830"/>
                  </a:lnTo>
                  <a:lnTo>
                    <a:pt x="2231" y="14825"/>
                  </a:lnTo>
                  <a:lnTo>
                    <a:pt x="2189" y="14819"/>
                  </a:lnTo>
                  <a:lnTo>
                    <a:pt x="2146" y="14811"/>
                  </a:lnTo>
                  <a:lnTo>
                    <a:pt x="2103" y="14802"/>
                  </a:lnTo>
                  <a:lnTo>
                    <a:pt x="2058" y="14790"/>
                  </a:lnTo>
                  <a:lnTo>
                    <a:pt x="2014" y="14779"/>
                  </a:lnTo>
                  <a:lnTo>
                    <a:pt x="1969" y="14765"/>
                  </a:lnTo>
                  <a:lnTo>
                    <a:pt x="1925" y="14752"/>
                  </a:lnTo>
                  <a:lnTo>
                    <a:pt x="1880" y="14736"/>
                  </a:lnTo>
                  <a:lnTo>
                    <a:pt x="1835" y="14722"/>
                  </a:lnTo>
                  <a:lnTo>
                    <a:pt x="1791" y="14706"/>
                  </a:lnTo>
                  <a:lnTo>
                    <a:pt x="1705" y="14674"/>
                  </a:lnTo>
                  <a:lnTo>
                    <a:pt x="1623" y="14644"/>
                  </a:lnTo>
                  <a:lnTo>
                    <a:pt x="1545" y="14615"/>
                  </a:lnTo>
                  <a:lnTo>
                    <a:pt x="1474" y="14590"/>
                  </a:lnTo>
                  <a:lnTo>
                    <a:pt x="1442" y="14580"/>
                  </a:lnTo>
                  <a:lnTo>
                    <a:pt x="1411" y="14570"/>
                  </a:lnTo>
                  <a:lnTo>
                    <a:pt x="1383" y="14563"/>
                  </a:lnTo>
                  <a:lnTo>
                    <a:pt x="1356" y="14557"/>
                  </a:lnTo>
                  <a:lnTo>
                    <a:pt x="1347" y="14557"/>
                  </a:lnTo>
                  <a:lnTo>
                    <a:pt x="1337" y="14555"/>
                  </a:lnTo>
                  <a:lnTo>
                    <a:pt x="1323" y="14551"/>
                  </a:lnTo>
                  <a:lnTo>
                    <a:pt x="1309" y="14547"/>
                  </a:lnTo>
                  <a:lnTo>
                    <a:pt x="1273" y="14534"/>
                  </a:lnTo>
                  <a:lnTo>
                    <a:pt x="1231" y="14516"/>
                  </a:lnTo>
                  <a:lnTo>
                    <a:pt x="1184" y="14496"/>
                  </a:lnTo>
                  <a:lnTo>
                    <a:pt x="1134" y="14471"/>
                  </a:lnTo>
                  <a:lnTo>
                    <a:pt x="1108" y="14457"/>
                  </a:lnTo>
                  <a:lnTo>
                    <a:pt x="1081" y="14443"/>
                  </a:lnTo>
                  <a:lnTo>
                    <a:pt x="1055" y="14428"/>
                  </a:lnTo>
                  <a:lnTo>
                    <a:pt x="1029" y="14413"/>
                  </a:lnTo>
                  <a:lnTo>
                    <a:pt x="1002" y="14396"/>
                  </a:lnTo>
                  <a:lnTo>
                    <a:pt x="976" y="14380"/>
                  </a:lnTo>
                  <a:lnTo>
                    <a:pt x="951" y="14363"/>
                  </a:lnTo>
                  <a:lnTo>
                    <a:pt x="926" y="14345"/>
                  </a:lnTo>
                  <a:lnTo>
                    <a:pt x="904" y="14328"/>
                  </a:lnTo>
                  <a:lnTo>
                    <a:pt x="881" y="14310"/>
                  </a:lnTo>
                  <a:lnTo>
                    <a:pt x="860" y="14291"/>
                  </a:lnTo>
                  <a:lnTo>
                    <a:pt x="840" y="14273"/>
                  </a:lnTo>
                  <a:lnTo>
                    <a:pt x="822" y="14254"/>
                  </a:lnTo>
                  <a:lnTo>
                    <a:pt x="806" y="14236"/>
                  </a:lnTo>
                  <a:lnTo>
                    <a:pt x="792" y="14217"/>
                  </a:lnTo>
                  <a:lnTo>
                    <a:pt x="780" y="14198"/>
                  </a:lnTo>
                  <a:lnTo>
                    <a:pt x="770" y="14180"/>
                  </a:lnTo>
                  <a:lnTo>
                    <a:pt x="763" y="14162"/>
                  </a:lnTo>
                  <a:lnTo>
                    <a:pt x="759" y="14143"/>
                  </a:lnTo>
                  <a:lnTo>
                    <a:pt x="758" y="14126"/>
                  </a:lnTo>
                  <a:lnTo>
                    <a:pt x="745" y="14122"/>
                  </a:lnTo>
                  <a:lnTo>
                    <a:pt x="733" y="14116"/>
                  </a:lnTo>
                  <a:lnTo>
                    <a:pt x="720" y="14105"/>
                  </a:lnTo>
                  <a:lnTo>
                    <a:pt x="708" y="14089"/>
                  </a:lnTo>
                  <a:lnTo>
                    <a:pt x="695" y="14071"/>
                  </a:lnTo>
                  <a:lnTo>
                    <a:pt x="683" y="14048"/>
                  </a:lnTo>
                  <a:lnTo>
                    <a:pt x="670" y="14022"/>
                  </a:lnTo>
                  <a:lnTo>
                    <a:pt x="658" y="13994"/>
                  </a:lnTo>
                  <a:lnTo>
                    <a:pt x="646" y="13962"/>
                  </a:lnTo>
                  <a:lnTo>
                    <a:pt x="633" y="13929"/>
                  </a:lnTo>
                  <a:lnTo>
                    <a:pt x="621" y="13892"/>
                  </a:lnTo>
                  <a:lnTo>
                    <a:pt x="608" y="13854"/>
                  </a:lnTo>
                  <a:lnTo>
                    <a:pt x="597" y="13815"/>
                  </a:lnTo>
                  <a:lnTo>
                    <a:pt x="585" y="13774"/>
                  </a:lnTo>
                  <a:lnTo>
                    <a:pt x="574" y="13732"/>
                  </a:lnTo>
                  <a:lnTo>
                    <a:pt x="563" y="13689"/>
                  </a:lnTo>
                  <a:lnTo>
                    <a:pt x="542" y="13602"/>
                  </a:lnTo>
                  <a:lnTo>
                    <a:pt x="523" y="13514"/>
                  </a:lnTo>
                  <a:lnTo>
                    <a:pt x="506" y="13429"/>
                  </a:lnTo>
                  <a:lnTo>
                    <a:pt x="491" y="13348"/>
                  </a:lnTo>
                  <a:lnTo>
                    <a:pt x="480" y="13272"/>
                  </a:lnTo>
                  <a:lnTo>
                    <a:pt x="471" y="13206"/>
                  </a:lnTo>
                  <a:lnTo>
                    <a:pt x="467" y="13176"/>
                  </a:lnTo>
                  <a:lnTo>
                    <a:pt x="465" y="13150"/>
                  </a:lnTo>
                  <a:lnTo>
                    <a:pt x="464" y="13126"/>
                  </a:lnTo>
                  <a:lnTo>
                    <a:pt x="463" y="13105"/>
                  </a:lnTo>
                  <a:lnTo>
                    <a:pt x="487" y="13060"/>
                  </a:lnTo>
                  <a:lnTo>
                    <a:pt x="484" y="13021"/>
                  </a:lnTo>
                  <a:lnTo>
                    <a:pt x="480" y="12980"/>
                  </a:lnTo>
                  <a:lnTo>
                    <a:pt x="475" y="12935"/>
                  </a:lnTo>
                  <a:lnTo>
                    <a:pt x="468" y="12888"/>
                  </a:lnTo>
                  <a:lnTo>
                    <a:pt x="454" y="12784"/>
                  </a:lnTo>
                  <a:lnTo>
                    <a:pt x="436" y="12672"/>
                  </a:lnTo>
                  <a:lnTo>
                    <a:pt x="418" y="12553"/>
                  </a:lnTo>
                  <a:lnTo>
                    <a:pt x="397" y="12427"/>
                  </a:lnTo>
                  <a:lnTo>
                    <a:pt x="375" y="12300"/>
                  </a:lnTo>
                  <a:lnTo>
                    <a:pt x="355" y="12170"/>
                  </a:lnTo>
                  <a:lnTo>
                    <a:pt x="336" y="12040"/>
                  </a:lnTo>
                  <a:lnTo>
                    <a:pt x="318" y="11914"/>
                  </a:lnTo>
                  <a:lnTo>
                    <a:pt x="310" y="11853"/>
                  </a:lnTo>
                  <a:lnTo>
                    <a:pt x="303" y="11792"/>
                  </a:lnTo>
                  <a:lnTo>
                    <a:pt x="296" y="11734"/>
                  </a:lnTo>
                  <a:lnTo>
                    <a:pt x="291" y="11676"/>
                  </a:lnTo>
                  <a:lnTo>
                    <a:pt x="287" y="11622"/>
                  </a:lnTo>
                  <a:lnTo>
                    <a:pt x="284" y="11569"/>
                  </a:lnTo>
                  <a:lnTo>
                    <a:pt x="283" y="11518"/>
                  </a:lnTo>
                  <a:lnTo>
                    <a:pt x="283" y="11471"/>
                  </a:lnTo>
                  <a:lnTo>
                    <a:pt x="284" y="11427"/>
                  </a:lnTo>
                  <a:lnTo>
                    <a:pt x="286" y="11385"/>
                  </a:lnTo>
                  <a:lnTo>
                    <a:pt x="290" y="11348"/>
                  </a:lnTo>
                  <a:lnTo>
                    <a:pt x="296" y="11315"/>
                  </a:lnTo>
                  <a:lnTo>
                    <a:pt x="291" y="11294"/>
                  </a:lnTo>
                  <a:lnTo>
                    <a:pt x="287" y="11271"/>
                  </a:lnTo>
                  <a:lnTo>
                    <a:pt x="284" y="11246"/>
                  </a:lnTo>
                  <a:lnTo>
                    <a:pt x="281" y="11219"/>
                  </a:lnTo>
                  <a:lnTo>
                    <a:pt x="278" y="11190"/>
                  </a:lnTo>
                  <a:lnTo>
                    <a:pt x="277" y="11160"/>
                  </a:lnTo>
                  <a:lnTo>
                    <a:pt x="276" y="11129"/>
                  </a:lnTo>
                  <a:lnTo>
                    <a:pt x="275" y="11098"/>
                  </a:lnTo>
                  <a:lnTo>
                    <a:pt x="276" y="11067"/>
                  </a:lnTo>
                  <a:lnTo>
                    <a:pt x="277" y="11036"/>
                  </a:lnTo>
                  <a:lnTo>
                    <a:pt x="278" y="11006"/>
                  </a:lnTo>
                  <a:lnTo>
                    <a:pt x="281" y="10978"/>
                  </a:lnTo>
                  <a:lnTo>
                    <a:pt x="284" y="10950"/>
                  </a:lnTo>
                  <a:lnTo>
                    <a:pt x="287" y="10925"/>
                  </a:lnTo>
                  <a:lnTo>
                    <a:pt x="291" y="10902"/>
                  </a:lnTo>
                  <a:lnTo>
                    <a:pt x="296" y="10882"/>
                  </a:lnTo>
                  <a:lnTo>
                    <a:pt x="288" y="10843"/>
                  </a:lnTo>
                  <a:lnTo>
                    <a:pt x="281" y="10799"/>
                  </a:lnTo>
                  <a:lnTo>
                    <a:pt x="275" y="10751"/>
                  </a:lnTo>
                  <a:lnTo>
                    <a:pt x="269" y="10698"/>
                  </a:lnTo>
                  <a:lnTo>
                    <a:pt x="265" y="10642"/>
                  </a:lnTo>
                  <a:lnTo>
                    <a:pt x="263" y="10583"/>
                  </a:lnTo>
                  <a:lnTo>
                    <a:pt x="261" y="10519"/>
                  </a:lnTo>
                  <a:lnTo>
                    <a:pt x="260" y="10453"/>
                  </a:lnTo>
                  <a:lnTo>
                    <a:pt x="260" y="10386"/>
                  </a:lnTo>
                  <a:lnTo>
                    <a:pt x="261" y="10315"/>
                  </a:lnTo>
                  <a:lnTo>
                    <a:pt x="262" y="10242"/>
                  </a:lnTo>
                  <a:lnTo>
                    <a:pt x="265" y="10169"/>
                  </a:lnTo>
                  <a:lnTo>
                    <a:pt x="268" y="10093"/>
                  </a:lnTo>
                  <a:lnTo>
                    <a:pt x="271" y="10017"/>
                  </a:lnTo>
                  <a:lnTo>
                    <a:pt x="276" y="9941"/>
                  </a:lnTo>
                  <a:lnTo>
                    <a:pt x="281" y="9863"/>
                  </a:lnTo>
                  <a:lnTo>
                    <a:pt x="292" y="9710"/>
                  </a:lnTo>
                  <a:lnTo>
                    <a:pt x="305" y="9558"/>
                  </a:lnTo>
                  <a:lnTo>
                    <a:pt x="319" y="9413"/>
                  </a:lnTo>
                  <a:lnTo>
                    <a:pt x="334" y="9274"/>
                  </a:lnTo>
                  <a:lnTo>
                    <a:pt x="349" y="9147"/>
                  </a:lnTo>
                  <a:lnTo>
                    <a:pt x="365" y="9030"/>
                  </a:lnTo>
                  <a:lnTo>
                    <a:pt x="372" y="8979"/>
                  </a:lnTo>
                  <a:lnTo>
                    <a:pt x="380" y="8931"/>
                  </a:lnTo>
                  <a:lnTo>
                    <a:pt x="388" y="8887"/>
                  </a:lnTo>
                  <a:lnTo>
                    <a:pt x="395" y="8849"/>
                  </a:lnTo>
                  <a:lnTo>
                    <a:pt x="401" y="8806"/>
                  </a:lnTo>
                  <a:lnTo>
                    <a:pt x="406" y="8763"/>
                  </a:lnTo>
                  <a:lnTo>
                    <a:pt x="411" y="8717"/>
                  </a:lnTo>
                  <a:lnTo>
                    <a:pt x="417" y="8671"/>
                  </a:lnTo>
                  <a:lnTo>
                    <a:pt x="425" y="8571"/>
                  </a:lnTo>
                  <a:lnTo>
                    <a:pt x="431" y="8467"/>
                  </a:lnTo>
                  <a:lnTo>
                    <a:pt x="436" y="8360"/>
                  </a:lnTo>
                  <a:lnTo>
                    <a:pt x="440" y="8249"/>
                  </a:lnTo>
                  <a:lnTo>
                    <a:pt x="443" y="8135"/>
                  </a:lnTo>
                  <a:lnTo>
                    <a:pt x="447" y="8019"/>
                  </a:lnTo>
                  <a:lnTo>
                    <a:pt x="449" y="7903"/>
                  </a:lnTo>
                  <a:lnTo>
                    <a:pt x="450" y="7788"/>
                  </a:lnTo>
                  <a:lnTo>
                    <a:pt x="451" y="7674"/>
                  </a:lnTo>
                  <a:lnTo>
                    <a:pt x="453" y="7562"/>
                  </a:lnTo>
                  <a:lnTo>
                    <a:pt x="455" y="7453"/>
                  </a:lnTo>
                  <a:lnTo>
                    <a:pt x="457" y="7349"/>
                  </a:lnTo>
                  <a:lnTo>
                    <a:pt x="460" y="7249"/>
                  </a:lnTo>
                  <a:lnTo>
                    <a:pt x="463" y="7155"/>
                  </a:lnTo>
                  <a:lnTo>
                    <a:pt x="464" y="7108"/>
                  </a:lnTo>
                  <a:lnTo>
                    <a:pt x="467" y="7058"/>
                  </a:lnTo>
                  <a:lnTo>
                    <a:pt x="473" y="7006"/>
                  </a:lnTo>
                  <a:lnTo>
                    <a:pt x="479" y="6952"/>
                  </a:lnTo>
                  <a:lnTo>
                    <a:pt x="486" y="6897"/>
                  </a:lnTo>
                  <a:lnTo>
                    <a:pt x="494" y="6839"/>
                  </a:lnTo>
                  <a:lnTo>
                    <a:pt x="504" y="6781"/>
                  </a:lnTo>
                  <a:lnTo>
                    <a:pt x="513" y="6723"/>
                  </a:lnTo>
                  <a:lnTo>
                    <a:pt x="521" y="6665"/>
                  </a:lnTo>
                  <a:lnTo>
                    <a:pt x="531" y="6607"/>
                  </a:lnTo>
                  <a:lnTo>
                    <a:pt x="539" y="6550"/>
                  </a:lnTo>
                  <a:lnTo>
                    <a:pt x="546" y="6494"/>
                  </a:lnTo>
                  <a:lnTo>
                    <a:pt x="552" y="6440"/>
                  </a:lnTo>
                  <a:lnTo>
                    <a:pt x="558" y="6387"/>
                  </a:lnTo>
                  <a:lnTo>
                    <a:pt x="561" y="6338"/>
                  </a:lnTo>
                  <a:lnTo>
                    <a:pt x="562" y="6291"/>
                  </a:lnTo>
                  <a:lnTo>
                    <a:pt x="539" y="6239"/>
                  </a:lnTo>
                  <a:lnTo>
                    <a:pt x="541" y="6215"/>
                  </a:lnTo>
                  <a:lnTo>
                    <a:pt x="546" y="6181"/>
                  </a:lnTo>
                  <a:lnTo>
                    <a:pt x="553" y="6140"/>
                  </a:lnTo>
                  <a:lnTo>
                    <a:pt x="562" y="6095"/>
                  </a:lnTo>
                  <a:lnTo>
                    <a:pt x="570" y="6050"/>
                  </a:lnTo>
                  <a:lnTo>
                    <a:pt x="577" y="6009"/>
                  </a:lnTo>
                  <a:lnTo>
                    <a:pt x="582" y="5975"/>
                  </a:lnTo>
                  <a:lnTo>
                    <a:pt x="584" y="5951"/>
                  </a:lnTo>
                  <a:lnTo>
                    <a:pt x="562" y="5899"/>
                  </a:lnTo>
                  <a:lnTo>
                    <a:pt x="562" y="5873"/>
                  </a:lnTo>
                  <a:lnTo>
                    <a:pt x="564" y="5847"/>
                  </a:lnTo>
                  <a:lnTo>
                    <a:pt x="566" y="5820"/>
                  </a:lnTo>
                  <a:lnTo>
                    <a:pt x="568" y="5794"/>
                  </a:lnTo>
                  <a:lnTo>
                    <a:pt x="575" y="5740"/>
                  </a:lnTo>
                  <a:lnTo>
                    <a:pt x="581" y="5685"/>
                  </a:lnTo>
                  <a:lnTo>
                    <a:pt x="584" y="5658"/>
                  </a:lnTo>
                  <a:lnTo>
                    <a:pt x="588" y="5630"/>
                  </a:lnTo>
                  <a:lnTo>
                    <a:pt x="590" y="5604"/>
                  </a:lnTo>
                  <a:lnTo>
                    <a:pt x="591" y="5577"/>
                  </a:lnTo>
                  <a:lnTo>
                    <a:pt x="591" y="5549"/>
                  </a:lnTo>
                  <a:lnTo>
                    <a:pt x="590" y="5522"/>
                  </a:lnTo>
                  <a:lnTo>
                    <a:pt x="588" y="5495"/>
                  </a:lnTo>
                  <a:lnTo>
                    <a:pt x="584" y="5468"/>
                  </a:lnTo>
                  <a:lnTo>
                    <a:pt x="597" y="5408"/>
                  </a:lnTo>
                  <a:lnTo>
                    <a:pt x="608" y="5344"/>
                  </a:lnTo>
                  <a:lnTo>
                    <a:pt x="619" y="5280"/>
                  </a:lnTo>
                  <a:lnTo>
                    <a:pt x="627" y="5214"/>
                  </a:lnTo>
                  <a:lnTo>
                    <a:pt x="635" y="5145"/>
                  </a:lnTo>
                  <a:lnTo>
                    <a:pt x="641" y="5075"/>
                  </a:lnTo>
                  <a:lnTo>
                    <a:pt x="648" y="5003"/>
                  </a:lnTo>
                  <a:lnTo>
                    <a:pt x="653" y="4930"/>
                  </a:lnTo>
                  <a:lnTo>
                    <a:pt x="662" y="4780"/>
                  </a:lnTo>
                  <a:lnTo>
                    <a:pt x="669" y="4628"/>
                  </a:lnTo>
                  <a:lnTo>
                    <a:pt x="676" y="4473"/>
                  </a:lnTo>
                  <a:lnTo>
                    <a:pt x="683" y="4319"/>
                  </a:lnTo>
                  <a:lnTo>
                    <a:pt x="687" y="4242"/>
                  </a:lnTo>
                  <a:lnTo>
                    <a:pt x="692" y="4165"/>
                  </a:lnTo>
                  <a:lnTo>
                    <a:pt x="697" y="4090"/>
                  </a:lnTo>
                  <a:lnTo>
                    <a:pt x="703" y="4015"/>
                  </a:lnTo>
                  <a:lnTo>
                    <a:pt x="710" y="3940"/>
                  </a:lnTo>
                  <a:lnTo>
                    <a:pt x="717" y="3868"/>
                  </a:lnTo>
                  <a:lnTo>
                    <a:pt x="726" y="3796"/>
                  </a:lnTo>
                  <a:lnTo>
                    <a:pt x="736" y="3727"/>
                  </a:lnTo>
                  <a:lnTo>
                    <a:pt x="747" y="3658"/>
                  </a:lnTo>
                  <a:lnTo>
                    <a:pt x="760" y="3592"/>
                  </a:lnTo>
                  <a:lnTo>
                    <a:pt x="774" y="3528"/>
                  </a:lnTo>
                  <a:lnTo>
                    <a:pt x="790" y="3465"/>
                  </a:lnTo>
                  <a:lnTo>
                    <a:pt x="807" y="3406"/>
                  </a:lnTo>
                  <a:lnTo>
                    <a:pt x="827" y="3349"/>
                  </a:lnTo>
                  <a:lnTo>
                    <a:pt x="849" y="3295"/>
                  </a:lnTo>
                  <a:lnTo>
                    <a:pt x="873" y="3244"/>
                  </a:lnTo>
                  <a:lnTo>
                    <a:pt x="869" y="3223"/>
                  </a:lnTo>
                  <a:lnTo>
                    <a:pt x="867" y="3197"/>
                  </a:lnTo>
                  <a:lnTo>
                    <a:pt x="868" y="3167"/>
                  </a:lnTo>
                  <a:lnTo>
                    <a:pt x="871" y="3133"/>
                  </a:lnTo>
                  <a:lnTo>
                    <a:pt x="875" y="3095"/>
                  </a:lnTo>
                  <a:lnTo>
                    <a:pt x="881" y="3054"/>
                  </a:lnTo>
                  <a:lnTo>
                    <a:pt x="887" y="3008"/>
                  </a:lnTo>
                  <a:lnTo>
                    <a:pt x="895" y="2961"/>
                  </a:lnTo>
                  <a:lnTo>
                    <a:pt x="906" y="2911"/>
                  </a:lnTo>
                  <a:lnTo>
                    <a:pt x="916" y="2859"/>
                  </a:lnTo>
                  <a:lnTo>
                    <a:pt x="929" y="2804"/>
                  </a:lnTo>
                  <a:lnTo>
                    <a:pt x="941" y="2748"/>
                  </a:lnTo>
                  <a:lnTo>
                    <a:pt x="969" y="2633"/>
                  </a:lnTo>
                  <a:lnTo>
                    <a:pt x="1000" y="2515"/>
                  </a:lnTo>
                  <a:lnTo>
                    <a:pt x="1032" y="2398"/>
                  </a:lnTo>
                  <a:lnTo>
                    <a:pt x="1065" y="2282"/>
                  </a:lnTo>
                  <a:lnTo>
                    <a:pt x="1099" y="2171"/>
                  </a:lnTo>
                  <a:lnTo>
                    <a:pt x="1131" y="2069"/>
                  </a:lnTo>
                  <a:lnTo>
                    <a:pt x="1162" y="1977"/>
                  </a:lnTo>
                  <a:lnTo>
                    <a:pt x="1190" y="1898"/>
                  </a:lnTo>
                  <a:lnTo>
                    <a:pt x="1202" y="1864"/>
                  </a:lnTo>
                  <a:lnTo>
                    <a:pt x="1215" y="1833"/>
                  </a:lnTo>
                  <a:lnTo>
                    <a:pt x="1225" y="1808"/>
                  </a:lnTo>
                  <a:lnTo>
                    <a:pt x="1235" y="1787"/>
                  </a:lnTo>
                  <a:lnTo>
                    <a:pt x="1230" y="1753"/>
                  </a:lnTo>
                  <a:lnTo>
                    <a:pt x="1230" y="1715"/>
                  </a:lnTo>
                  <a:lnTo>
                    <a:pt x="1232" y="1675"/>
                  </a:lnTo>
                  <a:lnTo>
                    <a:pt x="1238" y="1629"/>
                  </a:lnTo>
                  <a:lnTo>
                    <a:pt x="1247" y="1581"/>
                  </a:lnTo>
                  <a:lnTo>
                    <a:pt x="1258" y="1531"/>
                  </a:lnTo>
                  <a:lnTo>
                    <a:pt x="1273" y="1477"/>
                  </a:lnTo>
                  <a:lnTo>
                    <a:pt x="1289" y="1421"/>
                  </a:lnTo>
                  <a:lnTo>
                    <a:pt x="1307" y="1363"/>
                  </a:lnTo>
                  <a:lnTo>
                    <a:pt x="1328" y="1302"/>
                  </a:lnTo>
                  <a:lnTo>
                    <a:pt x="1349" y="1240"/>
                  </a:lnTo>
                  <a:lnTo>
                    <a:pt x="1372" y="1176"/>
                  </a:lnTo>
                  <a:lnTo>
                    <a:pt x="1422" y="1046"/>
                  </a:lnTo>
                  <a:lnTo>
                    <a:pt x="1474" y="913"/>
                  </a:lnTo>
                  <a:lnTo>
                    <a:pt x="1527" y="779"/>
                  </a:lnTo>
                  <a:lnTo>
                    <a:pt x="1579" y="647"/>
                  </a:lnTo>
                  <a:lnTo>
                    <a:pt x="1604" y="582"/>
                  </a:lnTo>
                  <a:lnTo>
                    <a:pt x="1628" y="519"/>
                  </a:lnTo>
                  <a:lnTo>
                    <a:pt x="1651" y="456"/>
                  </a:lnTo>
                  <a:lnTo>
                    <a:pt x="1673" y="395"/>
                  </a:lnTo>
                  <a:lnTo>
                    <a:pt x="1692" y="337"/>
                  </a:lnTo>
                  <a:lnTo>
                    <a:pt x="1710" y="280"/>
                  </a:lnTo>
                  <a:lnTo>
                    <a:pt x="1726" y="226"/>
                  </a:lnTo>
                  <a:lnTo>
                    <a:pt x="1739" y="174"/>
                  </a:lnTo>
                  <a:lnTo>
                    <a:pt x="1750" y="126"/>
                  </a:lnTo>
                  <a:lnTo>
                    <a:pt x="1758" y="81"/>
                  </a:lnTo>
                  <a:lnTo>
                    <a:pt x="1763" y="39"/>
                  </a:lnTo>
                  <a:lnTo>
                    <a:pt x="1765" y="0"/>
                  </a:lnTo>
                  <a:lnTo>
                    <a:pt x="1722" y="3"/>
                  </a:lnTo>
                  <a:lnTo>
                    <a:pt x="1682" y="10"/>
                  </a:lnTo>
                  <a:lnTo>
                    <a:pt x="1643" y="19"/>
                  </a:lnTo>
                  <a:lnTo>
                    <a:pt x="1605" y="33"/>
                  </a:lnTo>
                  <a:lnTo>
                    <a:pt x="1568" y="51"/>
                  </a:lnTo>
                  <a:lnTo>
                    <a:pt x="1533" y="73"/>
                  </a:lnTo>
                  <a:lnTo>
                    <a:pt x="1499" y="98"/>
                  </a:lnTo>
                  <a:lnTo>
                    <a:pt x="1465" y="126"/>
                  </a:lnTo>
                  <a:lnTo>
                    <a:pt x="1433" y="157"/>
                  </a:lnTo>
                  <a:lnTo>
                    <a:pt x="1402" y="191"/>
                  </a:lnTo>
                  <a:lnTo>
                    <a:pt x="1372" y="228"/>
                  </a:lnTo>
                  <a:lnTo>
                    <a:pt x="1343" y="269"/>
                  </a:lnTo>
                  <a:lnTo>
                    <a:pt x="1314" y="311"/>
                  </a:lnTo>
                  <a:lnTo>
                    <a:pt x="1287" y="357"/>
                  </a:lnTo>
                  <a:lnTo>
                    <a:pt x="1261" y="405"/>
                  </a:lnTo>
                  <a:lnTo>
                    <a:pt x="1235" y="454"/>
                  </a:lnTo>
                  <a:lnTo>
                    <a:pt x="1212" y="506"/>
                  </a:lnTo>
                  <a:lnTo>
                    <a:pt x="1188" y="560"/>
                  </a:lnTo>
                  <a:lnTo>
                    <a:pt x="1165" y="616"/>
                  </a:lnTo>
                  <a:lnTo>
                    <a:pt x="1142" y="674"/>
                  </a:lnTo>
                  <a:lnTo>
                    <a:pt x="1120" y="733"/>
                  </a:lnTo>
                  <a:lnTo>
                    <a:pt x="1100" y="794"/>
                  </a:lnTo>
                  <a:lnTo>
                    <a:pt x="1079" y="856"/>
                  </a:lnTo>
                  <a:lnTo>
                    <a:pt x="1059" y="919"/>
                  </a:lnTo>
                  <a:lnTo>
                    <a:pt x="1040" y="983"/>
                  </a:lnTo>
                  <a:lnTo>
                    <a:pt x="1022" y="1049"/>
                  </a:lnTo>
                  <a:lnTo>
                    <a:pt x="1003" y="1115"/>
                  </a:lnTo>
                  <a:lnTo>
                    <a:pt x="986" y="1181"/>
                  </a:lnTo>
                  <a:lnTo>
                    <a:pt x="951" y="1316"/>
                  </a:lnTo>
                  <a:lnTo>
                    <a:pt x="918" y="1452"/>
                  </a:lnTo>
                  <a:close/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92600">
              <a:off x="7654680" y="1823760"/>
              <a:ext cx="447480" cy="2307960"/>
            </a:xfrm>
            <a:custGeom>
              <a:avLst/>
              <a:gdLst/>
              <a:ahLst/>
              <a:rect l="l" t="t" r="r" b="b"/>
              <a:pathLst>
                <a:path w="3089" h="14377">
                  <a:moveTo>
                    <a:pt x="1520" y="1049"/>
                  </a:moveTo>
                  <a:lnTo>
                    <a:pt x="1518" y="974"/>
                  </a:lnTo>
                  <a:lnTo>
                    <a:pt x="1520" y="905"/>
                  </a:lnTo>
                  <a:lnTo>
                    <a:pt x="1526" y="839"/>
                  </a:lnTo>
                  <a:lnTo>
                    <a:pt x="1536" y="778"/>
                  </a:lnTo>
                  <a:lnTo>
                    <a:pt x="1548" y="721"/>
                  </a:lnTo>
                  <a:lnTo>
                    <a:pt x="1563" y="669"/>
                  </a:lnTo>
                  <a:lnTo>
                    <a:pt x="1581" y="621"/>
                  </a:lnTo>
                  <a:lnTo>
                    <a:pt x="1602" y="576"/>
                  </a:lnTo>
                  <a:lnTo>
                    <a:pt x="1625" y="536"/>
                  </a:lnTo>
                  <a:lnTo>
                    <a:pt x="1651" y="498"/>
                  </a:lnTo>
                  <a:lnTo>
                    <a:pt x="1678" y="464"/>
                  </a:lnTo>
                  <a:lnTo>
                    <a:pt x="1707" y="433"/>
                  </a:lnTo>
                  <a:lnTo>
                    <a:pt x="1738" y="405"/>
                  </a:lnTo>
                  <a:lnTo>
                    <a:pt x="1771" y="380"/>
                  </a:lnTo>
                  <a:lnTo>
                    <a:pt x="1805" y="358"/>
                  </a:lnTo>
                  <a:lnTo>
                    <a:pt x="1841" y="339"/>
                  </a:lnTo>
                  <a:lnTo>
                    <a:pt x="1876" y="321"/>
                  </a:lnTo>
                  <a:lnTo>
                    <a:pt x="1913" y="306"/>
                  </a:lnTo>
                  <a:lnTo>
                    <a:pt x="1951" y="293"/>
                  </a:lnTo>
                  <a:lnTo>
                    <a:pt x="1990" y="281"/>
                  </a:lnTo>
                  <a:lnTo>
                    <a:pt x="2028" y="272"/>
                  </a:lnTo>
                  <a:lnTo>
                    <a:pt x="2066" y="265"/>
                  </a:lnTo>
                  <a:lnTo>
                    <a:pt x="2106" y="258"/>
                  </a:lnTo>
                  <a:lnTo>
                    <a:pt x="2144" y="252"/>
                  </a:lnTo>
                  <a:lnTo>
                    <a:pt x="2183" y="248"/>
                  </a:lnTo>
                  <a:lnTo>
                    <a:pt x="2220" y="245"/>
                  </a:lnTo>
                  <a:lnTo>
                    <a:pt x="2256" y="243"/>
                  </a:lnTo>
                  <a:lnTo>
                    <a:pt x="2292" y="241"/>
                  </a:lnTo>
                  <a:lnTo>
                    <a:pt x="2361" y="239"/>
                  </a:lnTo>
                  <a:lnTo>
                    <a:pt x="2424" y="237"/>
                  </a:lnTo>
                  <a:lnTo>
                    <a:pt x="2470" y="238"/>
                  </a:lnTo>
                  <a:lnTo>
                    <a:pt x="2512" y="243"/>
                  </a:lnTo>
                  <a:lnTo>
                    <a:pt x="2552" y="252"/>
                  </a:lnTo>
                  <a:lnTo>
                    <a:pt x="2588" y="266"/>
                  </a:lnTo>
                  <a:lnTo>
                    <a:pt x="2620" y="283"/>
                  </a:lnTo>
                  <a:lnTo>
                    <a:pt x="2650" y="303"/>
                  </a:lnTo>
                  <a:lnTo>
                    <a:pt x="2677" y="327"/>
                  </a:lnTo>
                  <a:lnTo>
                    <a:pt x="2701" y="355"/>
                  </a:lnTo>
                  <a:lnTo>
                    <a:pt x="2722" y="385"/>
                  </a:lnTo>
                  <a:lnTo>
                    <a:pt x="2739" y="417"/>
                  </a:lnTo>
                  <a:lnTo>
                    <a:pt x="2755" y="453"/>
                  </a:lnTo>
                  <a:lnTo>
                    <a:pt x="2767" y="490"/>
                  </a:lnTo>
                  <a:lnTo>
                    <a:pt x="2776" y="529"/>
                  </a:lnTo>
                  <a:lnTo>
                    <a:pt x="2784" y="571"/>
                  </a:lnTo>
                  <a:lnTo>
                    <a:pt x="2788" y="613"/>
                  </a:lnTo>
                  <a:lnTo>
                    <a:pt x="2790" y="657"/>
                  </a:lnTo>
                  <a:lnTo>
                    <a:pt x="2789" y="702"/>
                  </a:lnTo>
                  <a:lnTo>
                    <a:pt x="2786" y="748"/>
                  </a:lnTo>
                  <a:lnTo>
                    <a:pt x="2780" y="795"/>
                  </a:lnTo>
                  <a:lnTo>
                    <a:pt x="2772" y="841"/>
                  </a:lnTo>
                  <a:lnTo>
                    <a:pt x="2762" y="889"/>
                  </a:lnTo>
                  <a:lnTo>
                    <a:pt x="2750" y="936"/>
                  </a:lnTo>
                  <a:lnTo>
                    <a:pt x="2735" y="982"/>
                  </a:lnTo>
                  <a:lnTo>
                    <a:pt x="2718" y="1029"/>
                  </a:lnTo>
                  <a:lnTo>
                    <a:pt x="2700" y="1075"/>
                  </a:lnTo>
                  <a:lnTo>
                    <a:pt x="2679" y="1119"/>
                  </a:lnTo>
                  <a:lnTo>
                    <a:pt x="2656" y="1163"/>
                  </a:lnTo>
                  <a:lnTo>
                    <a:pt x="2632" y="1204"/>
                  </a:lnTo>
                  <a:lnTo>
                    <a:pt x="2605" y="1245"/>
                  </a:lnTo>
                  <a:lnTo>
                    <a:pt x="2577" y="1284"/>
                  </a:lnTo>
                  <a:lnTo>
                    <a:pt x="2547" y="1320"/>
                  </a:lnTo>
                  <a:lnTo>
                    <a:pt x="2516" y="1355"/>
                  </a:lnTo>
                  <a:lnTo>
                    <a:pt x="2485" y="1385"/>
                  </a:lnTo>
                  <a:lnTo>
                    <a:pt x="2434" y="1432"/>
                  </a:lnTo>
                  <a:lnTo>
                    <a:pt x="2369" y="1490"/>
                  </a:lnTo>
                  <a:lnTo>
                    <a:pt x="2298" y="1553"/>
                  </a:lnTo>
                  <a:lnTo>
                    <a:pt x="2226" y="1612"/>
                  </a:lnTo>
                  <a:lnTo>
                    <a:pt x="2165" y="1663"/>
                  </a:lnTo>
                  <a:lnTo>
                    <a:pt x="2139" y="1683"/>
                  </a:lnTo>
                  <a:lnTo>
                    <a:pt x="2118" y="1698"/>
                  </a:lnTo>
                  <a:lnTo>
                    <a:pt x="2104" y="1708"/>
                  </a:lnTo>
                  <a:lnTo>
                    <a:pt x="2096" y="1711"/>
                  </a:lnTo>
                  <a:lnTo>
                    <a:pt x="2096" y="1748"/>
                  </a:lnTo>
                  <a:lnTo>
                    <a:pt x="2094" y="1784"/>
                  </a:lnTo>
                  <a:lnTo>
                    <a:pt x="2092" y="1819"/>
                  </a:lnTo>
                  <a:lnTo>
                    <a:pt x="2089" y="1854"/>
                  </a:lnTo>
                  <a:lnTo>
                    <a:pt x="2084" y="1890"/>
                  </a:lnTo>
                  <a:lnTo>
                    <a:pt x="2078" y="1925"/>
                  </a:lnTo>
                  <a:lnTo>
                    <a:pt x="2072" y="1960"/>
                  </a:lnTo>
                  <a:lnTo>
                    <a:pt x="2063" y="1994"/>
                  </a:lnTo>
                  <a:lnTo>
                    <a:pt x="2055" y="2030"/>
                  </a:lnTo>
                  <a:lnTo>
                    <a:pt x="2047" y="2064"/>
                  </a:lnTo>
                  <a:lnTo>
                    <a:pt x="2036" y="2098"/>
                  </a:lnTo>
                  <a:lnTo>
                    <a:pt x="2027" y="2132"/>
                  </a:lnTo>
                  <a:lnTo>
                    <a:pt x="2005" y="2200"/>
                  </a:lnTo>
                  <a:lnTo>
                    <a:pt x="1984" y="2267"/>
                  </a:lnTo>
                  <a:lnTo>
                    <a:pt x="1962" y="2333"/>
                  </a:lnTo>
                  <a:lnTo>
                    <a:pt x="1941" y="2399"/>
                  </a:lnTo>
                  <a:lnTo>
                    <a:pt x="1932" y="2432"/>
                  </a:lnTo>
                  <a:lnTo>
                    <a:pt x="1922" y="2464"/>
                  </a:lnTo>
                  <a:lnTo>
                    <a:pt x="1913" y="2496"/>
                  </a:lnTo>
                  <a:lnTo>
                    <a:pt x="1905" y="2528"/>
                  </a:lnTo>
                  <a:lnTo>
                    <a:pt x="1898" y="2561"/>
                  </a:lnTo>
                  <a:lnTo>
                    <a:pt x="1891" y="2593"/>
                  </a:lnTo>
                  <a:lnTo>
                    <a:pt x="1886" y="2625"/>
                  </a:lnTo>
                  <a:lnTo>
                    <a:pt x="1882" y="2657"/>
                  </a:lnTo>
                  <a:lnTo>
                    <a:pt x="1879" y="2688"/>
                  </a:lnTo>
                  <a:lnTo>
                    <a:pt x="1877" y="2720"/>
                  </a:lnTo>
                  <a:lnTo>
                    <a:pt x="1876" y="2751"/>
                  </a:lnTo>
                  <a:lnTo>
                    <a:pt x="1877" y="2782"/>
                  </a:lnTo>
                  <a:lnTo>
                    <a:pt x="1900" y="2834"/>
                  </a:lnTo>
                  <a:lnTo>
                    <a:pt x="1900" y="2890"/>
                  </a:lnTo>
                  <a:lnTo>
                    <a:pt x="1898" y="2948"/>
                  </a:lnTo>
                  <a:lnTo>
                    <a:pt x="1894" y="3008"/>
                  </a:lnTo>
                  <a:lnTo>
                    <a:pt x="1890" y="3071"/>
                  </a:lnTo>
                  <a:lnTo>
                    <a:pt x="1885" y="3134"/>
                  </a:lnTo>
                  <a:lnTo>
                    <a:pt x="1880" y="3199"/>
                  </a:lnTo>
                  <a:lnTo>
                    <a:pt x="1873" y="3266"/>
                  </a:lnTo>
                  <a:lnTo>
                    <a:pt x="1865" y="3334"/>
                  </a:lnTo>
                  <a:lnTo>
                    <a:pt x="1849" y="3473"/>
                  </a:lnTo>
                  <a:lnTo>
                    <a:pt x="1830" y="3616"/>
                  </a:lnTo>
                  <a:lnTo>
                    <a:pt x="1809" y="3761"/>
                  </a:lnTo>
                  <a:lnTo>
                    <a:pt x="1789" y="3907"/>
                  </a:lnTo>
                  <a:lnTo>
                    <a:pt x="1767" y="4054"/>
                  </a:lnTo>
                  <a:lnTo>
                    <a:pt x="1746" y="4199"/>
                  </a:lnTo>
                  <a:lnTo>
                    <a:pt x="1727" y="4341"/>
                  </a:lnTo>
                  <a:lnTo>
                    <a:pt x="1708" y="4479"/>
                  </a:lnTo>
                  <a:lnTo>
                    <a:pt x="1700" y="4546"/>
                  </a:lnTo>
                  <a:lnTo>
                    <a:pt x="1692" y="4613"/>
                  </a:lnTo>
                  <a:lnTo>
                    <a:pt x="1685" y="4678"/>
                  </a:lnTo>
                  <a:lnTo>
                    <a:pt x="1679" y="4740"/>
                  </a:lnTo>
                  <a:lnTo>
                    <a:pt x="1674" y="4801"/>
                  </a:lnTo>
                  <a:lnTo>
                    <a:pt x="1670" y="4860"/>
                  </a:lnTo>
                  <a:lnTo>
                    <a:pt x="1666" y="4917"/>
                  </a:lnTo>
                  <a:lnTo>
                    <a:pt x="1663" y="4972"/>
                  </a:lnTo>
                  <a:lnTo>
                    <a:pt x="1661" y="5019"/>
                  </a:lnTo>
                  <a:lnTo>
                    <a:pt x="1657" y="5075"/>
                  </a:lnTo>
                  <a:lnTo>
                    <a:pt x="1651" y="5139"/>
                  </a:lnTo>
                  <a:lnTo>
                    <a:pt x="1644" y="5212"/>
                  </a:lnTo>
                  <a:lnTo>
                    <a:pt x="1625" y="5378"/>
                  </a:lnTo>
                  <a:lnTo>
                    <a:pt x="1602" y="5567"/>
                  </a:lnTo>
                  <a:lnTo>
                    <a:pt x="1576" y="5775"/>
                  </a:lnTo>
                  <a:lnTo>
                    <a:pt x="1549" y="5997"/>
                  </a:lnTo>
                  <a:lnTo>
                    <a:pt x="1521" y="6226"/>
                  </a:lnTo>
                  <a:lnTo>
                    <a:pt x="1494" y="6459"/>
                  </a:lnTo>
                  <a:lnTo>
                    <a:pt x="1481" y="6574"/>
                  </a:lnTo>
                  <a:lnTo>
                    <a:pt x="1468" y="6689"/>
                  </a:lnTo>
                  <a:lnTo>
                    <a:pt x="1457" y="6802"/>
                  </a:lnTo>
                  <a:lnTo>
                    <a:pt x="1447" y="6912"/>
                  </a:lnTo>
                  <a:lnTo>
                    <a:pt x="1436" y="7020"/>
                  </a:lnTo>
                  <a:lnTo>
                    <a:pt x="1428" y="7124"/>
                  </a:lnTo>
                  <a:lnTo>
                    <a:pt x="1422" y="7223"/>
                  </a:lnTo>
                  <a:lnTo>
                    <a:pt x="1416" y="7317"/>
                  </a:lnTo>
                  <a:lnTo>
                    <a:pt x="1412" y="7406"/>
                  </a:lnTo>
                  <a:lnTo>
                    <a:pt x="1410" y="7488"/>
                  </a:lnTo>
                  <a:lnTo>
                    <a:pt x="1410" y="7562"/>
                  </a:lnTo>
                  <a:lnTo>
                    <a:pt x="1412" y="7631"/>
                  </a:lnTo>
                  <a:lnTo>
                    <a:pt x="1417" y="7690"/>
                  </a:lnTo>
                  <a:lnTo>
                    <a:pt x="1424" y="7740"/>
                  </a:lnTo>
                  <a:lnTo>
                    <a:pt x="1433" y="7781"/>
                  </a:lnTo>
                  <a:lnTo>
                    <a:pt x="1445" y="7811"/>
                  </a:lnTo>
                  <a:lnTo>
                    <a:pt x="1448" y="7897"/>
                  </a:lnTo>
                  <a:lnTo>
                    <a:pt x="1449" y="7984"/>
                  </a:lnTo>
                  <a:lnTo>
                    <a:pt x="1447" y="8074"/>
                  </a:lnTo>
                  <a:lnTo>
                    <a:pt x="1444" y="8163"/>
                  </a:lnTo>
                  <a:lnTo>
                    <a:pt x="1439" y="8254"/>
                  </a:lnTo>
                  <a:lnTo>
                    <a:pt x="1432" y="8346"/>
                  </a:lnTo>
                  <a:lnTo>
                    <a:pt x="1425" y="8440"/>
                  </a:lnTo>
                  <a:lnTo>
                    <a:pt x="1415" y="8533"/>
                  </a:lnTo>
                  <a:lnTo>
                    <a:pt x="1404" y="8628"/>
                  </a:lnTo>
                  <a:lnTo>
                    <a:pt x="1392" y="8724"/>
                  </a:lnTo>
                  <a:lnTo>
                    <a:pt x="1379" y="8819"/>
                  </a:lnTo>
                  <a:lnTo>
                    <a:pt x="1365" y="8916"/>
                  </a:lnTo>
                  <a:lnTo>
                    <a:pt x="1350" y="9012"/>
                  </a:lnTo>
                  <a:lnTo>
                    <a:pt x="1334" y="9109"/>
                  </a:lnTo>
                  <a:lnTo>
                    <a:pt x="1317" y="9206"/>
                  </a:lnTo>
                  <a:lnTo>
                    <a:pt x="1301" y="9303"/>
                  </a:lnTo>
                  <a:lnTo>
                    <a:pt x="1264" y="9496"/>
                  </a:lnTo>
                  <a:lnTo>
                    <a:pt x="1228" y="9688"/>
                  </a:lnTo>
                  <a:lnTo>
                    <a:pt x="1191" y="9877"/>
                  </a:lnTo>
                  <a:lnTo>
                    <a:pt x="1154" y="10063"/>
                  </a:lnTo>
                  <a:lnTo>
                    <a:pt x="1119" y="10245"/>
                  </a:lnTo>
                  <a:lnTo>
                    <a:pt x="1086" y="10421"/>
                  </a:lnTo>
                  <a:lnTo>
                    <a:pt x="1070" y="10507"/>
                  </a:lnTo>
                  <a:lnTo>
                    <a:pt x="1056" y="10592"/>
                  </a:lnTo>
                  <a:lnTo>
                    <a:pt x="1042" y="10674"/>
                  </a:lnTo>
                  <a:lnTo>
                    <a:pt x="1030" y="10755"/>
                  </a:lnTo>
                  <a:lnTo>
                    <a:pt x="1021" y="10820"/>
                  </a:lnTo>
                  <a:lnTo>
                    <a:pt x="1013" y="10885"/>
                  </a:lnTo>
                  <a:lnTo>
                    <a:pt x="1007" y="10950"/>
                  </a:lnTo>
                  <a:lnTo>
                    <a:pt x="1003" y="11015"/>
                  </a:lnTo>
                  <a:lnTo>
                    <a:pt x="1000" y="11081"/>
                  </a:lnTo>
                  <a:lnTo>
                    <a:pt x="998" y="11147"/>
                  </a:lnTo>
                  <a:lnTo>
                    <a:pt x="997" y="11213"/>
                  </a:lnTo>
                  <a:lnTo>
                    <a:pt x="997" y="11280"/>
                  </a:lnTo>
                  <a:lnTo>
                    <a:pt x="998" y="11346"/>
                  </a:lnTo>
                  <a:lnTo>
                    <a:pt x="1000" y="11413"/>
                  </a:lnTo>
                  <a:lnTo>
                    <a:pt x="1002" y="11481"/>
                  </a:lnTo>
                  <a:lnTo>
                    <a:pt x="1005" y="11548"/>
                  </a:lnTo>
                  <a:lnTo>
                    <a:pt x="1012" y="11684"/>
                  </a:lnTo>
                  <a:lnTo>
                    <a:pt x="1020" y="11821"/>
                  </a:lnTo>
                  <a:lnTo>
                    <a:pt x="1027" y="11959"/>
                  </a:lnTo>
                  <a:lnTo>
                    <a:pt x="1032" y="12097"/>
                  </a:lnTo>
                  <a:lnTo>
                    <a:pt x="1034" y="12166"/>
                  </a:lnTo>
                  <a:lnTo>
                    <a:pt x="1035" y="12236"/>
                  </a:lnTo>
                  <a:lnTo>
                    <a:pt x="1035" y="12305"/>
                  </a:lnTo>
                  <a:lnTo>
                    <a:pt x="1034" y="12376"/>
                  </a:lnTo>
                  <a:lnTo>
                    <a:pt x="1032" y="12445"/>
                  </a:lnTo>
                  <a:lnTo>
                    <a:pt x="1030" y="12516"/>
                  </a:lnTo>
                  <a:lnTo>
                    <a:pt x="1025" y="12586"/>
                  </a:lnTo>
                  <a:lnTo>
                    <a:pt x="1020" y="12657"/>
                  </a:lnTo>
                  <a:lnTo>
                    <a:pt x="1011" y="12727"/>
                  </a:lnTo>
                  <a:lnTo>
                    <a:pt x="1003" y="12798"/>
                  </a:lnTo>
                  <a:lnTo>
                    <a:pt x="992" y="12868"/>
                  </a:lnTo>
                  <a:lnTo>
                    <a:pt x="978" y="12939"/>
                  </a:lnTo>
                  <a:lnTo>
                    <a:pt x="990" y="12985"/>
                  </a:lnTo>
                  <a:lnTo>
                    <a:pt x="996" y="13034"/>
                  </a:lnTo>
                  <a:lnTo>
                    <a:pt x="999" y="13085"/>
                  </a:lnTo>
                  <a:lnTo>
                    <a:pt x="997" y="13138"/>
                  </a:lnTo>
                  <a:lnTo>
                    <a:pt x="993" y="13193"/>
                  </a:lnTo>
                  <a:lnTo>
                    <a:pt x="984" y="13249"/>
                  </a:lnTo>
                  <a:lnTo>
                    <a:pt x="973" y="13306"/>
                  </a:lnTo>
                  <a:lnTo>
                    <a:pt x="959" y="13363"/>
                  </a:lnTo>
                  <a:lnTo>
                    <a:pt x="941" y="13420"/>
                  </a:lnTo>
                  <a:lnTo>
                    <a:pt x="921" y="13477"/>
                  </a:lnTo>
                  <a:lnTo>
                    <a:pt x="898" y="13533"/>
                  </a:lnTo>
                  <a:lnTo>
                    <a:pt x="875" y="13589"/>
                  </a:lnTo>
                  <a:lnTo>
                    <a:pt x="848" y="13643"/>
                  </a:lnTo>
                  <a:lnTo>
                    <a:pt x="820" y="13695"/>
                  </a:lnTo>
                  <a:lnTo>
                    <a:pt x="790" y="13745"/>
                  </a:lnTo>
                  <a:lnTo>
                    <a:pt x="758" y="13793"/>
                  </a:lnTo>
                  <a:lnTo>
                    <a:pt x="726" y="13839"/>
                  </a:lnTo>
                  <a:lnTo>
                    <a:pt x="692" y="13880"/>
                  </a:lnTo>
                  <a:lnTo>
                    <a:pt x="658" y="13918"/>
                  </a:lnTo>
                  <a:lnTo>
                    <a:pt x="624" y="13954"/>
                  </a:lnTo>
                  <a:lnTo>
                    <a:pt x="589" y="13984"/>
                  </a:lnTo>
                  <a:lnTo>
                    <a:pt x="553" y="14010"/>
                  </a:lnTo>
                  <a:lnTo>
                    <a:pt x="518" y="14030"/>
                  </a:lnTo>
                  <a:lnTo>
                    <a:pt x="483" y="14046"/>
                  </a:lnTo>
                  <a:lnTo>
                    <a:pt x="449" y="14055"/>
                  </a:lnTo>
                  <a:lnTo>
                    <a:pt x="414" y="14059"/>
                  </a:lnTo>
                  <a:lnTo>
                    <a:pt x="381" y="14057"/>
                  </a:lnTo>
                  <a:lnTo>
                    <a:pt x="349" y="14047"/>
                  </a:lnTo>
                  <a:lnTo>
                    <a:pt x="319" y="14031"/>
                  </a:lnTo>
                  <a:lnTo>
                    <a:pt x="289" y="14007"/>
                  </a:lnTo>
                  <a:lnTo>
                    <a:pt x="262" y="13976"/>
                  </a:lnTo>
                  <a:lnTo>
                    <a:pt x="236" y="13935"/>
                  </a:lnTo>
                  <a:lnTo>
                    <a:pt x="244" y="13916"/>
                  </a:lnTo>
                  <a:lnTo>
                    <a:pt x="253" y="13898"/>
                  </a:lnTo>
                  <a:lnTo>
                    <a:pt x="262" y="13881"/>
                  </a:lnTo>
                  <a:lnTo>
                    <a:pt x="270" y="13867"/>
                  </a:lnTo>
                  <a:lnTo>
                    <a:pt x="279" y="13854"/>
                  </a:lnTo>
                  <a:lnTo>
                    <a:pt x="288" y="13845"/>
                  </a:lnTo>
                  <a:lnTo>
                    <a:pt x="292" y="13842"/>
                  </a:lnTo>
                  <a:lnTo>
                    <a:pt x="296" y="13840"/>
                  </a:lnTo>
                  <a:lnTo>
                    <a:pt x="300" y="13838"/>
                  </a:lnTo>
                  <a:lnTo>
                    <a:pt x="305" y="13838"/>
                  </a:lnTo>
                  <a:lnTo>
                    <a:pt x="307" y="13806"/>
                  </a:lnTo>
                  <a:lnTo>
                    <a:pt x="311" y="13755"/>
                  </a:lnTo>
                  <a:lnTo>
                    <a:pt x="317" y="13688"/>
                  </a:lnTo>
                  <a:lnTo>
                    <a:pt x="325" y="13613"/>
                  </a:lnTo>
                  <a:lnTo>
                    <a:pt x="335" y="13535"/>
                  </a:lnTo>
                  <a:lnTo>
                    <a:pt x="344" y="13461"/>
                  </a:lnTo>
                  <a:lnTo>
                    <a:pt x="349" y="13428"/>
                  </a:lnTo>
                  <a:lnTo>
                    <a:pt x="353" y="13399"/>
                  </a:lnTo>
                  <a:lnTo>
                    <a:pt x="358" y="13373"/>
                  </a:lnTo>
                  <a:lnTo>
                    <a:pt x="363" y="13353"/>
                  </a:lnTo>
                  <a:lnTo>
                    <a:pt x="355" y="13324"/>
                  </a:lnTo>
                  <a:lnTo>
                    <a:pt x="350" y="13290"/>
                  </a:lnTo>
                  <a:lnTo>
                    <a:pt x="347" y="13252"/>
                  </a:lnTo>
                  <a:lnTo>
                    <a:pt x="347" y="13209"/>
                  </a:lnTo>
                  <a:lnTo>
                    <a:pt x="348" y="13163"/>
                  </a:lnTo>
                  <a:lnTo>
                    <a:pt x="352" y="13113"/>
                  </a:lnTo>
                  <a:lnTo>
                    <a:pt x="356" y="13060"/>
                  </a:lnTo>
                  <a:lnTo>
                    <a:pt x="364" y="13004"/>
                  </a:lnTo>
                  <a:lnTo>
                    <a:pt x="371" y="12945"/>
                  </a:lnTo>
                  <a:lnTo>
                    <a:pt x="380" y="12884"/>
                  </a:lnTo>
                  <a:lnTo>
                    <a:pt x="391" y="12820"/>
                  </a:lnTo>
                  <a:lnTo>
                    <a:pt x="403" y="12755"/>
                  </a:lnTo>
                  <a:lnTo>
                    <a:pt x="428" y="12620"/>
                  </a:lnTo>
                  <a:lnTo>
                    <a:pt x="456" y="12482"/>
                  </a:lnTo>
                  <a:lnTo>
                    <a:pt x="484" y="12341"/>
                  </a:lnTo>
                  <a:lnTo>
                    <a:pt x="513" y="12201"/>
                  </a:lnTo>
                  <a:lnTo>
                    <a:pt x="541" y="12065"/>
                  </a:lnTo>
                  <a:lnTo>
                    <a:pt x="566" y="11933"/>
                  </a:lnTo>
                  <a:lnTo>
                    <a:pt x="577" y="11869"/>
                  </a:lnTo>
                  <a:lnTo>
                    <a:pt x="587" y="11807"/>
                  </a:lnTo>
                  <a:lnTo>
                    <a:pt x="597" y="11748"/>
                  </a:lnTo>
                  <a:lnTo>
                    <a:pt x="605" y="11692"/>
                  </a:lnTo>
                  <a:lnTo>
                    <a:pt x="611" y="11638"/>
                  </a:lnTo>
                  <a:lnTo>
                    <a:pt x="616" y="11589"/>
                  </a:lnTo>
                  <a:lnTo>
                    <a:pt x="620" y="11542"/>
                  </a:lnTo>
                  <a:lnTo>
                    <a:pt x="622" y="11498"/>
                  </a:lnTo>
                  <a:lnTo>
                    <a:pt x="624" y="11403"/>
                  </a:lnTo>
                  <a:lnTo>
                    <a:pt x="628" y="11308"/>
                  </a:lnTo>
                  <a:lnTo>
                    <a:pt x="634" y="11212"/>
                  </a:lnTo>
                  <a:lnTo>
                    <a:pt x="643" y="11117"/>
                  </a:lnTo>
                  <a:lnTo>
                    <a:pt x="654" y="11021"/>
                  </a:lnTo>
                  <a:lnTo>
                    <a:pt x="666" y="10926"/>
                  </a:lnTo>
                  <a:lnTo>
                    <a:pt x="681" y="10830"/>
                  </a:lnTo>
                  <a:lnTo>
                    <a:pt x="697" y="10734"/>
                  </a:lnTo>
                  <a:lnTo>
                    <a:pt x="714" y="10639"/>
                  </a:lnTo>
                  <a:lnTo>
                    <a:pt x="733" y="10542"/>
                  </a:lnTo>
                  <a:lnTo>
                    <a:pt x="751" y="10447"/>
                  </a:lnTo>
                  <a:lnTo>
                    <a:pt x="771" y="10352"/>
                  </a:lnTo>
                  <a:lnTo>
                    <a:pt x="813" y="10160"/>
                  </a:lnTo>
                  <a:lnTo>
                    <a:pt x="856" y="9969"/>
                  </a:lnTo>
                  <a:lnTo>
                    <a:pt x="899" y="9778"/>
                  </a:lnTo>
                  <a:lnTo>
                    <a:pt x="941" y="9590"/>
                  </a:lnTo>
                  <a:lnTo>
                    <a:pt x="961" y="9494"/>
                  </a:lnTo>
                  <a:lnTo>
                    <a:pt x="979" y="9400"/>
                  </a:lnTo>
                  <a:lnTo>
                    <a:pt x="997" y="9306"/>
                  </a:lnTo>
                  <a:lnTo>
                    <a:pt x="1013" y="9212"/>
                  </a:lnTo>
                  <a:lnTo>
                    <a:pt x="1029" y="9119"/>
                  </a:lnTo>
                  <a:lnTo>
                    <a:pt x="1042" y="9025"/>
                  </a:lnTo>
                  <a:lnTo>
                    <a:pt x="1054" y="8933"/>
                  </a:lnTo>
                  <a:lnTo>
                    <a:pt x="1064" y="8841"/>
                  </a:lnTo>
                  <a:lnTo>
                    <a:pt x="1073" y="8749"/>
                  </a:lnTo>
                  <a:lnTo>
                    <a:pt x="1078" y="8656"/>
                  </a:lnTo>
                  <a:lnTo>
                    <a:pt x="1082" y="8565"/>
                  </a:lnTo>
                  <a:lnTo>
                    <a:pt x="1082" y="8474"/>
                  </a:lnTo>
                  <a:lnTo>
                    <a:pt x="1083" y="8412"/>
                  </a:lnTo>
                  <a:lnTo>
                    <a:pt x="1084" y="8335"/>
                  </a:lnTo>
                  <a:lnTo>
                    <a:pt x="1086" y="8246"/>
                  </a:lnTo>
                  <a:lnTo>
                    <a:pt x="1090" y="8145"/>
                  </a:lnTo>
                  <a:lnTo>
                    <a:pt x="1094" y="8037"/>
                  </a:lnTo>
                  <a:lnTo>
                    <a:pt x="1099" y="7923"/>
                  </a:lnTo>
                  <a:lnTo>
                    <a:pt x="1106" y="7806"/>
                  </a:lnTo>
                  <a:lnTo>
                    <a:pt x="1113" y="7688"/>
                  </a:lnTo>
                  <a:lnTo>
                    <a:pt x="1121" y="7571"/>
                  </a:lnTo>
                  <a:lnTo>
                    <a:pt x="1131" y="7457"/>
                  </a:lnTo>
                  <a:lnTo>
                    <a:pt x="1141" y="7348"/>
                  </a:lnTo>
                  <a:lnTo>
                    <a:pt x="1152" y="7248"/>
                  </a:lnTo>
                  <a:lnTo>
                    <a:pt x="1159" y="7202"/>
                  </a:lnTo>
                  <a:lnTo>
                    <a:pt x="1165" y="7158"/>
                  </a:lnTo>
                  <a:lnTo>
                    <a:pt x="1172" y="7117"/>
                  </a:lnTo>
                  <a:lnTo>
                    <a:pt x="1178" y="7079"/>
                  </a:lnTo>
                  <a:lnTo>
                    <a:pt x="1186" y="7046"/>
                  </a:lnTo>
                  <a:lnTo>
                    <a:pt x="1193" y="7017"/>
                  </a:lnTo>
                  <a:lnTo>
                    <a:pt x="1201" y="6991"/>
                  </a:lnTo>
                  <a:lnTo>
                    <a:pt x="1209" y="6970"/>
                  </a:lnTo>
                  <a:lnTo>
                    <a:pt x="1195" y="6911"/>
                  </a:lnTo>
                  <a:lnTo>
                    <a:pt x="1183" y="6848"/>
                  </a:lnTo>
                  <a:lnTo>
                    <a:pt x="1174" y="6782"/>
                  </a:lnTo>
                  <a:lnTo>
                    <a:pt x="1167" y="6711"/>
                  </a:lnTo>
                  <a:lnTo>
                    <a:pt x="1163" y="6639"/>
                  </a:lnTo>
                  <a:lnTo>
                    <a:pt x="1161" y="6564"/>
                  </a:lnTo>
                  <a:lnTo>
                    <a:pt x="1161" y="6486"/>
                  </a:lnTo>
                  <a:lnTo>
                    <a:pt x="1162" y="6407"/>
                  </a:lnTo>
                  <a:lnTo>
                    <a:pt x="1166" y="6325"/>
                  </a:lnTo>
                  <a:lnTo>
                    <a:pt x="1171" y="6244"/>
                  </a:lnTo>
                  <a:lnTo>
                    <a:pt x="1178" y="6159"/>
                  </a:lnTo>
                  <a:lnTo>
                    <a:pt x="1187" y="6073"/>
                  </a:lnTo>
                  <a:lnTo>
                    <a:pt x="1196" y="5987"/>
                  </a:lnTo>
                  <a:lnTo>
                    <a:pt x="1207" y="5901"/>
                  </a:lnTo>
                  <a:lnTo>
                    <a:pt x="1219" y="5814"/>
                  </a:lnTo>
                  <a:lnTo>
                    <a:pt x="1232" y="5728"/>
                  </a:lnTo>
                  <a:lnTo>
                    <a:pt x="1246" y="5641"/>
                  </a:lnTo>
                  <a:lnTo>
                    <a:pt x="1260" y="5555"/>
                  </a:lnTo>
                  <a:lnTo>
                    <a:pt x="1276" y="5470"/>
                  </a:lnTo>
                  <a:lnTo>
                    <a:pt x="1291" y="5386"/>
                  </a:lnTo>
                  <a:lnTo>
                    <a:pt x="1308" y="5303"/>
                  </a:lnTo>
                  <a:lnTo>
                    <a:pt x="1324" y="5221"/>
                  </a:lnTo>
                  <a:lnTo>
                    <a:pt x="1341" y="5141"/>
                  </a:lnTo>
                  <a:lnTo>
                    <a:pt x="1358" y="5064"/>
                  </a:lnTo>
                  <a:lnTo>
                    <a:pt x="1391" y="4915"/>
                  </a:lnTo>
                  <a:lnTo>
                    <a:pt x="1423" y="4778"/>
                  </a:lnTo>
                  <a:lnTo>
                    <a:pt x="1453" y="4654"/>
                  </a:lnTo>
                  <a:lnTo>
                    <a:pt x="1480" y="4545"/>
                  </a:lnTo>
                  <a:lnTo>
                    <a:pt x="1490" y="4503"/>
                  </a:lnTo>
                  <a:lnTo>
                    <a:pt x="1502" y="4447"/>
                  </a:lnTo>
                  <a:lnTo>
                    <a:pt x="1513" y="4379"/>
                  </a:lnTo>
                  <a:lnTo>
                    <a:pt x="1526" y="4302"/>
                  </a:lnTo>
                  <a:lnTo>
                    <a:pt x="1539" y="4217"/>
                  </a:lnTo>
                  <a:lnTo>
                    <a:pt x="1551" y="4127"/>
                  </a:lnTo>
                  <a:lnTo>
                    <a:pt x="1564" y="4034"/>
                  </a:lnTo>
                  <a:lnTo>
                    <a:pt x="1576" y="3938"/>
                  </a:lnTo>
                  <a:lnTo>
                    <a:pt x="1587" y="3842"/>
                  </a:lnTo>
                  <a:lnTo>
                    <a:pt x="1596" y="3748"/>
                  </a:lnTo>
                  <a:lnTo>
                    <a:pt x="1604" y="3658"/>
                  </a:lnTo>
                  <a:lnTo>
                    <a:pt x="1610" y="3574"/>
                  </a:lnTo>
                  <a:lnTo>
                    <a:pt x="1615" y="3497"/>
                  </a:lnTo>
                  <a:lnTo>
                    <a:pt x="1617" y="3429"/>
                  </a:lnTo>
                  <a:lnTo>
                    <a:pt x="1617" y="3399"/>
                  </a:lnTo>
                  <a:lnTo>
                    <a:pt x="1616" y="3373"/>
                  </a:lnTo>
                  <a:lnTo>
                    <a:pt x="1615" y="3350"/>
                  </a:lnTo>
                  <a:lnTo>
                    <a:pt x="1611" y="3330"/>
                  </a:lnTo>
                  <a:lnTo>
                    <a:pt x="1611" y="3309"/>
                  </a:lnTo>
                  <a:lnTo>
                    <a:pt x="1611" y="3285"/>
                  </a:lnTo>
                  <a:lnTo>
                    <a:pt x="1614" y="3257"/>
                  </a:lnTo>
                  <a:lnTo>
                    <a:pt x="1616" y="3227"/>
                  </a:lnTo>
                  <a:lnTo>
                    <a:pt x="1623" y="3157"/>
                  </a:lnTo>
                  <a:lnTo>
                    <a:pt x="1634" y="3078"/>
                  </a:lnTo>
                  <a:lnTo>
                    <a:pt x="1647" y="2991"/>
                  </a:lnTo>
                  <a:lnTo>
                    <a:pt x="1662" y="2898"/>
                  </a:lnTo>
                  <a:lnTo>
                    <a:pt x="1679" y="2801"/>
                  </a:lnTo>
                  <a:lnTo>
                    <a:pt x="1696" y="2703"/>
                  </a:lnTo>
                  <a:lnTo>
                    <a:pt x="1715" y="2603"/>
                  </a:lnTo>
                  <a:lnTo>
                    <a:pt x="1734" y="2506"/>
                  </a:lnTo>
                  <a:lnTo>
                    <a:pt x="1752" y="2411"/>
                  </a:lnTo>
                  <a:lnTo>
                    <a:pt x="1771" y="2322"/>
                  </a:lnTo>
                  <a:lnTo>
                    <a:pt x="1788" y="2241"/>
                  </a:lnTo>
                  <a:lnTo>
                    <a:pt x="1802" y="2168"/>
                  </a:lnTo>
                  <a:lnTo>
                    <a:pt x="1815" y="2106"/>
                  </a:lnTo>
                  <a:lnTo>
                    <a:pt x="1825" y="2057"/>
                  </a:lnTo>
                  <a:lnTo>
                    <a:pt x="1823" y="2048"/>
                  </a:lnTo>
                  <a:lnTo>
                    <a:pt x="1821" y="2038"/>
                  </a:lnTo>
                  <a:lnTo>
                    <a:pt x="1818" y="2027"/>
                  </a:lnTo>
                  <a:lnTo>
                    <a:pt x="1814" y="2015"/>
                  </a:lnTo>
                  <a:lnTo>
                    <a:pt x="1804" y="1990"/>
                  </a:lnTo>
                  <a:lnTo>
                    <a:pt x="1794" y="1965"/>
                  </a:lnTo>
                  <a:lnTo>
                    <a:pt x="1785" y="1939"/>
                  </a:lnTo>
                  <a:lnTo>
                    <a:pt x="1775" y="1915"/>
                  </a:lnTo>
                  <a:lnTo>
                    <a:pt x="1772" y="1903"/>
                  </a:lnTo>
                  <a:lnTo>
                    <a:pt x="1770" y="1892"/>
                  </a:lnTo>
                  <a:lnTo>
                    <a:pt x="1768" y="1882"/>
                  </a:lnTo>
                  <a:lnTo>
                    <a:pt x="1767" y="1873"/>
                  </a:lnTo>
                  <a:lnTo>
                    <a:pt x="1748" y="1872"/>
                  </a:lnTo>
                  <a:lnTo>
                    <a:pt x="1729" y="1868"/>
                  </a:lnTo>
                  <a:lnTo>
                    <a:pt x="1711" y="1862"/>
                  </a:lnTo>
                  <a:lnTo>
                    <a:pt x="1693" y="1853"/>
                  </a:lnTo>
                  <a:lnTo>
                    <a:pt x="1677" y="1844"/>
                  </a:lnTo>
                  <a:lnTo>
                    <a:pt x="1661" y="1833"/>
                  </a:lnTo>
                  <a:lnTo>
                    <a:pt x="1647" y="1820"/>
                  </a:lnTo>
                  <a:lnTo>
                    <a:pt x="1632" y="1808"/>
                  </a:lnTo>
                  <a:lnTo>
                    <a:pt x="1606" y="1782"/>
                  </a:lnTo>
                  <a:lnTo>
                    <a:pt x="1584" y="1758"/>
                  </a:lnTo>
                  <a:lnTo>
                    <a:pt x="1572" y="1748"/>
                  </a:lnTo>
                  <a:lnTo>
                    <a:pt x="1563" y="1738"/>
                  </a:lnTo>
                  <a:lnTo>
                    <a:pt x="1553" y="1732"/>
                  </a:lnTo>
                  <a:lnTo>
                    <a:pt x="1546" y="1727"/>
                  </a:lnTo>
                  <a:lnTo>
                    <a:pt x="1538" y="1726"/>
                  </a:lnTo>
                  <a:lnTo>
                    <a:pt x="1532" y="1727"/>
                  </a:lnTo>
                  <a:lnTo>
                    <a:pt x="1525" y="1731"/>
                  </a:lnTo>
                  <a:lnTo>
                    <a:pt x="1520" y="1739"/>
                  </a:lnTo>
                  <a:lnTo>
                    <a:pt x="1516" y="1752"/>
                  </a:lnTo>
                  <a:lnTo>
                    <a:pt x="1512" y="1769"/>
                  </a:lnTo>
                  <a:lnTo>
                    <a:pt x="1509" y="1791"/>
                  </a:lnTo>
                  <a:lnTo>
                    <a:pt x="1507" y="1818"/>
                  </a:lnTo>
                  <a:lnTo>
                    <a:pt x="1505" y="1850"/>
                  </a:lnTo>
                  <a:lnTo>
                    <a:pt x="1505" y="1889"/>
                  </a:lnTo>
                  <a:lnTo>
                    <a:pt x="1504" y="1933"/>
                  </a:lnTo>
                  <a:lnTo>
                    <a:pt x="1505" y="1985"/>
                  </a:lnTo>
                  <a:lnTo>
                    <a:pt x="1508" y="2110"/>
                  </a:lnTo>
                  <a:lnTo>
                    <a:pt x="1514" y="2264"/>
                  </a:lnTo>
                  <a:lnTo>
                    <a:pt x="1514" y="2302"/>
                  </a:lnTo>
                  <a:lnTo>
                    <a:pt x="1511" y="2345"/>
                  </a:lnTo>
                  <a:lnTo>
                    <a:pt x="1507" y="2389"/>
                  </a:lnTo>
                  <a:lnTo>
                    <a:pt x="1502" y="2438"/>
                  </a:lnTo>
                  <a:lnTo>
                    <a:pt x="1495" y="2488"/>
                  </a:lnTo>
                  <a:lnTo>
                    <a:pt x="1488" y="2540"/>
                  </a:lnTo>
                  <a:lnTo>
                    <a:pt x="1481" y="2593"/>
                  </a:lnTo>
                  <a:lnTo>
                    <a:pt x="1475" y="2646"/>
                  </a:lnTo>
                  <a:lnTo>
                    <a:pt x="1468" y="2697"/>
                  </a:lnTo>
                  <a:lnTo>
                    <a:pt x="1464" y="2749"/>
                  </a:lnTo>
                  <a:lnTo>
                    <a:pt x="1463" y="2774"/>
                  </a:lnTo>
                  <a:lnTo>
                    <a:pt x="1462" y="2798"/>
                  </a:lnTo>
                  <a:lnTo>
                    <a:pt x="1461" y="2822"/>
                  </a:lnTo>
                  <a:lnTo>
                    <a:pt x="1461" y="2846"/>
                  </a:lnTo>
                  <a:lnTo>
                    <a:pt x="1462" y="2867"/>
                  </a:lnTo>
                  <a:lnTo>
                    <a:pt x="1463" y="2889"/>
                  </a:lnTo>
                  <a:lnTo>
                    <a:pt x="1466" y="2910"/>
                  </a:lnTo>
                  <a:lnTo>
                    <a:pt x="1469" y="2930"/>
                  </a:lnTo>
                  <a:lnTo>
                    <a:pt x="1473" y="2948"/>
                  </a:lnTo>
                  <a:lnTo>
                    <a:pt x="1478" y="2965"/>
                  </a:lnTo>
                  <a:lnTo>
                    <a:pt x="1484" y="2982"/>
                  </a:lnTo>
                  <a:lnTo>
                    <a:pt x="1491" y="2996"/>
                  </a:lnTo>
                  <a:lnTo>
                    <a:pt x="1490" y="3056"/>
                  </a:lnTo>
                  <a:lnTo>
                    <a:pt x="1488" y="3116"/>
                  </a:lnTo>
                  <a:lnTo>
                    <a:pt x="1485" y="3179"/>
                  </a:lnTo>
                  <a:lnTo>
                    <a:pt x="1480" y="3243"/>
                  </a:lnTo>
                  <a:lnTo>
                    <a:pt x="1473" y="3307"/>
                  </a:lnTo>
                  <a:lnTo>
                    <a:pt x="1464" y="3372"/>
                  </a:lnTo>
                  <a:lnTo>
                    <a:pt x="1455" y="3439"/>
                  </a:lnTo>
                  <a:lnTo>
                    <a:pt x="1445" y="3506"/>
                  </a:lnTo>
                  <a:lnTo>
                    <a:pt x="1432" y="3574"/>
                  </a:lnTo>
                  <a:lnTo>
                    <a:pt x="1420" y="3642"/>
                  </a:lnTo>
                  <a:lnTo>
                    <a:pt x="1406" y="3710"/>
                  </a:lnTo>
                  <a:lnTo>
                    <a:pt x="1392" y="3780"/>
                  </a:lnTo>
                  <a:lnTo>
                    <a:pt x="1361" y="3918"/>
                  </a:lnTo>
                  <a:lnTo>
                    <a:pt x="1329" y="4056"/>
                  </a:lnTo>
                  <a:lnTo>
                    <a:pt x="1294" y="4193"/>
                  </a:lnTo>
                  <a:lnTo>
                    <a:pt x="1260" y="4328"/>
                  </a:lnTo>
                  <a:lnTo>
                    <a:pt x="1226" y="4460"/>
                  </a:lnTo>
                  <a:lnTo>
                    <a:pt x="1193" y="4589"/>
                  </a:lnTo>
                  <a:lnTo>
                    <a:pt x="1162" y="4712"/>
                  </a:lnTo>
                  <a:lnTo>
                    <a:pt x="1134" y="4830"/>
                  </a:lnTo>
                  <a:lnTo>
                    <a:pt x="1120" y="4887"/>
                  </a:lnTo>
                  <a:lnTo>
                    <a:pt x="1109" y="4942"/>
                  </a:lnTo>
                  <a:lnTo>
                    <a:pt x="1097" y="4995"/>
                  </a:lnTo>
                  <a:lnTo>
                    <a:pt x="1088" y="5047"/>
                  </a:lnTo>
                  <a:lnTo>
                    <a:pt x="1083" y="5075"/>
                  </a:lnTo>
                  <a:lnTo>
                    <a:pt x="1079" y="5103"/>
                  </a:lnTo>
                  <a:lnTo>
                    <a:pt x="1075" y="5133"/>
                  </a:lnTo>
                  <a:lnTo>
                    <a:pt x="1070" y="5163"/>
                  </a:lnTo>
                  <a:lnTo>
                    <a:pt x="1064" y="5224"/>
                  </a:lnTo>
                  <a:lnTo>
                    <a:pt x="1060" y="5289"/>
                  </a:lnTo>
                  <a:lnTo>
                    <a:pt x="1057" y="5354"/>
                  </a:lnTo>
                  <a:lnTo>
                    <a:pt x="1054" y="5421"/>
                  </a:lnTo>
                  <a:lnTo>
                    <a:pt x="1052" y="5489"/>
                  </a:lnTo>
                  <a:lnTo>
                    <a:pt x="1051" y="5556"/>
                  </a:lnTo>
                  <a:lnTo>
                    <a:pt x="1049" y="5625"/>
                  </a:lnTo>
                  <a:lnTo>
                    <a:pt x="1047" y="5692"/>
                  </a:lnTo>
                  <a:lnTo>
                    <a:pt x="1045" y="5759"/>
                  </a:lnTo>
                  <a:lnTo>
                    <a:pt x="1041" y="5825"/>
                  </a:lnTo>
                  <a:lnTo>
                    <a:pt x="1036" y="5888"/>
                  </a:lnTo>
                  <a:lnTo>
                    <a:pt x="1030" y="5950"/>
                  </a:lnTo>
                  <a:lnTo>
                    <a:pt x="1027" y="5980"/>
                  </a:lnTo>
                  <a:lnTo>
                    <a:pt x="1023" y="6010"/>
                  </a:lnTo>
                  <a:lnTo>
                    <a:pt x="1019" y="6038"/>
                  </a:lnTo>
                  <a:lnTo>
                    <a:pt x="1013" y="6066"/>
                  </a:lnTo>
                  <a:lnTo>
                    <a:pt x="1023" y="6110"/>
                  </a:lnTo>
                  <a:lnTo>
                    <a:pt x="1030" y="6159"/>
                  </a:lnTo>
                  <a:lnTo>
                    <a:pt x="1036" y="6213"/>
                  </a:lnTo>
                  <a:lnTo>
                    <a:pt x="1040" y="6273"/>
                  </a:lnTo>
                  <a:lnTo>
                    <a:pt x="1042" y="6336"/>
                  </a:lnTo>
                  <a:lnTo>
                    <a:pt x="1045" y="6403"/>
                  </a:lnTo>
                  <a:lnTo>
                    <a:pt x="1045" y="6475"/>
                  </a:lnTo>
                  <a:lnTo>
                    <a:pt x="1044" y="6549"/>
                  </a:lnTo>
                  <a:lnTo>
                    <a:pt x="1040" y="6627"/>
                  </a:lnTo>
                  <a:lnTo>
                    <a:pt x="1037" y="6708"/>
                  </a:lnTo>
                  <a:lnTo>
                    <a:pt x="1033" y="6791"/>
                  </a:lnTo>
                  <a:lnTo>
                    <a:pt x="1028" y="6875"/>
                  </a:lnTo>
                  <a:lnTo>
                    <a:pt x="1022" y="6961"/>
                  </a:lnTo>
                  <a:lnTo>
                    <a:pt x="1014" y="7048"/>
                  </a:lnTo>
                  <a:lnTo>
                    <a:pt x="1007" y="7136"/>
                  </a:lnTo>
                  <a:lnTo>
                    <a:pt x="999" y="7224"/>
                  </a:lnTo>
                  <a:lnTo>
                    <a:pt x="981" y="7402"/>
                  </a:lnTo>
                  <a:lnTo>
                    <a:pt x="963" y="7575"/>
                  </a:lnTo>
                  <a:lnTo>
                    <a:pt x="943" y="7743"/>
                  </a:lnTo>
                  <a:lnTo>
                    <a:pt x="924" y="7901"/>
                  </a:lnTo>
                  <a:lnTo>
                    <a:pt x="906" y="8048"/>
                  </a:lnTo>
                  <a:lnTo>
                    <a:pt x="889" y="8180"/>
                  </a:lnTo>
                  <a:lnTo>
                    <a:pt x="875" y="8294"/>
                  </a:lnTo>
                  <a:lnTo>
                    <a:pt x="863" y="8388"/>
                  </a:lnTo>
                  <a:lnTo>
                    <a:pt x="852" y="8461"/>
                  </a:lnTo>
                  <a:lnTo>
                    <a:pt x="840" y="8534"/>
                  </a:lnTo>
                  <a:lnTo>
                    <a:pt x="828" y="8608"/>
                  </a:lnTo>
                  <a:lnTo>
                    <a:pt x="814" y="8682"/>
                  </a:lnTo>
                  <a:lnTo>
                    <a:pt x="785" y="8831"/>
                  </a:lnTo>
                  <a:lnTo>
                    <a:pt x="755" y="8981"/>
                  </a:lnTo>
                  <a:lnTo>
                    <a:pt x="723" y="9132"/>
                  </a:lnTo>
                  <a:lnTo>
                    <a:pt x="691" y="9284"/>
                  </a:lnTo>
                  <a:lnTo>
                    <a:pt x="658" y="9436"/>
                  </a:lnTo>
                  <a:lnTo>
                    <a:pt x="625" y="9590"/>
                  </a:lnTo>
                  <a:lnTo>
                    <a:pt x="593" y="9744"/>
                  </a:lnTo>
                  <a:lnTo>
                    <a:pt x="562" y="9897"/>
                  </a:lnTo>
                  <a:lnTo>
                    <a:pt x="547" y="9975"/>
                  </a:lnTo>
                  <a:lnTo>
                    <a:pt x="533" y="10053"/>
                  </a:lnTo>
                  <a:lnTo>
                    <a:pt x="518" y="10131"/>
                  </a:lnTo>
                  <a:lnTo>
                    <a:pt x="505" y="10207"/>
                  </a:lnTo>
                  <a:lnTo>
                    <a:pt x="492" y="10285"/>
                  </a:lnTo>
                  <a:lnTo>
                    <a:pt x="480" y="10363"/>
                  </a:lnTo>
                  <a:lnTo>
                    <a:pt x="468" y="10441"/>
                  </a:lnTo>
                  <a:lnTo>
                    <a:pt x="458" y="10519"/>
                  </a:lnTo>
                  <a:lnTo>
                    <a:pt x="449" y="10597"/>
                  </a:lnTo>
                  <a:lnTo>
                    <a:pt x="440" y="10675"/>
                  </a:lnTo>
                  <a:lnTo>
                    <a:pt x="432" y="10753"/>
                  </a:lnTo>
                  <a:lnTo>
                    <a:pt x="426" y="10831"/>
                  </a:lnTo>
                  <a:lnTo>
                    <a:pt x="411" y="11030"/>
                  </a:lnTo>
                  <a:lnTo>
                    <a:pt x="394" y="11230"/>
                  </a:lnTo>
                  <a:lnTo>
                    <a:pt x="375" y="11430"/>
                  </a:lnTo>
                  <a:lnTo>
                    <a:pt x="355" y="11630"/>
                  </a:lnTo>
                  <a:lnTo>
                    <a:pt x="334" y="11829"/>
                  </a:lnTo>
                  <a:lnTo>
                    <a:pt x="310" y="12029"/>
                  </a:lnTo>
                  <a:lnTo>
                    <a:pt x="285" y="12228"/>
                  </a:lnTo>
                  <a:lnTo>
                    <a:pt x="258" y="12426"/>
                  </a:lnTo>
                  <a:lnTo>
                    <a:pt x="230" y="12624"/>
                  </a:lnTo>
                  <a:lnTo>
                    <a:pt x="201" y="12822"/>
                  </a:lnTo>
                  <a:lnTo>
                    <a:pt x="170" y="13020"/>
                  </a:lnTo>
                  <a:lnTo>
                    <a:pt x="139" y="13215"/>
                  </a:lnTo>
                  <a:lnTo>
                    <a:pt x="106" y="13411"/>
                  </a:lnTo>
                  <a:lnTo>
                    <a:pt x="71" y="13606"/>
                  </a:lnTo>
                  <a:lnTo>
                    <a:pt x="36" y="13800"/>
                  </a:lnTo>
                  <a:lnTo>
                    <a:pt x="0" y="13993"/>
                  </a:lnTo>
                  <a:lnTo>
                    <a:pt x="23" y="14091"/>
                  </a:lnTo>
                  <a:lnTo>
                    <a:pt x="46" y="14114"/>
                  </a:lnTo>
                  <a:lnTo>
                    <a:pt x="72" y="14138"/>
                  </a:lnTo>
                  <a:lnTo>
                    <a:pt x="99" y="14163"/>
                  </a:lnTo>
                  <a:lnTo>
                    <a:pt x="127" y="14188"/>
                  </a:lnTo>
                  <a:lnTo>
                    <a:pt x="156" y="14212"/>
                  </a:lnTo>
                  <a:lnTo>
                    <a:pt x="186" y="14236"/>
                  </a:lnTo>
                  <a:lnTo>
                    <a:pt x="217" y="14259"/>
                  </a:lnTo>
                  <a:lnTo>
                    <a:pt x="249" y="14280"/>
                  </a:lnTo>
                  <a:lnTo>
                    <a:pt x="282" y="14301"/>
                  </a:lnTo>
                  <a:lnTo>
                    <a:pt x="315" y="14320"/>
                  </a:lnTo>
                  <a:lnTo>
                    <a:pt x="349" y="14336"/>
                  </a:lnTo>
                  <a:lnTo>
                    <a:pt x="383" y="14350"/>
                  </a:lnTo>
                  <a:lnTo>
                    <a:pt x="419" y="14361"/>
                  </a:lnTo>
                  <a:lnTo>
                    <a:pt x="453" y="14370"/>
                  </a:lnTo>
                  <a:lnTo>
                    <a:pt x="488" y="14375"/>
                  </a:lnTo>
                  <a:lnTo>
                    <a:pt x="523" y="14377"/>
                  </a:lnTo>
                  <a:lnTo>
                    <a:pt x="559" y="14374"/>
                  </a:lnTo>
                  <a:lnTo>
                    <a:pt x="595" y="14367"/>
                  </a:lnTo>
                  <a:lnTo>
                    <a:pt x="629" y="14356"/>
                  </a:lnTo>
                  <a:lnTo>
                    <a:pt x="664" y="14340"/>
                  </a:lnTo>
                  <a:lnTo>
                    <a:pt x="698" y="14320"/>
                  </a:lnTo>
                  <a:lnTo>
                    <a:pt x="733" y="14293"/>
                  </a:lnTo>
                  <a:lnTo>
                    <a:pt x="766" y="14261"/>
                  </a:lnTo>
                  <a:lnTo>
                    <a:pt x="799" y="14222"/>
                  </a:lnTo>
                  <a:lnTo>
                    <a:pt x="830" y="14178"/>
                  </a:lnTo>
                  <a:lnTo>
                    <a:pt x="861" y="14127"/>
                  </a:lnTo>
                  <a:lnTo>
                    <a:pt x="891" y="14069"/>
                  </a:lnTo>
                  <a:lnTo>
                    <a:pt x="920" y="14003"/>
                  </a:lnTo>
                  <a:lnTo>
                    <a:pt x="948" y="13931"/>
                  </a:lnTo>
                  <a:lnTo>
                    <a:pt x="975" y="13850"/>
                  </a:lnTo>
                  <a:lnTo>
                    <a:pt x="1001" y="13762"/>
                  </a:lnTo>
                  <a:lnTo>
                    <a:pt x="1025" y="13664"/>
                  </a:lnTo>
                  <a:lnTo>
                    <a:pt x="1050" y="13550"/>
                  </a:lnTo>
                  <a:lnTo>
                    <a:pt x="1073" y="13433"/>
                  </a:lnTo>
                  <a:lnTo>
                    <a:pt x="1093" y="13315"/>
                  </a:lnTo>
                  <a:lnTo>
                    <a:pt x="1112" y="13196"/>
                  </a:lnTo>
                  <a:lnTo>
                    <a:pt x="1130" y="13074"/>
                  </a:lnTo>
                  <a:lnTo>
                    <a:pt x="1145" y="12951"/>
                  </a:lnTo>
                  <a:lnTo>
                    <a:pt x="1160" y="12828"/>
                  </a:lnTo>
                  <a:lnTo>
                    <a:pt x="1173" y="12702"/>
                  </a:lnTo>
                  <a:lnTo>
                    <a:pt x="1184" y="12576"/>
                  </a:lnTo>
                  <a:lnTo>
                    <a:pt x="1196" y="12448"/>
                  </a:lnTo>
                  <a:lnTo>
                    <a:pt x="1206" y="12321"/>
                  </a:lnTo>
                  <a:lnTo>
                    <a:pt x="1216" y="12192"/>
                  </a:lnTo>
                  <a:lnTo>
                    <a:pt x="1232" y="11933"/>
                  </a:lnTo>
                  <a:lnTo>
                    <a:pt x="1248" y="11673"/>
                  </a:lnTo>
                  <a:lnTo>
                    <a:pt x="1263" y="11412"/>
                  </a:lnTo>
                  <a:lnTo>
                    <a:pt x="1279" y="11153"/>
                  </a:lnTo>
                  <a:lnTo>
                    <a:pt x="1287" y="11025"/>
                  </a:lnTo>
                  <a:lnTo>
                    <a:pt x="1296" y="10896"/>
                  </a:lnTo>
                  <a:lnTo>
                    <a:pt x="1306" y="10768"/>
                  </a:lnTo>
                  <a:lnTo>
                    <a:pt x="1316" y="10641"/>
                  </a:lnTo>
                  <a:lnTo>
                    <a:pt x="1327" y="10515"/>
                  </a:lnTo>
                  <a:lnTo>
                    <a:pt x="1340" y="10391"/>
                  </a:lnTo>
                  <a:lnTo>
                    <a:pt x="1353" y="10267"/>
                  </a:lnTo>
                  <a:lnTo>
                    <a:pt x="1369" y="10145"/>
                  </a:lnTo>
                  <a:lnTo>
                    <a:pt x="1386" y="10024"/>
                  </a:lnTo>
                  <a:lnTo>
                    <a:pt x="1403" y="9905"/>
                  </a:lnTo>
                  <a:lnTo>
                    <a:pt x="1423" y="9788"/>
                  </a:lnTo>
                  <a:lnTo>
                    <a:pt x="1445" y="9672"/>
                  </a:lnTo>
                  <a:lnTo>
                    <a:pt x="1461" y="9588"/>
                  </a:lnTo>
                  <a:lnTo>
                    <a:pt x="1478" y="9501"/>
                  </a:lnTo>
                  <a:lnTo>
                    <a:pt x="1493" y="9411"/>
                  </a:lnTo>
                  <a:lnTo>
                    <a:pt x="1509" y="9319"/>
                  </a:lnTo>
                  <a:lnTo>
                    <a:pt x="1523" y="9225"/>
                  </a:lnTo>
                  <a:lnTo>
                    <a:pt x="1538" y="9127"/>
                  </a:lnTo>
                  <a:lnTo>
                    <a:pt x="1552" y="9029"/>
                  </a:lnTo>
                  <a:lnTo>
                    <a:pt x="1566" y="8928"/>
                  </a:lnTo>
                  <a:lnTo>
                    <a:pt x="1579" y="8825"/>
                  </a:lnTo>
                  <a:lnTo>
                    <a:pt x="1592" y="8721"/>
                  </a:lnTo>
                  <a:lnTo>
                    <a:pt x="1604" y="8615"/>
                  </a:lnTo>
                  <a:lnTo>
                    <a:pt x="1616" y="8508"/>
                  </a:lnTo>
                  <a:lnTo>
                    <a:pt x="1627" y="8400"/>
                  </a:lnTo>
                  <a:lnTo>
                    <a:pt x="1638" y="8291"/>
                  </a:lnTo>
                  <a:lnTo>
                    <a:pt x="1648" y="8182"/>
                  </a:lnTo>
                  <a:lnTo>
                    <a:pt x="1658" y="8073"/>
                  </a:lnTo>
                  <a:lnTo>
                    <a:pt x="1667" y="7962"/>
                  </a:lnTo>
                  <a:lnTo>
                    <a:pt x="1676" y="7852"/>
                  </a:lnTo>
                  <a:lnTo>
                    <a:pt x="1684" y="7741"/>
                  </a:lnTo>
                  <a:lnTo>
                    <a:pt x="1691" y="7631"/>
                  </a:lnTo>
                  <a:lnTo>
                    <a:pt x="1699" y="7521"/>
                  </a:lnTo>
                  <a:lnTo>
                    <a:pt x="1705" y="7411"/>
                  </a:lnTo>
                  <a:lnTo>
                    <a:pt x="1710" y="7302"/>
                  </a:lnTo>
                  <a:lnTo>
                    <a:pt x="1715" y="7193"/>
                  </a:lnTo>
                  <a:lnTo>
                    <a:pt x="1720" y="7087"/>
                  </a:lnTo>
                  <a:lnTo>
                    <a:pt x="1723" y="6981"/>
                  </a:lnTo>
                  <a:lnTo>
                    <a:pt x="1727" y="6876"/>
                  </a:lnTo>
                  <a:lnTo>
                    <a:pt x="1730" y="6772"/>
                  </a:lnTo>
                  <a:lnTo>
                    <a:pt x="1732" y="6671"/>
                  </a:lnTo>
                  <a:lnTo>
                    <a:pt x="1733" y="6571"/>
                  </a:lnTo>
                  <a:lnTo>
                    <a:pt x="1733" y="6473"/>
                  </a:lnTo>
                  <a:lnTo>
                    <a:pt x="1733" y="6377"/>
                  </a:lnTo>
                  <a:lnTo>
                    <a:pt x="1732" y="6340"/>
                  </a:lnTo>
                  <a:lnTo>
                    <a:pt x="1733" y="6298"/>
                  </a:lnTo>
                  <a:lnTo>
                    <a:pt x="1735" y="6254"/>
                  </a:lnTo>
                  <a:lnTo>
                    <a:pt x="1738" y="6207"/>
                  </a:lnTo>
                  <a:lnTo>
                    <a:pt x="1743" y="6157"/>
                  </a:lnTo>
                  <a:lnTo>
                    <a:pt x="1748" y="6106"/>
                  </a:lnTo>
                  <a:lnTo>
                    <a:pt x="1756" y="6052"/>
                  </a:lnTo>
                  <a:lnTo>
                    <a:pt x="1763" y="5995"/>
                  </a:lnTo>
                  <a:lnTo>
                    <a:pt x="1780" y="5879"/>
                  </a:lnTo>
                  <a:lnTo>
                    <a:pt x="1800" y="5756"/>
                  </a:lnTo>
                  <a:lnTo>
                    <a:pt x="1820" y="5632"/>
                  </a:lnTo>
                  <a:lnTo>
                    <a:pt x="1841" y="5505"/>
                  </a:lnTo>
                  <a:lnTo>
                    <a:pt x="1861" y="5380"/>
                  </a:lnTo>
                  <a:lnTo>
                    <a:pt x="1879" y="5256"/>
                  </a:lnTo>
                  <a:lnTo>
                    <a:pt x="1887" y="5197"/>
                  </a:lnTo>
                  <a:lnTo>
                    <a:pt x="1895" y="5138"/>
                  </a:lnTo>
                  <a:lnTo>
                    <a:pt x="1902" y="5081"/>
                  </a:lnTo>
                  <a:lnTo>
                    <a:pt x="1908" y="5025"/>
                  </a:lnTo>
                  <a:lnTo>
                    <a:pt x="1912" y="4972"/>
                  </a:lnTo>
                  <a:lnTo>
                    <a:pt x="1916" y="4920"/>
                  </a:lnTo>
                  <a:lnTo>
                    <a:pt x="1918" y="4872"/>
                  </a:lnTo>
                  <a:lnTo>
                    <a:pt x="1919" y="4826"/>
                  </a:lnTo>
                  <a:lnTo>
                    <a:pt x="1918" y="4783"/>
                  </a:lnTo>
                  <a:lnTo>
                    <a:pt x="1916" y="4742"/>
                  </a:lnTo>
                  <a:lnTo>
                    <a:pt x="1912" y="4706"/>
                  </a:lnTo>
                  <a:lnTo>
                    <a:pt x="1906" y="4673"/>
                  </a:lnTo>
                  <a:lnTo>
                    <a:pt x="1921" y="4588"/>
                  </a:lnTo>
                  <a:lnTo>
                    <a:pt x="1937" y="4497"/>
                  </a:lnTo>
                  <a:lnTo>
                    <a:pt x="1951" y="4404"/>
                  </a:lnTo>
                  <a:lnTo>
                    <a:pt x="1967" y="4306"/>
                  </a:lnTo>
                  <a:lnTo>
                    <a:pt x="1995" y="4098"/>
                  </a:lnTo>
                  <a:lnTo>
                    <a:pt x="2024" y="3879"/>
                  </a:lnTo>
                  <a:lnTo>
                    <a:pt x="2053" y="3653"/>
                  </a:lnTo>
                  <a:lnTo>
                    <a:pt x="2083" y="3423"/>
                  </a:lnTo>
                  <a:lnTo>
                    <a:pt x="2099" y="3307"/>
                  </a:lnTo>
                  <a:lnTo>
                    <a:pt x="2115" y="3192"/>
                  </a:lnTo>
                  <a:lnTo>
                    <a:pt x="2132" y="3077"/>
                  </a:lnTo>
                  <a:lnTo>
                    <a:pt x="2149" y="2963"/>
                  </a:lnTo>
                  <a:lnTo>
                    <a:pt x="2168" y="2851"/>
                  </a:lnTo>
                  <a:lnTo>
                    <a:pt x="2187" y="2740"/>
                  </a:lnTo>
                  <a:lnTo>
                    <a:pt x="2207" y="2632"/>
                  </a:lnTo>
                  <a:lnTo>
                    <a:pt x="2228" y="2527"/>
                  </a:lnTo>
                  <a:lnTo>
                    <a:pt x="2251" y="2426"/>
                  </a:lnTo>
                  <a:lnTo>
                    <a:pt x="2275" y="2327"/>
                  </a:lnTo>
                  <a:lnTo>
                    <a:pt x="2300" y="2233"/>
                  </a:lnTo>
                  <a:lnTo>
                    <a:pt x="2326" y="2144"/>
                  </a:lnTo>
                  <a:lnTo>
                    <a:pt x="2354" y="2059"/>
                  </a:lnTo>
                  <a:lnTo>
                    <a:pt x="2383" y="1980"/>
                  </a:lnTo>
                  <a:lnTo>
                    <a:pt x="2414" y="1906"/>
                  </a:lnTo>
                  <a:lnTo>
                    <a:pt x="2447" y="1839"/>
                  </a:lnTo>
                  <a:lnTo>
                    <a:pt x="2481" y="1779"/>
                  </a:lnTo>
                  <a:lnTo>
                    <a:pt x="2517" y="1726"/>
                  </a:lnTo>
                  <a:lnTo>
                    <a:pt x="2556" y="1680"/>
                  </a:lnTo>
                  <a:lnTo>
                    <a:pt x="2596" y="1642"/>
                  </a:lnTo>
                  <a:lnTo>
                    <a:pt x="2657" y="1592"/>
                  </a:lnTo>
                  <a:lnTo>
                    <a:pt x="2714" y="1538"/>
                  </a:lnTo>
                  <a:lnTo>
                    <a:pt x="2768" y="1481"/>
                  </a:lnTo>
                  <a:lnTo>
                    <a:pt x="2818" y="1421"/>
                  </a:lnTo>
                  <a:lnTo>
                    <a:pt x="2865" y="1359"/>
                  </a:lnTo>
                  <a:lnTo>
                    <a:pt x="2906" y="1295"/>
                  </a:lnTo>
                  <a:lnTo>
                    <a:pt x="2944" y="1229"/>
                  </a:lnTo>
                  <a:lnTo>
                    <a:pt x="2979" y="1162"/>
                  </a:lnTo>
                  <a:lnTo>
                    <a:pt x="3008" y="1093"/>
                  </a:lnTo>
                  <a:lnTo>
                    <a:pt x="3034" y="1024"/>
                  </a:lnTo>
                  <a:lnTo>
                    <a:pt x="3054" y="954"/>
                  </a:lnTo>
                  <a:lnTo>
                    <a:pt x="3070" y="885"/>
                  </a:lnTo>
                  <a:lnTo>
                    <a:pt x="3081" y="815"/>
                  </a:lnTo>
                  <a:lnTo>
                    <a:pt x="3088" y="746"/>
                  </a:lnTo>
                  <a:lnTo>
                    <a:pt x="3089" y="679"/>
                  </a:lnTo>
                  <a:lnTo>
                    <a:pt x="3086" y="612"/>
                  </a:lnTo>
                  <a:lnTo>
                    <a:pt x="3078" y="547"/>
                  </a:lnTo>
                  <a:lnTo>
                    <a:pt x="3065" y="485"/>
                  </a:lnTo>
                  <a:lnTo>
                    <a:pt x="3046" y="424"/>
                  </a:lnTo>
                  <a:lnTo>
                    <a:pt x="3021" y="365"/>
                  </a:lnTo>
                  <a:lnTo>
                    <a:pt x="2991" y="311"/>
                  </a:lnTo>
                  <a:lnTo>
                    <a:pt x="2956" y="259"/>
                  </a:lnTo>
                  <a:lnTo>
                    <a:pt x="2914" y="211"/>
                  </a:lnTo>
                  <a:lnTo>
                    <a:pt x="2868" y="167"/>
                  </a:lnTo>
                  <a:lnTo>
                    <a:pt x="2815" y="128"/>
                  </a:lnTo>
                  <a:lnTo>
                    <a:pt x="2756" y="93"/>
                  </a:lnTo>
                  <a:lnTo>
                    <a:pt x="2690" y="63"/>
                  </a:lnTo>
                  <a:lnTo>
                    <a:pt x="2619" y="39"/>
                  </a:lnTo>
                  <a:lnTo>
                    <a:pt x="2541" y="19"/>
                  </a:lnTo>
                  <a:lnTo>
                    <a:pt x="2457" y="7"/>
                  </a:lnTo>
                  <a:lnTo>
                    <a:pt x="2366" y="0"/>
                  </a:lnTo>
                  <a:lnTo>
                    <a:pt x="2269" y="0"/>
                  </a:lnTo>
                  <a:lnTo>
                    <a:pt x="2243" y="2"/>
                  </a:lnTo>
                  <a:lnTo>
                    <a:pt x="2218" y="4"/>
                  </a:lnTo>
                  <a:lnTo>
                    <a:pt x="2193" y="7"/>
                  </a:lnTo>
                  <a:lnTo>
                    <a:pt x="2169" y="10"/>
                  </a:lnTo>
                  <a:lnTo>
                    <a:pt x="2120" y="17"/>
                  </a:lnTo>
                  <a:lnTo>
                    <a:pt x="2073" y="26"/>
                  </a:lnTo>
                  <a:lnTo>
                    <a:pt x="2026" y="37"/>
                  </a:lnTo>
                  <a:lnTo>
                    <a:pt x="1980" y="49"/>
                  </a:lnTo>
                  <a:lnTo>
                    <a:pt x="1935" y="64"/>
                  </a:lnTo>
                  <a:lnTo>
                    <a:pt x="1890" y="78"/>
                  </a:lnTo>
                  <a:lnTo>
                    <a:pt x="1847" y="95"/>
                  </a:lnTo>
                  <a:lnTo>
                    <a:pt x="1804" y="111"/>
                  </a:lnTo>
                  <a:lnTo>
                    <a:pt x="1762" y="129"/>
                  </a:lnTo>
                  <a:lnTo>
                    <a:pt x="1720" y="148"/>
                  </a:lnTo>
                  <a:lnTo>
                    <a:pt x="1639" y="186"/>
                  </a:lnTo>
                  <a:lnTo>
                    <a:pt x="1560" y="226"/>
                  </a:lnTo>
                  <a:lnTo>
                    <a:pt x="1552" y="227"/>
                  </a:lnTo>
                  <a:lnTo>
                    <a:pt x="1545" y="230"/>
                  </a:lnTo>
                  <a:lnTo>
                    <a:pt x="1538" y="235"/>
                  </a:lnTo>
                  <a:lnTo>
                    <a:pt x="1530" y="242"/>
                  </a:lnTo>
                  <a:lnTo>
                    <a:pt x="1521" y="251"/>
                  </a:lnTo>
                  <a:lnTo>
                    <a:pt x="1512" y="262"/>
                  </a:lnTo>
                  <a:lnTo>
                    <a:pt x="1504" y="273"/>
                  </a:lnTo>
                  <a:lnTo>
                    <a:pt x="1494" y="287"/>
                  </a:lnTo>
                  <a:lnTo>
                    <a:pt x="1476" y="317"/>
                  </a:lnTo>
                  <a:lnTo>
                    <a:pt x="1456" y="350"/>
                  </a:lnTo>
                  <a:lnTo>
                    <a:pt x="1436" y="385"/>
                  </a:lnTo>
                  <a:lnTo>
                    <a:pt x="1417" y="421"/>
                  </a:lnTo>
                  <a:lnTo>
                    <a:pt x="1396" y="459"/>
                  </a:lnTo>
                  <a:lnTo>
                    <a:pt x="1376" y="494"/>
                  </a:lnTo>
                  <a:lnTo>
                    <a:pt x="1358" y="528"/>
                  </a:lnTo>
                  <a:lnTo>
                    <a:pt x="1338" y="558"/>
                  </a:lnTo>
                  <a:lnTo>
                    <a:pt x="1330" y="572"/>
                  </a:lnTo>
                  <a:lnTo>
                    <a:pt x="1320" y="584"/>
                  </a:lnTo>
                  <a:lnTo>
                    <a:pt x="1312" y="595"/>
                  </a:lnTo>
                  <a:lnTo>
                    <a:pt x="1303" y="604"/>
                  </a:lnTo>
                  <a:lnTo>
                    <a:pt x="1294" y="611"/>
                  </a:lnTo>
                  <a:lnTo>
                    <a:pt x="1287" y="617"/>
                  </a:lnTo>
                  <a:lnTo>
                    <a:pt x="1280" y="622"/>
                  </a:lnTo>
                  <a:lnTo>
                    <a:pt x="1273" y="623"/>
                  </a:lnTo>
                  <a:lnTo>
                    <a:pt x="1275" y="691"/>
                  </a:lnTo>
                  <a:lnTo>
                    <a:pt x="1277" y="766"/>
                  </a:lnTo>
                  <a:lnTo>
                    <a:pt x="1278" y="846"/>
                  </a:lnTo>
                  <a:lnTo>
                    <a:pt x="1280" y="929"/>
                  </a:lnTo>
                  <a:lnTo>
                    <a:pt x="1283" y="1012"/>
                  </a:lnTo>
                  <a:lnTo>
                    <a:pt x="1287" y="1094"/>
                  </a:lnTo>
                  <a:lnTo>
                    <a:pt x="1290" y="1134"/>
                  </a:lnTo>
                  <a:lnTo>
                    <a:pt x="1293" y="1172"/>
                  </a:lnTo>
                  <a:lnTo>
                    <a:pt x="1298" y="1209"/>
                  </a:lnTo>
                  <a:lnTo>
                    <a:pt x="1304" y="1244"/>
                  </a:lnTo>
                  <a:lnTo>
                    <a:pt x="1309" y="1277"/>
                  </a:lnTo>
                  <a:lnTo>
                    <a:pt x="1316" y="1308"/>
                  </a:lnTo>
                  <a:lnTo>
                    <a:pt x="1324" y="1336"/>
                  </a:lnTo>
                  <a:lnTo>
                    <a:pt x="1333" y="1362"/>
                  </a:lnTo>
                  <a:lnTo>
                    <a:pt x="1343" y="1384"/>
                  </a:lnTo>
                  <a:lnTo>
                    <a:pt x="1354" y="1402"/>
                  </a:lnTo>
                  <a:lnTo>
                    <a:pt x="1367" y="1418"/>
                  </a:lnTo>
                  <a:lnTo>
                    <a:pt x="1381" y="1428"/>
                  </a:lnTo>
                  <a:lnTo>
                    <a:pt x="1397" y="1436"/>
                  </a:lnTo>
                  <a:lnTo>
                    <a:pt x="1415" y="1439"/>
                  </a:lnTo>
                  <a:lnTo>
                    <a:pt x="1433" y="1436"/>
                  </a:lnTo>
                  <a:lnTo>
                    <a:pt x="1454" y="1428"/>
                  </a:lnTo>
                  <a:lnTo>
                    <a:pt x="1476" y="1416"/>
                  </a:lnTo>
                  <a:lnTo>
                    <a:pt x="1501" y="1397"/>
                  </a:lnTo>
                  <a:lnTo>
                    <a:pt x="1526" y="1373"/>
                  </a:lnTo>
                  <a:lnTo>
                    <a:pt x="1554" y="1343"/>
                  </a:lnTo>
                  <a:lnTo>
                    <a:pt x="1550" y="1343"/>
                  </a:lnTo>
                  <a:lnTo>
                    <a:pt x="1546" y="1342"/>
                  </a:lnTo>
                  <a:lnTo>
                    <a:pt x="1543" y="1340"/>
                  </a:lnTo>
                  <a:lnTo>
                    <a:pt x="1540" y="1337"/>
                  </a:lnTo>
                  <a:lnTo>
                    <a:pt x="1537" y="1333"/>
                  </a:lnTo>
                  <a:lnTo>
                    <a:pt x="1535" y="1329"/>
                  </a:lnTo>
                  <a:lnTo>
                    <a:pt x="1533" y="1323"/>
                  </a:lnTo>
                  <a:lnTo>
                    <a:pt x="1531" y="1316"/>
                  </a:lnTo>
                  <a:lnTo>
                    <a:pt x="1528" y="1302"/>
                  </a:lnTo>
                  <a:lnTo>
                    <a:pt x="1524" y="1285"/>
                  </a:lnTo>
                  <a:lnTo>
                    <a:pt x="1522" y="1268"/>
                  </a:lnTo>
                  <a:lnTo>
                    <a:pt x="1520" y="1251"/>
                  </a:lnTo>
                  <a:lnTo>
                    <a:pt x="1514" y="1152"/>
                  </a:lnTo>
                  <a:lnTo>
                    <a:pt x="1515" y="1118"/>
                  </a:lnTo>
                  <a:lnTo>
                    <a:pt x="1517" y="1086"/>
                  </a:lnTo>
                  <a:lnTo>
                    <a:pt x="1519" y="1061"/>
                  </a:lnTo>
                  <a:lnTo>
                    <a:pt x="1520" y="1049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92600">
              <a:off x="7780320" y="2115720"/>
              <a:ext cx="252000" cy="39240"/>
            </a:xfrm>
            <a:custGeom>
              <a:avLst/>
              <a:gdLst/>
              <a:ahLst/>
              <a:rect l="l" t="t" r="r" b="b"/>
              <a:pathLst>
                <a:path w="1746" h="254">
                  <a:moveTo>
                    <a:pt x="894" y="0"/>
                  </a:moveTo>
                  <a:lnTo>
                    <a:pt x="859" y="0"/>
                  </a:lnTo>
                  <a:lnTo>
                    <a:pt x="822" y="0"/>
                  </a:lnTo>
                  <a:lnTo>
                    <a:pt x="780" y="2"/>
                  </a:lnTo>
                  <a:lnTo>
                    <a:pt x="737" y="5"/>
                  </a:lnTo>
                  <a:lnTo>
                    <a:pt x="690" y="9"/>
                  </a:lnTo>
                  <a:lnTo>
                    <a:pt x="644" y="14"/>
                  </a:lnTo>
                  <a:lnTo>
                    <a:pt x="595" y="19"/>
                  </a:lnTo>
                  <a:lnTo>
                    <a:pt x="545" y="26"/>
                  </a:lnTo>
                  <a:lnTo>
                    <a:pt x="495" y="33"/>
                  </a:lnTo>
                  <a:lnTo>
                    <a:pt x="446" y="41"/>
                  </a:lnTo>
                  <a:lnTo>
                    <a:pt x="396" y="48"/>
                  </a:lnTo>
                  <a:lnTo>
                    <a:pt x="348" y="58"/>
                  </a:lnTo>
                  <a:lnTo>
                    <a:pt x="300" y="66"/>
                  </a:lnTo>
                  <a:lnTo>
                    <a:pt x="256" y="75"/>
                  </a:lnTo>
                  <a:lnTo>
                    <a:pt x="212" y="85"/>
                  </a:lnTo>
                  <a:lnTo>
                    <a:pt x="172" y="93"/>
                  </a:lnTo>
                  <a:lnTo>
                    <a:pt x="136" y="102"/>
                  </a:lnTo>
                  <a:lnTo>
                    <a:pt x="101" y="112"/>
                  </a:lnTo>
                  <a:lnTo>
                    <a:pt x="72" y="120"/>
                  </a:lnTo>
                  <a:lnTo>
                    <a:pt x="48" y="129"/>
                  </a:lnTo>
                  <a:lnTo>
                    <a:pt x="27" y="138"/>
                  </a:lnTo>
                  <a:lnTo>
                    <a:pt x="12" y="145"/>
                  </a:lnTo>
                  <a:lnTo>
                    <a:pt x="3" y="152"/>
                  </a:lnTo>
                  <a:lnTo>
                    <a:pt x="0" y="158"/>
                  </a:lnTo>
                  <a:lnTo>
                    <a:pt x="3" y="165"/>
                  </a:lnTo>
                  <a:lnTo>
                    <a:pt x="13" y="170"/>
                  </a:lnTo>
                  <a:lnTo>
                    <a:pt x="32" y="174"/>
                  </a:lnTo>
                  <a:lnTo>
                    <a:pt x="58" y="177"/>
                  </a:lnTo>
                  <a:lnTo>
                    <a:pt x="92" y="179"/>
                  </a:lnTo>
                  <a:lnTo>
                    <a:pt x="136" y="180"/>
                  </a:lnTo>
                  <a:lnTo>
                    <a:pt x="188" y="180"/>
                  </a:lnTo>
                  <a:lnTo>
                    <a:pt x="250" y="178"/>
                  </a:lnTo>
                  <a:lnTo>
                    <a:pt x="370" y="174"/>
                  </a:lnTo>
                  <a:lnTo>
                    <a:pt x="482" y="172"/>
                  </a:lnTo>
                  <a:lnTo>
                    <a:pt x="587" y="172"/>
                  </a:lnTo>
                  <a:lnTo>
                    <a:pt x="684" y="173"/>
                  </a:lnTo>
                  <a:lnTo>
                    <a:pt x="776" y="176"/>
                  </a:lnTo>
                  <a:lnTo>
                    <a:pt x="864" y="180"/>
                  </a:lnTo>
                  <a:lnTo>
                    <a:pt x="949" y="185"/>
                  </a:lnTo>
                  <a:lnTo>
                    <a:pt x="1032" y="193"/>
                  </a:lnTo>
                  <a:lnTo>
                    <a:pt x="1114" y="199"/>
                  </a:lnTo>
                  <a:lnTo>
                    <a:pt x="1196" y="207"/>
                  </a:lnTo>
                  <a:lnTo>
                    <a:pt x="1279" y="214"/>
                  </a:lnTo>
                  <a:lnTo>
                    <a:pt x="1364" y="223"/>
                  </a:lnTo>
                  <a:lnTo>
                    <a:pt x="1452" y="231"/>
                  </a:lnTo>
                  <a:lnTo>
                    <a:pt x="1544" y="239"/>
                  </a:lnTo>
                  <a:lnTo>
                    <a:pt x="1642" y="246"/>
                  </a:lnTo>
                  <a:lnTo>
                    <a:pt x="1746" y="254"/>
                  </a:lnTo>
                  <a:lnTo>
                    <a:pt x="1744" y="235"/>
                  </a:lnTo>
                  <a:lnTo>
                    <a:pt x="1737" y="218"/>
                  </a:lnTo>
                  <a:lnTo>
                    <a:pt x="1727" y="202"/>
                  </a:lnTo>
                  <a:lnTo>
                    <a:pt x="1712" y="186"/>
                  </a:lnTo>
                  <a:lnTo>
                    <a:pt x="1695" y="171"/>
                  </a:lnTo>
                  <a:lnTo>
                    <a:pt x="1674" y="156"/>
                  </a:lnTo>
                  <a:lnTo>
                    <a:pt x="1650" y="143"/>
                  </a:lnTo>
                  <a:lnTo>
                    <a:pt x="1624" y="130"/>
                  </a:lnTo>
                  <a:lnTo>
                    <a:pt x="1595" y="118"/>
                  </a:lnTo>
                  <a:lnTo>
                    <a:pt x="1565" y="107"/>
                  </a:lnTo>
                  <a:lnTo>
                    <a:pt x="1533" y="96"/>
                  </a:lnTo>
                  <a:lnTo>
                    <a:pt x="1499" y="86"/>
                  </a:lnTo>
                  <a:lnTo>
                    <a:pt x="1463" y="76"/>
                  </a:lnTo>
                  <a:lnTo>
                    <a:pt x="1427" y="67"/>
                  </a:lnTo>
                  <a:lnTo>
                    <a:pt x="1390" y="59"/>
                  </a:lnTo>
                  <a:lnTo>
                    <a:pt x="1352" y="51"/>
                  </a:lnTo>
                  <a:lnTo>
                    <a:pt x="1277" y="37"/>
                  </a:lnTo>
                  <a:lnTo>
                    <a:pt x="1203" y="26"/>
                  </a:lnTo>
                  <a:lnTo>
                    <a:pt x="1132" y="16"/>
                  </a:lnTo>
                  <a:lnTo>
                    <a:pt x="1065" y="9"/>
                  </a:lnTo>
                  <a:lnTo>
                    <a:pt x="1006" y="4"/>
                  </a:lnTo>
                  <a:lnTo>
                    <a:pt x="958" y="1"/>
                  </a:lnTo>
                  <a:lnTo>
                    <a:pt x="919" y="0"/>
                  </a:lnTo>
                  <a:lnTo>
                    <a:pt x="8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92600">
              <a:off x="7435800" y="3114360"/>
              <a:ext cx="255240" cy="39600"/>
            </a:xfrm>
            <a:custGeom>
              <a:avLst/>
              <a:gdLst/>
              <a:ahLst/>
              <a:rect l="l" t="t" r="r" b="b"/>
              <a:pathLst>
                <a:path w="1753" h="254">
                  <a:moveTo>
                    <a:pt x="895" y="0"/>
                  </a:moveTo>
                  <a:lnTo>
                    <a:pt x="860" y="0"/>
                  </a:lnTo>
                  <a:lnTo>
                    <a:pt x="822" y="3"/>
                  </a:lnTo>
                  <a:lnTo>
                    <a:pt x="781" y="5"/>
                  </a:lnTo>
                  <a:lnTo>
                    <a:pt x="737" y="8"/>
                  </a:lnTo>
                  <a:lnTo>
                    <a:pt x="691" y="12"/>
                  </a:lnTo>
                  <a:lnTo>
                    <a:pt x="644" y="17"/>
                  </a:lnTo>
                  <a:lnTo>
                    <a:pt x="595" y="23"/>
                  </a:lnTo>
                  <a:lnTo>
                    <a:pt x="546" y="31"/>
                  </a:lnTo>
                  <a:lnTo>
                    <a:pt x="446" y="45"/>
                  </a:lnTo>
                  <a:lnTo>
                    <a:pt x="349" y="63"/>
                  </a:lnTo>
                  <a:lnTo>
                    <a:pt x="301" y="71"/>
                  </a:lnTo>
                  <a:lnTo>
                    <a:pt x="256" y="80"/>
                  </a:lnTo>
                  <a:lnTo>
                    <a:pt x="213" y="90"/>
                  </a:lnTo>
                  <a:lnTo>
                    <a:pt x="173" y="99"/>
                  </a:lnTo>
                  <a:lnTo>
                    <a:pt x="136" y="108"/>
                  </a:lnTo>
                  <a:lnTo>
                    <a:pt x="102" y="117"/>
                  </a:lnTo>
                  <a:lnTo>
                    <a:pt x="73" y="126"/>
                  </a:lnTo>
                  <a:lnTo>
                    <a:pt x="48" y="134"/>
                  </a:lnTo>
                  <a:lnTo>
                    <a:pt x="27" y="141"/>
                  </a:lnTo>
                  <a:lnTo>
                    <a:pt x="13" y="150"/>
                  </a:lnTo>
                  <a:lnTo>
                    <a:pt x="3" y="156"/>
                  </a:lnTo>
                  <a:lnTo>
                    <a:pt x="0" y="162"/>
                  </a:lnTo>
                  <a:lnTo>
                    <a:pt x="3" y="168"/>
                  </a:lnTo>
                  <a:lnTo>
                    <a:pt x="14" y="173"/>
                  </a:lnTo>
                  <a:lnTo>
                    <a:pt x="33" y="177"/>
                  </a:lnTo>
                  <a:lnTo>
                    <a:pt x="58" y="180"/>
                  </a:lnTo>
                  <a:lnTo>
                    <a:pt x="93" y="182"/>
                  </a:lnTo>
                  <a:lnTo>
                    <a:pt x="136" y="182"/>
                  </a:lnTo>
                  <a:lnTo>
                    <a:pt x="188" y="181"/>
                  </a:lnTo>
                  <a:lnTo>
                    <a:pt x="250" y="179"/>
                  </a:lnTo>
                  <a:lnTo>
                    <a:pt x="371" y="175"/>
                  </a:lnTo>
                  <a:lnTo>
                    <a:pt x="484" y="173"/>
                  </a:lnTo>
                  <a:lnTo>
                    <a:pt x="589" y="173"/>
                  </a:lnTo>
                  <a:lnTo>
                    <a:pt x="688" y="174"/>
                  </a:lnTo>
                  <a:lnTo>
                    <a:pt x="780" y="177"/>
                  </a:lnTo>
                  <a:lnTo>
                    <a:pt x="868" y="181"/>
                  </a:lnTo>
                  <a:lnTo>
                    <a:pt x="953" y="187"/>
                  </a:lnTo>
                  <a:lnTo>
                    <a:pt x="1036" y="193"/>
                  </a:lnTo>
                  <a:lnTo>
                    <a:pt x="1118" y="201"/>
                  </a:lnTo>
                  <a:lnTo>
                    <a:pt x="1200" y="208"/>
                  </a:lnTo>
                  <a:lnTo>
                    <a:pt x="1282" y="216"/>
                  </a:lnTo>
                  <a:lnTo>
                    <a:pt x="1367" y="223"/>
                  </a:lnTo>
                  <a:lnTo>
                    <a:pt x="1456" y="232"/>
                  </a:lnTo>
                  <a:lnTo>
                    <a:pt x="1549" y="240"/>
                  </a:lnTo>
                  <a:lnTo>
                    <a:pt x="1647" y="247"/>
                  </a:lnTo>
                  <a:lnTo>
                    <a:pt x="1753" y="254"/>
                  </a:lnTo>
                  <a:lnTo>
                    <a:pt x="1750" y="236"/>
                  </a:lnTo>
                  <a:lnTo>
                    <a:pt x="1743" y="219"/>
                  </a:lnTo>
                  <a:lnTo>
                    <a:pt x="1731" y="203"/>
                  </a:lnTo>
                  <a:lnTo>
                    <a:pt x="1717" y="187"/>
                  </a:lnTo>
                  <a:lnTo>
                    <a:pt x="1699" y="173"/>
                  </a:lnTo>
                  <a:lnTo>
                    <a:pt x="1677" y="158"/>
                  </a:lnTo>
                  <a:lnTo>
                    <a:pt x="1654" y="145"/>
                  </a:lnTo>
                  <a:lnTo>
                    <a:pt x="1628" y="132"/>
                  </a:lnTo>
                  <a:lnTo>
                    <a:pt x="1599" y="120"/>
                  </a:lnTo>
                  <a:lnTo>
                    <a:pt x="1569" y="108"/>
                  </a:lnTo>
                  <a:lnTo>
                    <a:pt x="1536" y="98"/>
                  </a:lnTo>
                  <a:lnTo>
                    <a:pt x="1502" y="88"/>
                  </a:lnTo>
                  <a:lnTo>
                    <a:pt x="1467" y="78"/>
                  </a:lnTo>
                  <a:lnTo>
                    <a:pt x="1431" y="70"/>
                  </a:lnTo>
                  <a:lnTo>
                    <a:pt x="1393" y="62"/>
                  </a:lnTo>
                  <a:lnTo>
                    <a:pt x="1356" y="54"/>
                  </a:lnTo>
                  <a:lnTo>
                    <a:pt x="1280" y="41"/>
                  </a:lnTo>
                  <a:lnTo>
                    <a:pt x="1206" y="29"/>
                  </a:lnTo>
                  <a:lnTo>
                    <a:pt x="1135" y="20"/>
                  </a:lnTo>
                  <a:lnTo>
                    <a:pt x="1069" y="13"/>
                  </a:lnTo>
                  <a:lnTo>
                    <a:pt x="1009" y="8"/>
                  </a:lnTo>
                  <a:lnTo>
                    <a:pt x="959" y="4"/>
                  </a:lnTo>
                  <a:lnTo>
                    <a:pt x="921" y="1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92600">
              <a:off x="7313040" y="3436920"/>
              <a:ext cx="253800" cy="40680"/>
            </a:xfrm>
            <a:custGeom>
              <a:avLst/>
              <a:gdLst/>
              <a:ahLst/>
              <a:rect l="l" t="t" r="r" b="b"/>
              <a:pathLst>
                <a:path w="1746" h="253">
                  <a:moveTo>
                    <a:pt x="895" y="0"/>
                  </a:moveTo>
                  <a:lnTo>
                    <a:pt x="859" y="0"/>
                  </a:lnTo>
                  <a:lnTo>
                    <a:pt x="821" y="1"/>
                  </a:lnTo>
                  <a:lnTo>
                    <a:pt x="781" y="3"/>
                  </a:lnTo>
                  <a:lnTo>
                    <a:pt x="737" y="8"/>
                  </a:lnTo>
                  <a:lnTo>
                    <a:pt x="690" y="12"/>
                  </a:lnTo>
                  <a:lnTo>
                    <a:pt x="644" y="17"/>
                  </a:lnTo>
                  <a:lnTo>
                    <a:pt x="595" y="23"/>
                  </a:lnTo>
                  <a:lnTo>
                    <a:pt x="545" y="29"/>
                  </a:lnTo>
                  <a:lnTo>
                    <a:pt x="446" y="45"/>
                  </a:lnTo>
                  <a:lnTo>
                    <a:pt x="347" y="61"/>
                  </a:lnTo>
                  <a:lnTo>
                    <a:pt x="301" y="71"/>
                  </a:lnTo>
                  <a:lnTo>
                    <a:pt x="256" y="80"/>
                  </a:lnTo>
                  <a:lnTo>
                    <a:pt x="213" y="88"/>
                  </a:lnTo>
                  <a:lnTo>
                    <a:pt x="172" y="98"/>
                  </a:lnTo>
                  <a:lnTo>
                    <a:pt x="136" y="107"/>
                  </a:lnTo>
                  <a:lnTo>
                    <a:pt x="102" y="116"/>
                  </a:lnTo>
                  <a:lnTo>
                    <a:pt x="73" y="125"/>
                  </a:lnTo>
                  <a:lnTo>
                    <a:pt x="48" y="133"/>
                  </a:lnTo>
                  <a:lnTo>
                    <a:pt x="27" y="141"/>
                  </a:lnTo>
                  <a:lnTo>
                    <a:pt x="11" y="149"/>
                  </a:lnTo>
                  <a:lnTo>
                    <a:pt x="3" y="156"/>
                  </a:lnTo>
                  <a:lnTo>
                    <a:pt x="0" y="162"/>
                  </a:lnTo>
                  <a:lnTo>
                    <a:pt x="3" y="167"/>
                  </a:lnTo>
                  <a:lnTo>
                    <a:pt x="14" y="172"/>
                  </a:lnTo>
                  <a:lnTo>
                    <a:pt x="32" y="177"/>
                  </a:lnTo>
                  <a:lnTo>
                    <a:pt x="58" y="179"/>
                  </a:lnTo>
                  <a:lnTo>
                    <a:pt x="92" y="181"/>
                  </a:lnTo>
                  <a:lnTo>
                    <a:pt x="135" y="182"/>
                  </a:lnTo>
                  <a:lnTo>
                    <a:pt x="188" y="181"/>
                  </a:lnTo>
                  <a:lnTo>
                    <a:pt x="250" y="179"/>
                  </a:lnTo>
                  <a:lnTo>
                    <a:pt x="371" y="174"/>
                  </a:lnTo>
                  <a:lnTo>
                    <a:pt x="484" y="172"/>
                  </a:lnTo>
                  <a:lnTo>
                    <a:pt x="589" y="172"/>
                  </a:lnTo>
                  <a:lnTo>
                    <a:pt x="686" y="173"/>
                  </a:lnTo>
                  <a:lnTo>
                    <a:pt x="779" y="177"/>
                  </a:lnTo>
                  <a:lnTo>
                    <a:pt x="868" y="181"/>
                  </a:lnTo>
                  <a:lnTo>
                    <a:pt x="953" y="186"/>
                  </a:lnTo>
                  <a:lnTo>
                    <a:pt x="1034" y="192"/>
                  </a:lnTo>
                  <a:lnTo>
                    <a:pt x="1116" y="199"/>
                  </a:lnTo>
                  <a:lnTo>
                    <a:pt x="1197" y="207"/>
                  </a:lnTo>
                  <a:lnTo>
                    <a:pt x="1280" y="215"/>
                  </a:lnTo>
                  <a:lnTo>
                    <a:pt x="1364" y="223"/>
                  </a:lnTo>
                  <a:lnTo>
                    <a:pt x="1452" y="231"/>
                  </a:lnTo>
                  <a:lnTo>
                    <a:pt x="1544" y="239"/>
                  </a:lnTo>
                  <a:lnTo>
                    <a:pt x="1642" y="247"/>
                  </a:lnTo>
                  <a:lnTo>
                    <a:pt x="1746" y="253"/>
                  </a:lnTo>
                  <a:lnTo>
                    <a:pt x="1743" y="236"/>
                  </a:lnTo>
                  <a:lnTo>
                    <a:pt x="1737" y="218"/>
                  </a:lnTo>
                  <a:lnTo>
                    <a:pt x="1727" y="201"/>
                  </a:lnTo>
                  <a:lnTo>
                    <a:pt x="1712" y="186"/>
                  </a:lnTo>
                  <a:lnTo>
                    <a:pt x="1695" y="171"/>
                  </a:lnTo>
                  <a:lnTo>
                    <a:pt x="1674" y="157"/>
                  </a:lnTo>
                  <a:lnTo>
                    <a:pt x="1650" y="143"/>
                  </a:lnTo>
                  <a:lnTo>
                    <a:pt x="1624" y="131"/>
                  </a:lnTo>
                  <a:lnTo>
                    <a:pt x="1595" y="118"/>
                  </a:lnTo>
                  <a:lnTo>
                    <a:pt x="1565" y="107"/>
                  </a:lnTo>
                  <a:lnTo>
                    <a:pt x="1533" y="96"/>
                  </a:lnTo>
                  <a:lnTo>
                    <a:pt x="1499" y="85"/>
                  </a:lnTo>
                  <a:lnTo>
                    <a:pt x="1464" y="76"/>
                  </a:lnTo>
                  <a:lnTo>
                    <a:pt x="1427" y="68"/>
                  </a:lnTo>
                  <a:lnTo>
                    <a:pt x="1390" y="59"/>
                  </a:lnTo>
                  <a:lnTo>
                    <a:pt x="1353" y="51"/>
                  </a:lnTo>
                  <a:lnTo>
                    <a:pt x="1277" y="38"/>
                  </a:lnTo>
                  <a:lnTo>
                    <a:pt x="1203" y="26"/>
                  </a:lnTo>
                  <a:lnTo>
                    <a:pt x="1132" y="17"/>
                  </a:lnTo>
                  <a:lnTo>
                    <a:pt x="1066" y="10"/>
                  </a:lnTo>
                  <a:lnTo>
                    <a:pt x="1006" y="4"/>
                  </a:lnTo>
                  <a:lnTo>
                    <a:pt x="958" y="1"/>
                  </a:lnTo>
                  <a:lnTo>
                    <a:pt x="919" y="0"/>
                  </a:lnTo>
                  <a:lnTo>
                    <a:pt x="8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92600">
              <a:off x="7236000" y="3771720"/>
              <a:ext cx="210960" cy="41040"/>
            </a:xfrm>
            <a:custGeom>
              <a:avLst/>
              <a:gdLst/>
              <a:ahLst/>
              <a:rect l="l" t="t" r="r" b="b"/>
              <a:pathLst>
                <a:path w="1458" h="261">
                  <a:moveTo>
                    <a:pt x="743" y="1"/>
                  </a:moveTo>
                  <a:lnTo>
                    <a:pt x="714" y="0"/>
                  </a:lnTo>
                  <a:lnTo>
                    <a:pt x="682" y="1"/>
                  </a:lnTo>
                  <a:lnTo>
                    <a:pt x="648" y="3"/>
                  </a:lnTo>
                  <a:lnTo>
                    <a:pt x="612" y="6"/>
                  </a:lnTo>
                  <a:lnTo>
                    <a:pt x="573" y="10"/>
                  </a:lnTo>
                  <a:lnTo>
                    <a:pt x="534" y="15"/>
                  </a:lnTo>
                  <a:lnTo>
                    <a:pt x="494" y="20"/>
                  </a:lnTo>
                  <a:lnTo>
                    <a:pt x="452" y="26"/>
                  </a:lnTo>
                  <a:lnTo>
                    <a:pt x="411" y="33"/>
                  </a:lnTo>
                  <a:lnTo>
                    <a:pt x="369" y="41"/>
                  </a:lnTo>
                  <a:lnTo>
                    <a:pt x="329" y="48"/>
                  </a:lnTo>
                  <a:lnTo>
                    <a:pt x="288" y="56"/>
                  </a:lnTo>
                  <a:lnTo>
                    <a:pt x="250" y="66"/>
                  </a:lnTo>
                  <a:lnTo>
                    <a:pt x="212" y="74"/>
                  </a:lnTo>
                  <a:lnTo>
                    <a:pt x="177" y="83"/>
                  </a:lnTo>
                  <a:lnTo>
                    <a:pt x="143" y="91"/>
                  </a:lnTo>
                  <a:lnTo>
                    <a:pt x="112" y="101"/>
                  </a:lnTo>
                  <a:lnTo>
                    <a:pt x="84" y="109"/>
                  </a:lnTo>
                  <a:lnTo>
                    <a:pt x="60" y="117"/>
                  </a:lnTo>
                  <a:lnTo>
                    <a:pt x="40" y="126"/>
                  </a:lnTo>
                  <a:lnTo>
                    <a:pt x="22" y="134"/>
                  </a:lnTo>
                  <a:lnTo>
                    <a:pt x="11" y="141"/>
                  </a:lnTo>
                  <a:lnTo>
                    <a:pt x="2" y="149"/>
                  </a:lnTo>
                  <a:lnTo>
                    <a:pt x="0" y="155"/>
                  </a:lnTo>
                  <a:lnTo>
                    <a:pt x="3" y="161"/>
                  </a:lnTo>
                  <a:lnTo>
                    <a:pt x="12" y="165"/>
                  </a:lnTo>
                  <a:lnTo>
                    <a:pt x="27" y="169"/>
                  </a:lnTo>
                  <a:lnTo>
                    <a:pt x="49" y="172"/>
                  </a:lnTo>
                  <a:lnTo>
                    <a:pt x="77" y="174"/>
                  </a:lnTo>
                  <a:lnTo>
                    <a:pt x="113" y="175"/>
                  </a:lnTo>
                  <a:lnTo>
                    <a:pt x="157" y="175"/>
                  </a:lnTo>
                  <a:lnTo>
                    <a:pt x="208" y="173"/>
                  </a:lnTo>
                  <a:lnTo>
                    <a:pt x="309" y="170"/>
                  </a:lnTo>
                  <a:lnTo>
                    <a:pt x="402" y="169"/>
                  </a:lnTo>
                  <a:lnTo>
                    <a:pt x="490" y="169"/>
                  </a:lnTo>
                  <a:lnTo>
                    <a:pt x="570" y="172"/>
                  </a:lnTo>
                  <a:lnTo>
                    <a:pt x="648" y="175"/>
                  </a:lnTo>
                  <a:lnTo>
                    <a:pt x="722" y="181"/>
                  </a:lnTo>
                  <a:lnTo>
                    <a:pt x="792" y="186"/>
                  </a:lnTo>
                  <a:lnTo>
                    <a:pt x="861" y="193"/>
                  </a:lnTo>
                  <a:lnTo>
                    <a:pt x="929" y="200"/>
                  </a:lnTo>
                  <a:lnTo>
                    <a:pt x="996" y="209"/>
                  </a:lnTo>
                  <a:lnTo>
                    <a:pt x="1066" y="218"/>
                  </a:lnTo>
                  <a:lnTo>
                    <a:pt x="1136" y="226"/>
                  </a:lnTo>
                  <a:lnTo>
                    <a:pt x="1211" y="236"/>
                  </a:lnTo>
                  <a:lnTo>
                    <a:pt x="1288" y="244"/>
                  </a:lnTo>
                  <a:lnTo>
                    <a:pt x="1369" y="252"/>
                  </a:lnTo>
                  <a:lnTo>
                    <a:pt x="1458" y="261"/>
                  </a:lnTo>
                  <a:lnTo>
                    <a:pt x="1454" y="242"/>
                  </a:lnTo>
                  <a:lnTo>
                    <a:pt x="1448" y="225"/>
                  </a:lnTo>
                  <a:lnTo>
                    <a:pt x="1439" y="209"/>
                  </a:lnTo>
                  <a:lnTo>
                    <a:pt x="1426" y="192"/>
                  </a:lnTo>
                  <a:lnTo>
                    <a:pt x="1412" y="178"/>
                  </a:lnTo>
                  <a:lnTo>
                    <a:pt x="1394" y="163"/>
                  </a:lnTo>
                  <a:lnTo>
                    <a:pt x="1375" y="150"/>
                  </a:lnTo>
                  <a:lnTo>
                    <a:pt x="1352" y="136"/>
                  </a:lnTo>
                  <a:lnTo>
                    <a:pt x="1328" y="124"/>
                  </a:lnTo>
                  <a:lnTo>
                    <a:pt x="1303" y="112"/>
                  </a:lnTo>
                  <a:lnTo>
                    <a:pt x="1276" y="101"/>
                  </a:lnTo>
                  <a:lnTo>
                    <a:pt x="1248" y="90"/>
                  </a:lnTo>
                  <a:lnTo>
                    <a:pt x="1218" y="81"/>
                  </a:lnTo>
                  <a:lnTo>
                    <a:pt x="1188" y="72"/>
                  </a:lnTo>
                  <a:lnTo>
                    <a:pt x="1157" y="63"/>
                  </a:lnTo>
                  <a:lnTo>
                    <a:pt x="1126" y="55"/>
                  </a:lnTo>
                  <a:lnTo>
                    <a:pt x="1064" y="41"/>
                  </a:lnTo>
                  <a:lnTo>
                    <a:pt x="1002" y="29"/>
                  </a:lnTo>
                  <a:lnTo>
                    <a:pt x="942" y="19"/>
                  </a:lnTo>
                  <a:lnTo>
                    <a:pt x="888" y="12"/>
                  </a:lnTo>
                  <a:lnTo>
                    <a:pt x="838" y="6"/>
                  </a:lnTo>
                  <a:lnTo>
                    <a:pt x="796" y="2"/>
                  </a:lnTo>
                  <a:lnTo>
                    <a:pt x="764" y="1"/>
                  </a:lnTo>
                  <a:lnTo>
                    <a:pt x="7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92600">
              <a:off x="7897320" y="2199960"/>
              <a:ext cx="102960" cy="39600"/>
            </a:xfrm>
            <a:custGeom>
              <a:avLst/>
              <a:gdLst/>
              <a:ahLst/>
              <a:rect l="l" t="t" r="r" b="b"/>
              <a:pathLst>
                <a:path w="709" h="234">
                  <a:moveTo>
                    <a:pt x="335" y="0"/>
                  </a:moveTo>
                  <a:lnTo>
                    <a:pt x="306" y="4"/>
                  </a:lnTo>
                  <a:lnTo>
                    <a:pt x="272" y="11"/>
                  </a:lnTo>
                  <a:lnTo>
                    <a:pt x="234" y="19"/>
                  </a:lnTo>
                  <a:lnTo>
                    <a:pt x="196" y="25"/>
                  </a:lnTo>
                  <a:lnTo>
                    <a:pt x="176" y="28"/>
                  </a:lnTo>
                  <a:lnTo>
                    <a:pt x="158" y="30"/>
                  </a:lnTo>
                  <a:lnTo>
                    <a:pt x="140" y="31"/>
                  </a:lnTo>
                  <a:lnTo>
                    <a:pt x="123" y="30"/>
                  </a:lnTo>
                  <a:lnTo>
                    <a:pt x="107" y="28"/>
                  </a:lnTo>
                  <a:lnTo>
                    <a:pt x="93" y="25"/>
                  </a:lnTo>
                  <a:lnTo>
                    <a:pt x="86" y="22"/>
                  </a:lnTo>
                  <a:lnTo>
                    <a:pt x="80" y="20"/>
                  </a:lnTo>
                  <a:lnTo>
                    <a:pt x="75" y="16"/>
                  </a:lnTo>
                  <a:lnTo>
                    <a:pt x="69" y="12"/>
                  </a:lnTo>
                  <a:lnTo>
                    <a:pt x="65" y="13"/>
                  </a:lnTo>
                  <a:lnTo>
                    <a:pt x="61" y="16"/>
                  </a:lnTo>
                  <a:lnTo>
                    <a:pt x="57" y="21"/>
                  </a:lnTo>
                  <a:lnTo>
                    <a:pt x="53" y="27"/>
                  </a:lnTo>
                  <a:lnTo>
                    <a:pt x="46" y="43"/>
                  </a:lnTo>
                  <a:lnTo>
                    <a:pt x="37" y="60"/>
                  </a:lnTo>
                  <a:lnTo>
                    <a:pt x="29" y="79"/>
                  </a:lnTo>
                  <a:lnTo>
                    <a:pt x="20" y="95"/>
                  </a:lnTo>
                  <a:lnTo>
                    <a:pt x="16" y="101"/>
                  </a:lnTo>
                  <a:lnTo>
                    <a:pt x="10" y="106"/>
                  </a:lnTo>
                  <a:lnTo>
                    <a:pt x="5" y="109"/>
                  </a:lnTo>
                  <a:lnTo>
                    <a:pt x="0" y="110"/>
                  </a:lnTo>
                  <a:lnTo>
                    <a:pt x="18" y="123"/>
                  </a:lnTo>
                  <a:lnTo>
                    <a:pt x="36" y="134"/>
                  </a:lnTo>
                  <a:lnTo>
                    <a:pt x="55" y="145"/>
                  </a:lnTo>
                  <a:lnTo>
                    <a:pt x="75" y="155"/>
                  </a:lnTo>
                  <a:lnTo>
                    <a:pt x="95" y="164"/>
                  </a:lnTo>
                  <a:lnTo>
                    <a:pt x="117" y="172"/>
                  </a:lnTo>
                  <a:lnTo>
                    <a:pt x="139" y="181"/>
                  </a:lnTo>
                  <a:lnTo>
                    <a:pt x="162" y="188"/>
                  </a:lnTo>
                  <a:lnTo>
                    <a:pt x="186" y="194"/>
                  </a:lnTo>
                  <a:lnTo>
                    <a:pt x="209" y="200"/>
                  </a:lnTo>
                  <a:lnTo>
                    <a:pt x="233" y="206"/>
                  </a:lnTo>
                  <a:lnTo>
                    <a:pt x="257" y="211"/>
                  </a:lnTo>
                  <a:lnTo>
                    <a:pt x="307" y="218"/>
                  </a:lnTo>
                  <a:lnTo>
                    <a:pt x="357" y="224"/>
                  </a:lnTo>
                  <a:lnTo>
                    <a:pt x="406" y="228"/>
                  </a:lnTo>
                  <a:lnTo>
                    <a:pt x="456" y="232"/>
                  </a:lnTo>
                  <a:lnTo>
                    <a:pt x="504" y="234"/>
                  </a:lnTo>
                  <a:lnTo>
                    <a:pt x="550" y="234"/>
                  </a:lnTo>
                  <a:lnTo>
                    <a:pt x="636" y="233"/>
                  </a:lnTo>
                  <a:lnTo>
                    <a:pt x="709" y="230"/>
                  </a:lnTo>
                  <a:lnTo>
                    <a:pt x="701" y="218"/>
                  </a:lnTo>
                  <a:lnTo>
                    <a:pt x="692" y="205"/>
                  </a:lnTo>
                  <a:lnTo>
                    <a:pt x="683" y="192"/>
                  </a:lnTo>
                  <a:lnTo>
                    <a:pt x="674" y="180"/>
                  </a:lnTo>
                  <a:lnTo>
                    <a:pt x="663" y="167"/>
                  </a:lnTo>
                  <a:lnTo>
                    <a:pt x="653" y="156"/>
                  </a:lnTo>
                  <a:lnTo>
                    <a:pt x="642" y="144"/>
                  </a:lnTo>
                  <a:lnTo>
                    <a:pt x="630" y="134"/>
                  </a:lnTo>
                  <a:lnTo>
                    <a:pt x="605" y="113"/>
                  </a:lnTo>
                  <a:lnTo>
                    <a:pt x="580" y="95"/>
                  </a:lnTo>
                  <a:lnTo>
                    <a:pt x="554" y="77"/>
                  </a:lnTo>
                  <a:lnTo>
                    <a:pt x="528" y="61"/>
                  </a:lnTo>
                  <a:lnTo>
                    <a:pt x="502" y="48"/>
                  </a:lnTo>
                  <a:lnTo>
                    <a:pt x="475" y="36"/>
                  </a:lnTo>
                  <a:lnTo>
                    <a:pt x="448" y="25"/>
                  </a:lnTo>
                  <a:lnTo>
                    <a:pt x="423" y="16"/>
                  </a:lnTo>
                  <a:lnTo>
                    <a:pt x="398" y="10"/>
                  </a:lnTo>
                  <a:lnTo>
                    <a:pt x="375" y="4"/>
                  </a:lnTo>
                  <a:lnTo>
                    <a:pt x="353" y="1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92600">
              <a:off x="7884720" y="2261880"/>
              <a:ext cx="93240" cy="28440"/>
            </a:xfrm>
            <a:custGeom>
              <a:avLst/>
              <a:gdLst/>
              <a:ahLst/>
              <a:rect l="l" t="t" r="r" b="b"/>
              <a:pathLst>
                <a:path w="634" h="180">
                  <a:moveTo>
                    <a:pt x="219" y="0"/>
                  </a:moveTo>
                  <a:lnTo>
                    <a:pt x="0" y="12"/>
                  </a:lnTo>
                  <a:lnTo>
                    <a:pt x="2" y="33"/>
                  </a:lnTo>
                  <a:lnTo>
                    <a:pt x="8" y="53"/>
                  </a:lnTo>
                  <a:lnTo>
                    <a:pt x="16" y="72"/>
                  </a:lnTo>
                  <a:lnTo>
                    <a:pt x="27" y="88"/>
                  </a:lnTo>
                  <a:lnTo>
                    <a:pt x="41" y="103"/>
                  </a:lnTo>
                  <a:lnTo>
                    <a:pt x="56" y="116"/>
                  </a:lnTo>
                  <a:lnTo>
                    <a:pt x="74" y="129"/>
                  </a:lnTo>
                  <a:lnTo>
                    <a:pt x="94" y="139"/>
                  </a:lnTo>
                  <a:lnTo>
                    <a:pt x="114" y="149"/>
                  </a:lnTo>
                  <a:lnTo>
                    <a:pt x="137" y="156"/>
                  </a:lnTo>
                  <a:lnTo>
                    <a:pt x="161" y="163"/>
                  </a:lnTo>
                  <a:lnTo>
                    <a:pt x="186" y="168"/>
                  </a:lnTo>
                  <a:lnTo>
                    <a:pt x="212" y="172"/>
                  </a:lnTo>
                  <a:lnTo>
                    <a:pt x="238" y="175"/>
                  </a:lnTo>
                  <a:lnTo>
                    <a:pt x="266" y="178"/>
                  </a:lnTo>
                  <a:lnTo>
                    <a:pt x="293" y="180"/>
                  </a:lnTo>
                  <a:lnTo>
                    <a:pt x="321" y="180"/>
                  </a:lnTo>
                  <a:lnTo>
                    <a:pt x="349" y="180"/>
                  </a:lnTo>
                  <a:lnTo>
                    <a:pt x="376" y="179"/>
                  </a:lnTo>
                  <a:lnTo>
                    <a:pt x="403" y="177"/>
                  </a:lnTo>
                  <a:lnTo>
                    <a:pt x="430" y="174"/>
                  </a:lnTo>
                  <a:lnTo>
                    <a:pt x="455" y="172"/>
                  </a:lnTo>
                  <a:lnTo>
                    <a:pt x="480" y="168"/>
                  </a:lnTo>
                  <a:lnTo>
                    <a:pt x="504" y="165"/>
                  </a:lnTo>
                  <a:lnTo>
                    <a:pt x="527" y="161"/>
                  </a:lnTo>
                  <a:lnTo>
                    <a:pt x="548" y="156"/>
                  </a:lnTo>
                  <a:lnTo>
                    <a:pt x="567" y="152"/>
                  </a:lnTo>
                  <a:lnTo>
                    <a:pt x="585" y="146"/>
                  </a:lnTo>
                  <a:lnTo>
                    <a:pt x="601" y="142"/>
                  </a:lnTo>
                  <a:lnTo>
                    <a:pt x="614" y="137"/>
                  </a:lnTo>
                  <a:lnTo>
                    <a:pt x="624" y="132"/>
                  </a:lnTo>
                  <a:lnTo>
                    <a:pt x="634" y="127"/>
                  </a:lnTo>
                  <a:lnTo>
                    <a:pt x="623" y="118"/>
                  </a:lnTo>
                  <a:lnTo>
                    <a:pt x="613" y="110"/>
                  </a:lnTo>
                  <a:lnTo>
                    <a:pt x="602" y="103"/>
                  </a:lnTo>
                  <a:lnTo>
                    <a:pt x="589" y="95"/>
                  </a:lnTo>
                  <a:lnTo>
                    <a:pt x="564" y="81"/>
                  </a:lnTo>
                  <a:lnTo>
                    <a:pt x="537" y="69"/>
                  </a:lnTo>
                  <a:lnTo>
                    <a:pt x="509" y="56"/>
                  </a:lnTo>
                  <a:lnTo>
                    <a:pt x="481" y="46"/>
                  </a:lnTo>
                  <a:lnTo>
                    <a:pt x="451" y="38"/>
                  </a:lnTo>
                  <a:lnTo>
                    <a:pt x="421" y="29"/>
                  </a:lnTo>
                  <a:lnTo>
                    <a:pt x="392" y="22"/>
                  </a:lnTo>
                  <a:lnTo>
                    <a:pt x="363" y="16"/>
                  </a:lnTo>
                  <a:lnTo>
                    <a:pt x="335" y="11"/>
                  </a:lnTo>
                  <a:lnTo>
                    <a:pt x="308" y="8"/>
                  </a:lnTo>
                  <a:lnTo>
                    <a:pt x="282" y="4"/>
                  </a:lnTo>
                  <a:lnTo>
                    <a:pt x="258" y="2"/>
                  </a:lnTo>
                  <a:lnTo>
                    <a:pt x="238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92600">
              <a:off x="7863840" y="2312280"/>
              <a:ext cx="79200" cy="36360"/>
            </a:xfrm>
            <a:custGeom>
              <a:avLst/>
              <a:gdLst/>
              <a:ahLst/>
              <a:rect l="l" t="t" r="r" b="b"/>
              <a:pathLst>
                <a:path w="541" h="225">
                  <a:moveTo>
                    <a:pt x="289" y="40"/>
                  </a:moveTo>
                  <a:lnTo>
                    <a:pt x="263" y="42"/>
                  </a:lnTo>
                  <a:lnTo>
                    <a:pt x="237" y="43"/>
                  </a:lnTo>
                  <a:lnTo>
                    <a:pt x="212" y="42"/>
                  </a:lnTo>
                  <a:lnTo>
                    <a:pt x="187" y="39"/>
                  </a:lnTo>
                  <a:lnTo>
                    <a:pt x="175" y="37"/>
                  </a:lnTo>
                  <a:lnTo>
                    <a:pt x="163" y="35"/>
                  </a:lnTo>
                  <a:lnTo>
                    <a:pt x="152" y="31"/>
                  </a:lnTo>
                  <a:lnTo>
                    <a:pt x="140" y="26"/>
                  </a:lnTo>
                  <a:lnTo>
                    <a:pt x="129" y="21"/>
                  </a:lnTo>
                  <a:lnTo>
                    <a:pt x="119" y="15"/>
                  </a:lnTo>
                  <a:lnTo>
                    <a:pt x="108" y="8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6" y="4"/>
                  </a:lnTo>
                  <a:lnTo>
                    <a:pt x="81" y="9"/>
                  </a:lnTo>
                  <a:lnTo>
                    <a:pt x="75" y="15"/>
                  </a:lnTo>
                  <a:lnTo>
                    <a:pt x="63" y="31"/>
                  </a:lnTo>
                  <a:lnTo>
                    <a:pt x="49" y="48"/>
                  </a:lnTo>
                  <a:lnTo>
                    <a:pt x="37" y="67"/>
                  </a:lnTo>
                  <a:lnTo>
                    <a:pt x="24" y="82"/>
                  </a:lnTo>
                  <a:lnTo>
                    <a:pt x="18" y="89"/>
                  </a:lnTo>
                  <a:lnTo>
                    <a:pt x="12" y="94"/>
                  </a:lnTo>
                  <a:lnTo>
                    <a:pt x="6" y="97"/>
                  </a:lnTo>
                  <a:lnTo>
                    <a:pt x="0" y="98"/>
                  </a:lnTo>
                  <a:lnTo>
                    <a:pt x="15" y="110"/>
                  </a:lnTo>
                  <a:lnTo>
                    <a:pt x="29" y="122"/>
                  </a:lnTo>
                  <a:lnTo>
                    <a:pt x="45" y="133"/>
                  </a:lnTo>
                  <a:lnTo>
                    <a:pt x="60" y="143"/>
                  </a:lnTo>
                  <a:lnTo>
                    <a:pt x="76" y="153"/>
                  </a:lnTo>
                  <a:lnTo>
                    <a:pt x="92" y="161"/>
                  </a:lnTo>
                  <a:lnTo>
                    <a:pt x="107" y="170"/>
                  </a:lnTo>
                  <a:lnTo>
                    <a:pt x="123" y="177"/>
                  </a:lnTo>
                  <a:lnTo>
                    <a:pt x="139" y="183"/>
                  </a:lnTo>
                  <a:lnTo>
                    <a:pt x="155" y="189"/>
                  </a:lnTo>
                  <a:lnTo>
                    <a:pt x="171" y="194"/>
                  </a:lnTo>
                  <a:lnTo>
                    <a:pt x="188" y="200"/>
                  </a:lnTo>
                  <a:lnTo>
                    <a:pt x="222" y="208"/>
                  </a:lnTo>
                  <a:lnTo>
                    <a:pt x="255" y="214"/>
                  </a:lnTo>
                  <a:lnTo>
                    <a:pt x="291" y="219"/>
                  </a:lnTo>
                  <a:lnTo>
                    <a:pt x="325" y="222"/>
                  </a:lnTo>
                  <a:lnTo>
                    <a:pt x="360" y="223"/>
                  </a:lnTo>
                  <a:lnTo>
                    <a:pt x="396" y="225"/>
                  </a:lnTo>
                  <a:lnTo>
                    <a:pt x="433" y="223"/>
                  </a:lnTo>
                  <a:lnTo>
                    <a:pt x="469" y="222"/>
                  </a:lnTo>
                  <a:lnTo>
                    <a:pt x="505" y="220"/>
                  </a:lnTo>
                  <a:lnTo>
                    <a:pt x="541" y="218"/>
                  </a:lnTo>
                  <a:lnTo>
                    <a:pt x="540" y="210"/>
                  </a:lnTo>
                  <a:lnTo>
                    <a:pt x="538" y="202"/>
                  </a:lnTo>
                  <a:lnTo>
                    <a:pt x="535" y="193"/>
                  </a:lnTo>
                  <a:lnTo>
                    <a:pt x="531" y="184"/>
                  </a:lnTo>
                  <a:lnTo>
                    <a:pt x="526" y="176"/>
                  </a:lnTo>
                  <a:lnTo>
                    <a:pt x="521" y="168"/>
                  </a:lnTo>
                  <a:lnTo>
                    <a:pt x="514" y="160"/>
                  </a:lnTo>
                  <a:lnTo>
                    <a:pt x="507" y="152"/>
                  </a:lnTo>
                  <a:lnTo>
                    <a:pt x="491" y="136"/>
                  </a:lnTo>
                  <a:lnTo>
                    <a:pt x="473" y="122"/>
                  </a:lnTo>
                  <a:lnTo>
                    <a:pt x="453" y="107"/>
                  </a:lnTo>
                  <a:lnTo>
                    <a:pt x="433" y="95"/>
                  </a:lnTo>
                  <a:lnTo>
                    <a:pt x="411" y="82"/>
                  </a:lnTo>
                  <a:lnTo>
                    <a:pt x="390" y="72"/>
                  </a:lnTo>
                  <a:lnTo>
                    <a:pt x="368" y="63"/>
                  </a:lnTo>
                  <a:lnTo>
                    <a:pt x="349" y="56"/>
                  </a:lnTo>
                  <a:lnTo>
                    <a:pt x="330" y="48"/>
                  </a:lnTo>
                  <a:lnTo>
                    <a:pt x="313" y="44"/>
                  </a:lnTo>
                  <a:lnTo>
                    <a:pt x="300" y="41"/>
                  </a:lnTo>
                  <a:lnTo>
                    <a:pt x="28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92600">
              <a:off x="7843680" y="2385360"/>
              <a:ext cx="75960" cy="31320"/>
            </a:xfrm>
            <a:custGeom>
              <a:avLst/>
              <a:gdLst/>
              <a:ahLst/>
              <a:rect l="l" t="t" r="r" b="b"/>
              <a:pathLst>
                <a:path w="529" h="200">
                  <a:moveTo>
                    <a:pt x="403" y="4"/>
                  </a:moveTo>
                  <a:lnTo>
                    <a:pt x="376" y="4"/>
                  </a:lnTo>
                  <a:lnTo>
                    <a:pt x="349" y="4"/>
                  </a:lnTo>
                  <a:lnTo>
                    <a:pt x="322" y="3"/>
                  </a:lnTo>
                  <a:lnTo>
                    <a:pt x="295" y="2"/>
                  </a:lnTo>
                  <a:lnTo>
                    <a:pt x="268" y="1"/>
                  </a:lnTo>
                  <a:lnTo>
                    <a:pt x="242" y="1"/>
                  </a:lnTo>
                  <a:lnTo>
                    <a:pt x="216" y="0"/>
                  </a:lnTo>
                  <a:lnTo>
                    <a:pt x="190" y="1"/>
                  </a:lnTo>
                  <a:lnTo>
                    <a:pt x="164" y="3"/>
                  </a:lnTo>
                  <a:lnTo>
                    <a:pt x="139" y="6"/>
                  </a:lnTo>
                  <a:lnTo>
                    <a:pt x="115" y="11"/>
                  </a:lnTo>
                  <a:lnTo>
                    <a:pt x="91" y="17"/>
                  </a:lnTo>
                  <a:lnTo>
                    <a:pt x="78" y="21"/>
                  </a:lnTo>
                  <a:lnTo>
                    <a:pt x="67" y="26"/>
                  </a:lnTo>
                  <a:lnTo>
                    <a:pt x="56" y="31"/>
                  </a:lnTo>
                  <a:lnTo>
                    <a:pt x="44" y="36"/>
                  </a:lnTo>
                  <a:lnTo>
                    <a:pt x="33" y="44"/>
                  </a:lnTo>
                  <a:lnTo>
                    <a:pt x="21" y="51"/>
                  </a:lnTo>
                  <a:lnTo>
                    <a:pt x="10" y="58"/>
                  </a:lnTo>
                  <a:lnTo>
                    <a:pt x="0" y="68"/>
                  </a:lnTo>
                  <a:lnTo>
                    <a:pt x="13" y="76"/>
                  </a:lnTo>
                  <a:lnTo>
                    <a:pt x="30" y="84"/>
                  </a:lnTo>
                  <a:lnTo>
                    <a:pt x="47" y="92"/>
                  </a:lnTo>
                  <a:lnTo>
                    <a:pt x="67" y="101"/>
                  </a:lnTo>
                  <a:lnTo>
                    <a:pt x="110" y="117"/>
                  </a:lnTo>
                  <a:lnTo>
                    <a:pt x="155" y="134"/>
                  </a:lnTo>
                  <a:lnTo>
                    <a:pt x="201" y="150"/>
                  </a:lnTo>
                  <a:lnTo>
                    <a:pt x="244" y="166"/>
                  </a:lnTo>
                  <a:lnTo>
                    <a:pt x="265" y="174"/>
                  </a:lnTo>
                  <a:lnTo>
                    <a:pt x="284" y="183"/>
                  </a:lnTo>
                  <a:lnTo>
                    <a:pt x="301" y="191"/>
                  </a:lnTo>
                  <a:lnTo>
                    <a:pt x="316" y="200"/>
                  </a:lnTo>
                  <a:lnTo>
                    <a:pt x="324" y="191"/>
                  </a:lnTo>
                  <a:lnTo>
                    <a:pt x="332" y="183"/>
                  </a:lnTo>
                  <a:lnTo>
                    <a:pt x="340" y="176"/>
                  </a:lnTo>
                  <a:lnTo>
                    <a:pt x="347" y="170"/>
                  </a:lnTo>
                  <a:lnTo>
                    <a:pt x="354" y="166"/>
                  </a:lnTo>
                  <a:lnTo>
                    <a:pt x="361" y="163"/>
                  </a:lnTo>
                  <a:lnTo>
                    <a:pt x="368" y="161"/>
                  </a:lnTo>
                  <a:lnTo>
                    <a:pt x="375" y="160"/>
                  </a:lnTo>
                  <a:lnTo>
                    <a:pt x="381" y="161"/>
                  </a:lnTo>
                  <a:lnTo>
                    <a:pt x="388" y="162"/>
                  </a:lnTo>
                  <a:lnTo>
                    <a:pt x="396" y="165"/>
                  </a:lnTo>
                  <a:lnTo>
                    <a:pt x="403" y="168"/>
                  </a:lnTo>
                  <a:lnTo>
                    <a:pt x="410" y="173"/>
                  </a:lnTo>
                  <a:lnTo>
                    <a:pt x="418" y="180"/>
                  </a:lnTo>
                  <a:lnTo>
                    <a:pt x="428" y="186"/>
                  </a:lnTo>
                  <a:lnTo>
                    <a:pt x="437" y="194"/>
                  </a:lnTo>
                  <a:lnTo>
                    <a:pt x="483" y="194"/>
                  </a:lnTo>
                  <a:lnTo>
                    <a:pt x="529" y="142"/>
                  </a:lnTo>
                  <a:lnTo>
                    <a:pt x="528" y="133"/>
                  </a:lnTo>
                  <a:lnTo>
                    <a:pt x="524" y="124"/>
                  </a:lnTo>
                  <a:lnTo>
                    <a:pt x="519" y="112"/>
                  </a:lnTo>
                  <a:lnTo>
                    <a:pt x="513" y="102"/>
                  </a:lnTo>
                  <a:lnTo>
                    <a:pt x="504" y="90"/>
                  </a:lnTo>
                  <a:lnTo>
                    <a:pt x="495" y="78"/>
                  </a:lnTo>
                  <a:lnTo>
                    <a:pt x="485" y="67"/>
                  </a:lnTo>
                  <a:lnTo>
                    <a:pt x="474" y="56"/>
                  </a:lnTo>
                  <a:lnTo>
                    <a:pt x="464" y="46"/>
                  </a:lnTo>
                  <a:lnTo>
                    <a:pt x="453" y="35"/>
                  </a:lnTo>
                  <a:lnTo>
                    <a:pt x="442" y="27"/>
                  </a:lnTo>
                  <a:lnTo>
                    <a:pt x="432" y="19"/>
                  </a:lnTo>
                  <a:lnTo>
                    <a:pt x="422" y="13"/>
                  </a:lnTo>
                  <a:lnTo>
                    <a:pt x="414" y="8"/>
                  </a:lnTo>
                  <a:lnTo>
                    <a:pt x="408" y="5"/>
                  </a:lnTo>
                  <a:lnTo>
                    <a:pt x="40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92600">
              <a:off x="7671960" y="2438280"/>
              <a:ext cx="239400" cy="42480"/>
            </a:xfrm>
            <a:custGeom>
              <a:avLst/>
              <a:gdLst/>
              <a:ahLst/>
              <a:rect l="l" t="t" r="r" b="b"/>
              <a:pathLst>
                <a:path w="1656" h="264">
                  <a:moveTo>
                    <a:pt x="1218" y="48"/>
                  </a:moveTo>
                  <a:lnTo>
                    <a:pt x="1194" y="34"/>
                  </a:lnTo>
                  <a:lnTo>
                    <a:pt x="1164" y="24"/>
                  </a:lnTo>
                  <a:lnTo>
                    <a:pt x="1127" y="15"/>
                  </a:lnTo>
                  <a:lnTo>
                    <a:pt x="1084" y="9"/>
                  </a:lnTo>
                  <a:lnTo>
                    <a:pt x="1034" y="4"/>
                  </a:lnTo>
                  <a:lnTo>
                    <a:pt x="980" y="1"/>
                  </a:lnTo>
                  <a:lnTo>
                    <a:pt x="922" y="0"/>
                  </a:lnTo>
                  <a:lnTo>
                    <a:pt x="861" y="0"/>
                  </a:lnTo>
                  <a:lnTo>
                    <a:pt x="796" y="2"/>
                  </a:lnTo>
                  <a:lnTo>
                    <a:pt x="731" y="5"/>
                  </a:lnTo>
                  <a:lnTo>
                    <a:pt x="664" y="10"/>
                  </a:lnTo>
                  <a:lnTo>
                    <a:pt x="596" y="16"/>
                  </a:lnTo>
                  <a:lnTo>
                    <a:pt x="529" y="22"/>
                  </a:lnTo>
                  <a:lnTo>
                    <a:pt x="463" y="30"/>
                  </a:lnTo>
                  <a:lnTo>
                    <a:pt x="398" y="39"/>
                  </a:lnTo>
                  <a:lnTo>
                    <a:pt x="336" y="48"/>
                  </a:lnTo>
                  <a:lnTo>
                    <a:pt x="277" y="58"/>
                  </a:lnTo>
                  <a:lnTo>
                    <a:pt x="221" y="70"/>
                  </a:lnTo>
                  <a:lnTo>
                    <a:pt x="170" y="80"/>
                  </a:lnTo>
                  <a:lnTo>
                    <a:pt x="125" y="93"/>
                  </a:lnTo>
                  <a:lnTo>
                    <a:pt x="85" y="104"/>
                  </a:lnTo>
                  <a:lnTo>
                    <a:pt x="52" y="116"/>
                  </a:lnTo>
                  <a:lnTo>
                    <a:pt x="26" y="129"/>
                  </a:lnTo>
                  <a:lnTo>
                    <a:pt x="9" y="140"/>
                  </a:lnTo>
                  <a:lnTo>
                    <a:pt x="0" y="153"/>
                  </a:lnTo>
                  <a:lnTo>
                    <a:pt x="0" y="165"/>
                  </a:lnTo>
                  <a:lnTo>
                    <a:pt x="12" y="177"/>
                  </a:lnTo>
                  <a:lnTo>
                    <a:pt x="34" y="188"/>
                  </a:lnTo>
                  <a:lnTo>
                    <a:pt x="67" y="198"/>
                  </a:lnTo>
                  <a:lnTo>
                    <a:pt x="113" y="209"/>
                  </a:lnTo>
                  <a:lnTo>
                    <a:pt x="171" y="218"/>
                  </a:lnTo>
                  <a:lnTo>
                    <a:pt x="245" y="226"/>
                  </a:lnTo>
                  <a:lnTo>
                    <a:pt x="324" y="226"/>
                  </a:lnTo>
                  <a:lnTo>
                    <a:pt x="416" y="225"/>
                  </a:lnTo>
                  <a:lnTo>
                    <a:pt x="517" y="226"/>
                  </a:lnTo>
                  <a:lnTo>
                    <a:pt x="617" y="226"/>
                  </a:lnTo>
                  <a:lnTo>
                    <a:pt x="665" y="227"/>
                  </a:lnTo>
                  <a:lnTo>
                    <a:pt x="709" y="229"/>
                  </a:lnTo>
                  <a:lnTo>
                    <a:pt x="751" y="231"/>
                  </a:lnTo>
                  <a:lnTo>
                    <a:pt x="788" y="234"/>
                  </a:lnTo>
                  <a:lnTo>
                    <a:pt x="819" y="237"/>
                  </a:lnTo>
                  <a:lnTo>
                    <a:pt x="844" y="240"/>
                  </a:lnTo>
                  <a:lnTo>
                    <a:pt x="854" y="242"/>
                  </a:lnTo>
                  <a:lnTo>
                    <a:pt x="863" y="244"/>
                  </a:lnTo>
                  <a:lnTo>
                    <a:pt x="869" y="247"/>
                  </a:lnTo>
                  <a:lnTo>
                    <a:pt x="872" y="249"/>
                  </a:lnTo>
                  <a:lnTo>
                    <a:pt x="880" y="245"/>
                  </a:lnTo>
                  <a:lnTo>
                    <a:pt x="893" y="242"/>
                  </a:lnTo>
                  <a:lnTo>
                    <a:pt x="907" y="240"/>
                  </a:lnTo>
                  <a:lnTo>
                    <a:pt x="926" y="239"/>
                  </a:lnTo>
                  <a:lnTo>
                    <a:pt x="948" y="239"/>
                  </a:lnTo>
                  <a:lnTo>
                    <a:pt x="972" y="239"/>
                  </a:lnTo>
                  <a:lnTo>
                    <a:pt x="997" y="240"/>
                  </a:lnTo>
                  <a:lnTo>
                    <a:pt x="1025" y="242"/>
                  </a:lnTo>
                  <a:lnTo>
                    <a:pt x="1087" y="246"/>
                  </a:lnTo>
                  <a:lnTo>
                    <a:pt x="1153" y="251"/>
                  </a:lnTo>
                  <a:lnTo>
                    <a:pt x="1223" y="256"/>
                  </a:lnTo>
                  <a:lnTo>
                    <a:pt x="1294" y="261"/>
                  </a:lnTo>
                  <a:lnTo>
                    <a:pt x="1329" y="263"/>
                  </a:lnTo>
                  <a:lnTo>
                    <a:pt x="1364" y="264"/>
                  </a:lnTo>
                  <a:lnTo>
                    <a:pt x="1398" y="264"/>
                  </a:lnTo>
                  <a:lnTo>
                    <a:pt x="1431" y="264"/>
                  </a:lnTo>
                  <a:lnTo>
                    <a:pt x="1463" y="263"/>
                  </a:lnTo>
                  <a:lnTo>
                    <a:pt x="1493" y="261"/>
                  </a:lnTo>
                  <a:lnTo>
                    <a:pt x="1521" y="258"/>
                  </a:lnTo>
                  <a:lnTo>
                    <a:pt x="1548" y="254"/>
                  </a:lnTo>
                  <a:lnTo>
                    <a:pt x="1572" y="249"/>
                  </a:lnTo>
                  <a:lnTo>
                    <a:pt x="1593" y="242"/>
                  </a:lnTo>
                  <a:lnTo>
                    <a:pt x="1612" y="234"/>
                  </a:lnTo>
                  <a:lnTo>
                    <a:pt x="1628" y="224"/>
                  </a:lnTo>
                  <a:lnTo>
                    <a:pt x="1640" y="213"/>
                  </a:lnTo>
                  <a:lnTo>
                    <a:pt x="1649" y="200"/>
                  </a:lnTo>
                  <a:lnTo>
                    <a:pt x="1655" y="185"/>
                  </a:lnTo>
                  <a:lnTo>
                    <a:pt x="1656" y="168"/>
                  </a:lnTo>
                  <a:lnTo>
                    <a:pt x="1644" y="168"/>
                  </a:lnTo>
                  <a:lnTo>
                    <a:pt x="1632" y="168"/>
                  </a:lnTo>
                  <a:lnTo>
                    <a:pt x="1619" y="167"/>
                  </a:lnTo>
                  <a:lnTo>
                    <a:pt x="1607" y="165"/>
                  </a:lnTo>
                  <a:lnTo>
                    <a:pt x="1580" y="159"/>
                  </a:lnTo>
                  <a:lnTo>
                    <a:pt x="1553" y="152"/>
                  </a:lnTo>
                  <a:lnTo>
                    <a:pt x="1525" y="142"/>
                  </a:lnTo>
                  <a:lnTo>
                    <a:pt x="1496" y="131"/>
                  </a:lnTo>
                  <a:lnTo>
                    <a:pt x="1466" y="120"/>
                  </a:lnTo>
                  <a:lnTo>
                    <a:pt x="1437" y="108"/>
                  </a:lnTo>
                  <a:lnTo>
                    <a:pt x="1407" y="97"/>
                  </a:lnTo>
                  <a:lnTo>
                    <a:pt x="1378" y="85"/>
                  </a:lnTo>
                  <a:lnTo>
                    <a:pt x="1349" y="74"/>
                  </a:lnTo>
                  <a:lnTo>
                    <a:pt x="1320" y="65"/>
                  </a:lnTo>
                  <a:lnTo>
                    <a:pt x="1293" y="57"/>
                  </a:lnTo>
                  <a:lnTo>
                    <a:pt x="1266" y="51"/>
                  </a:lnTo>
                  <a:lnTo>
                    <a:pt x="1253" y="49"/>
                  </a:lnTo>
                  <a:lnTo>
                    <a:pt x="1241" y="48"/>
                  </a:lnTo>
                  <a:lnTo>
                    <a:pt x="1230" y="47"/>
                  </a:lnTo>
                  <a:lnTo>
                    <a:pt x="12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92600">
              <a:off x="7784640" y="2545920"/>
              <a:ext cx="109080" cy="26640"/>
            </a:xfrm>
            <a:custGeom>
              <a:avLst/>
              <a:gdLst/>
              <a:ahLst/>
              <a:rect l="l" t="t" r="r" b="b"/>
              <a:pathLst>
                <a:path w="754" h="170">
                  <a:moveTo>
                    <a:pt x="697" y="77"/>
                  </a:moveTo>
                  <a:lnTo>
                    <a:pt x="686" y="69"/>
                  </a:lnTo>
                  <a:lnTo>
                    <a:pt x="674" y="60"/>
                  </a:lnTo>
                  <a:lnTo>
                    <a:pt x="658" y="53"/>
                  </a:lnTo>
                  <a:lnTo>
                    <a:pt x="642" y="46"/>
                  </a:lnTo>
                  <a:lnTo>
                    <a:pt x="622" y="39"/>
                  </a:lnTo>
                  <a:lnTo>
                    <a:pt x="602" y="32"/>
                  </a:lnTo>
                  <a:lnTo>
                    <a:pt x="579" y="27"/>
                  </a:lnTo>
                  <a:lnTo>
                    <a:pt x="556" y="22"/>
                  </a:lnTo>
                  <a:lnTo>
                    <a:pt x="531" y="17"/>
                  </a:lnTo>
                  <a:lnTo>
                    <a:pt x="506" y="13"/>
                  </a:lnTo>
                  <a:lnTo>
                    <a:pt x="479" y="9"/>
                  </a:lnTo>
                  <a:lnTo>
                    <a:pt x="451" y="6"/>
                  </a:lnTo>
                  <a:lnTo>
                    <a:pt x="423" y="3"/>
                  </a:lnTo>
                  <a:lnTo>
                    <a:pt x="395" y="2"/>
                  </a:lnTo>
                  <a:lnTo>
                    <a:pt x="366" y="1"/>
                  </a:lnTo>
                  <a:lnTo>
                    <a:pt x="337" y="0"/>
                  </a:lnTo>
                  <a:lnTo>
                    <a:pt x="309" y="1"/>
                  </a:lnTo>
                  <a:lnTo>
                    <a:pt x="280" y="2"/>
                  </a:lnTo>
                  <a:lnTo>
                    <a:pt x="252" y="4"/>
                  </a:lnTo>
                  <a:lnTo>
                    <a:pt x="225" y="6"/>
                  </a:lnTo>
                  <a:lnTo>
                    <a:pt x="198" y="9"/>
                  </a:lnTo>
                  <a:lnTo>
                    <a:pt x="172" y="14"/>
                  </a:lnTo>
                  <a:lnTo>
                    <a:pt x="147" y="19"/>
                  </a:lnTo>
                  <a:lnTo>
                    <a:pt x="124" y="25"/>
                  </a:lnTo>
                  <a:lnTo>
                    <a:pt x="102" y="32"/>
                  </a:lnTo>
                  <a:lnTo>
                    <a:pt x="81" y="40"/>
                  </a:lnTo>
                  <a:lnTo>
                    <a:pt x="62" y="48"/>
                  </a:lnTo>
                  <a:lnTo>
                    <a:pt x="46" y="57"/>
                  </a:lnTo>
                  <a:lnTo>
                    <a:pt x="30" y="69"/>
                  </a:lnTo>
                  <a:lnTo>
                    <a:pt x="18" y="80"/>
                  </a:lnTo>
                  <a:lnTo>
                    <a:pt x="7" y="92"/>
                  </a:lnTo>
                  <a:lnTo>
                    <a:pt x="0" y="106"/>
                  </a:lnTo>
                  <a:lnTo>
                    <a:pt x="42" y="105"/>
                  </a:lnTo>
                  <a:lnTo>
                    <a:pt x="85" y="106"/>
                  </a:lnTo>
                  <a:lnTo>
                    <a:pt x="130" y="108"/>
                  </a:lnTo>
                  <a:lnTo>
                    <a:pt x="176" y="112"/>
                  </a:lnTo>
                  <a:lnTo>
                    <a:pt x="223" y="117"/>
                  </a:lnTo>
                  <a:lnTo>
                    <a:pt x="271" y="124"/>
                  </a:lnTo>
                  <a:lnTo>
                    <a:pt x="319" y="131"/>
                  </a:lnTo>
                  <a:lnTo>
                    <a:pt x="368" y="137"/>
                  </a:lnTo>
                  <a:lnTo>
                    <a:pt x="418" y="144"/>
                  </a:lnTo>
                  <a:lnTo>
                    <a:pt x="467" y="152"/>
                  </a:lnTo>
                  <a:lnTo>
                    <a:pt x="516" y="157"/>
                  </a:lnTo>
                  <a:lnTo>
                    <a:pt x="565" y="163"/>
                  </a:lnTo>
                  <a:lnTo>
                    <a:pt x="614" y="166"/>
                  </a:lnTo>
                  <a:lnTo>
                    <a:pt x="661" y="169"/>
                  </a:lnTo>
                  <a:lnTo>
                    <a:pt x="708" y="170"/>
                  </a:lnTo>
                  <a:lnTo>
                    <a:pt x="754" y="169"/>
                  </a:lnTo>
                  <a:lnTo>
                    <a:pt x="752" y="152"/>
                  </a:lnTo>
                  <a:lnTo>
                    <a:pt x="746" y="135"/>
                  </a:lnTo>
                  <a:lnTo>
                    <a:pt x="741" y="119"/>
                  </a:lnTo>
                  <a:lnTo>
                    <a:pt x="734" y="106"/>
                  </a:lnTo>
                  <a:lnTo>
                    <a:pt x="730" y="100"/>
                  </a:lnTo>
                  <a:lnTo>
                    <a:pt x="726" y="93"/>
                  </a:lnTo>
                  <a:lnTo>
                    <a:pt x="721" y="89"/>
                  </a:lnTo>
                  <a:lnTo>
                    <a:pt x="717" y="85"/>
                  </a:lnTo>
                  <a:lnTo>
                    <a:pt x="712" y="81"/>
                  </a:lnTo>
                  <a:lnTo>
                    <a:pt x="707" y="79"/>
                  </a:lnTo>
                  <a:lnTo>
                    <a:pt x="702" y="78"/>
                  </a:lnTo>
                  <a:lnTo>
                    <a:pt x="69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92600">
              <a:off x="7767360" y="2593440"/>
              <a:ext cx="87120" cy="29880"/>
            </a:xfrm>
            <a:custGeom>
              <a:avLst/>
              <a:gdLst/>
              <a:ahLst/>
              <a:rect l="l" t="t" r="r" b="b"/>
              <a:pathLst>
                <a:path w="605" h="188">
                  <a:moveTo>
                    <a:pt x="524" y="0"/>
                  </a:moveTo>
                  <a:lnTo>
                    <a:pt x="482" y="1"/>
                  </a:lnTo>
                  <a:lnTo>
                    <a:pt x="412" y="1"/>
                  </a:lnTo>
                  <a:lnTo>
                    <a:pt x="371" y="1"/>
                  </a:lnTo>
                  <a:lnTo>
                    <a:pt x="326" y="3"/>
                  </a:lnTo>
                  <a:lnTo>
                    <a:pt x="281" y="5"/>
                  </a:lnTo>
                  <a:lnTo>
                    <a:pt x="234" y="8"/>
                  </a:lnTo>
                  <a:lnTo>
                    <a:pt x="211" y="11"/>
                  </a:lnTo>
                  <a:lnTo>
                    <a:pt x="189" y="13"/>
                  </a:lnTo>
                  <a:lnTo>
                    <a:pt x="167" y="16"/>
                  </a:lnTo>
                  <a:lnTo>
                    <a:pt x="145" y="20"/>
                  </a:lnTo>
                  <a:lnTo>
                    <a:pt x="125" y="25"/>
                  </a:lnTo>
                  <a:lnTo>
                    <a:pt x="106" y="30"/>
                  </a:lnTo>
                  <a:lnTo>
                    <a:pt x="87" y="36"/>
                  </a:lnTo>
                  <a:lnTo>
                    <a:pt x="70" y="42"/>
                  </a:lnTo>
                  <a:lnTo>
                    <a:pt x="55" y="48"/>
                  </a:lnTo>
                  <a:lnTo>
                    <a:pt x="40" y="57"/>
                  </a:lnTo>
                  <a:lnTo>
                    <a:pt x="29" y="65"/>
                  </a:lnTo>
                  <a:lnTo>
                    <a:pt x="19" y="74"/>
                  </a:lnTo>
                  <a:lnTo>
                    <a:pt x="10" y="85"/>
                  </a:lnTo>
                  <a:lnTo>
                    <a:pt x="4" y="95"/>
                  </a:lnTo>
                  <a:lnTo>
                    <a:pt x="1" y="108"/>
                  </a:lnTo>
                  <a:lnTo>
                    <a:pt x="0" y="121"/>
                  </a:lnTo>
                  <a:lnTo>
                    <a:pt x="10" y="121"/>
                  </a:lnTo>
                  <a:lnTo>
                    <a:pt x="23" y="121"/>
                  </a:lnTo>
                  <a:lnTo>
                    <a:pt x="36" y="123"/>
                  </a:lnTo>
                  <a:lnTo>
                    <a:pt x="52" y="126"/>
                  </a:lnTo>
                  <a:lnTo>
                    <a:pt x="87" y="133"/>
                  </a:lnTo>
                  <a:lnTo>
                    <a:pt x="127" y="142"/>
                  </a:lnTo>
                  <a:lnTo>
                    <a:pt x="171" y="152"/>
                  </a:lnTo>
                  <a:lnTo>
                    <a:pt x="218" y="162"/>
                  </a:lnTo>
                  <a:lnTo>
                    <a:pt x="266" y="172"/>
                  </a:lnTo>
                  <a:lnTo>
                    <a:pt x="316" y="180"/>
                  </a:lnTo>
                  <a:lnTo>
                    <a:pt x="340" y="183"/>
                  </a:lnTo>
                  <a:lnTo>
                    <a:pt x="365" y="185"/>
                  </a:lnTo>
                  <a:lnTo>
                    <a:pt x="389" y="187"/>
                  </a:lnTo>
                  <a:lnTo>
                    <a:pt x="411" y="188"/>
                  </a:lnTo>
                  <a:lnTo>
                    <a:pt x="434" y="187"/>
                  </a:lnTo>
                  <a:lnTo>
                    <a:pt x="456" y="186"/>
                  </a:lnTo>
                  <a:lnTo>
                    <a:pt x="478" y="184"/>
                  </a:lnTo>
                  <a:lnTo>
                    <a:pt x="497" y="180"/>
                  </a:lnTo>
                  <a:lnTo>
                    <a:pt x="516" y="175"/>
                  </a:lnTo>
                  <a:lnTo>
                    <a:pt x="534" y="169"/>
                  </a:lnTo>
                  <a:lnTo>
                    <a:pt x="550" y="160"/>
                  </a:lnTo>
                  <a:lnTo>
                    <a:pt x="565" y="151"/>
                  </a:lnTo>
                  <a:lnTo>
                    <a:pt x="577" y="139"/>
                  </a:lnTo>
                  <a:lnTo>
                    <a:pt x="589" y="125"/>
                  </a:lnTo>
                  <a:lnTo>
                    <a:pt x="598" y="110"/>
                  </a:lnTo>
                  <a:lnTo>
                    <a:pt x="605" y="92"/>
                  </a:lnTo>
                  <a:lnTo>
                    <a:pt x="599" y="45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92600">
              <a:off x="7736760" y="2666520"/>
              <a:ext cx="90360" cy="18720"/>
            </a:xfrm>
            <a:custGeom>
              <a:avLst/>
              <a:gdLst/>
              <a:ahLst/>
              <a:rect l="l" t="t" r="r" b="b"/>
              <a:pathLst>
                <a:path w="628" h="115">
                  <a:moveTo>
                    <a:pt x="554" y="0"/>
                  </a:moveTo>
                  <a:lnTo>
                    <a:pt x="0" y="23"/>
                  </a:lnTo>
                  <a:lnTo>
                    <a:pt x="3" y="32"/>
                  </a:lnTo>
                  <a:lnTo>
                    <a:pt x="9" y="39"/>
                  </a:lnTo>
                  <a:lnTo>
                    <a:pt x="17" y="48"/>
                  </a:lnTo>
                  <a:lnTo>
                    <a:pt x="28" y="55"/>
                  </a:lnTo>
                  <a:lnTo>
                    <a:pt x="43" y="61"/>
                  </a:lnTo>
                  <a:lnTo>
                    <a:pt x="58" y="67"/>
                  </a:lnTo>
                  <a:lnTo>
                    <a:pt x="77" y="74"/>
                  </a:lnTo>
                  <a:lnTo>
                    <a:pt x="98" y="80"/>
                  </a:lnTo>
                  <a:lnTo>
                    <a:pt x="120" y="85"/>
                  </a:lnTo>
                  <a:lnTo>
                    <a:pt x="144" y="89"/>
                  </a:lnTo>
                  <a:lnTo>
                    <a:pt x="169" y="93"/>
                  </a:lnTo>
                  <a:lnTo>
                    <a:pt x="196" y="98"/>
                  </a:lnTo>
                  <a:lnTo>
                    <a:pt x="251" y="105"/>
                  </a:lnTo>
                  <a:lnTo>
                    <a:pt x="308" y="110"/>
                  </a:lnTo>
                  <a:lnTo>
                    <a:pt x="365" y="113"/>
                  </a:lnTo>
                  <a:lnTo>
                    <a:pt x="421" y="115"/>
                  </a:lnTo>
                  <a:lnTo>
                    <a:pt x="474" y="115"/>
                  </a:lnTo>
                  <a:lnTo>
                    <a:pt x="522" y="114"/>
                  </a:lnTo>
                  <a:lnTo>
                    <a:pt x="542" y="113"/>
                  </a:lnTo>
                  <a:lnTo>
                    <a:pt x="562" y="111"/>
                  </a:lnTo>
                  <a:lnTo>
                    <a:pt x="580" y="109"/>
                  </a:lnTo>
                  <a:lnTo>
                    <a:pt x="595" y="107"/>
                  </a:lnTo>
                  <a:lnTo>
                    <a:pt x="608" y="104"/>
                  </a:lnTo>
                  <a:lnTo>
                    <a:pt x="618" y="101"/>
                  </a:lnTo>
                  <a:lnTo>
                    <a:pt x="624" y="97"/>
                  </a:lnTo>
                  <a:lnTo>
                    <a:pt x="628" y="92"/>
                  </a:lnTo>
                  <a:lnTo>
                    <a:pt x="628" y="41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92600">
              <a:off x="7711560" y="2709360"/>
              <a:ext cx="96480" cy="26640"/>
            </a:xfrm>
            <a:custGeom>
              <a:avLst/>
              <a:gdLst/>
              <a:ahLst/>
              <a:rect l="l" t="t" r="r" b="b"/>
              <a:pathLst>
                <a:path w="653" h="155">
                  <a:moveTo>
                    <a:pt x="527" y="0"/>
                  </a:moveTo>
                  <a:lnTo>
                    <a:pt x="409" y="2"/>
                  </a:lnTo>
                  <a:lnTo>
                    <a:pt x="308" y="3"/>
                  </a:lnTo>
                  <a:lnTo>
                    <a:pt x="224" y="5"/>
                  </a:lnTo>
                  <a:lnTo>
                    <a:pt x="156" y="8"/>
                  </a:lnTo>
                  <a:lnTo>
                    <a:pt x="127" y="10"/>
                  </a:lnTo>
                  <a:lnTo>
                    <a:pt x="102" y="12"/>
                  </a:lnTo>
                  <a:lnTo>
                    <a:pt x="79" y="14"/>
                  </a:lnTo>
                  <a:lnTo>
                    <a:pt x="60" y="17"/>
                  </a:lnTo>
                  <a:lnTo>
                    <a:pt x="44" y="19"/>
                  </a:lnTo>
                  <a:lnTo>
                    <a:pt x="30" y="23"/>
                  </a:lnTo>
                  <a:lnTo>
                    <a:pt x="20" y="26"/>
                  </a:lnTo>
                  <a:lnTo>
                    <a:pt x="12" y="31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2"/>
                  </a:lnTo>
                  <a:lnTo>
                    <a:pt x="12" y="69"/>
                  </a:lnTo>
                  <a:lnTo>
                    <a:pt x="19" y="76"/>
                  </a:lnTo>
                  <a:lnTo>
                    <a:pt x="35" y="93"/>
                  </a:lnTo>
                  <a:lnTo>
                    <a:pt x="55" y="112"/>
                  </a:lnTo>
                  <a:lnTo>
                    <a:pt x="77" y="132"/>
                  </a:lnTo>
                  <a:lnTo>
                    <a:pt x="101" y="155"/>
                  </a:lnTo>
                  <a:lnTo>
                    <a:pt x="653" y="132"/>
                  </a:lnTo>
                  <a:lnTo>
                    <a:pt x="651" y="123"/>
                  </a:lnTo>
                  <a:lnTo>
                    <a:pt x="647" y="114"/>
                  </a:lnTo>
                  <a:lnTo>
                    <a:pt x="642" y="103"/>
                  </a:lnTo>
                  <a:lnTo>
                    <a:pt x="635" y="93"/>
                  </a:lnTo>
                  <a:lnTo>
                    <a:pt x="626" y="81"/>
                  </a:lnTo>
                  <a:lnTo>
                    <a:pt x="617" y="70"/>
                  </a:lnTo>
                  <a:lnTo>
                    <a:pt x="607" y="60"/>
                  </a:lnTo>
                  <a:lnTo>
                    <a:pt x="597" y="49"/>
                  </a:lnTo>
                  <a:lnTo>
                    <a:pt x="576" y="30"/>
                  </a:lnTo>
                  <a:lnTo>
                    <a:pt x="556" y="14"/>
                  </a:lnTo>
                  <a:lnTo>
                    <a:pt x="547" y="8"/>
                  </a:lnTo>
                  <a:lnTo>
                    <a:pt x="539" y="4"/>
                  </a:lnTo>
                  <a:lnTo>
                    <a:pt x="532" y="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92600">
              <a:off x="7586640" y="2776320"/>
              <a:ext cx="213840" cy="37800"/>
            </a:xfrm>
            <a:custGeom>
              <a:avLst/>
              <a:gdLst/>
              <a:ahLst/>
              <a:rect l="l" t="t" r="r" b="b"/>
              <a:pathLst>
                <a:path w="1475" h="247">
                  <a:moveTo>
                    <a:pt x="6" y="182"/>
                  </a:moveTo>
                  <a:lnTo>
                    <a:pt x="60" y="181"/>
                  </a:lnTo>
                  <a:lnTo>
                    <a:pt x="116" y="180"/>
                  </a:lnTo>
                  <a:lnTo>
                    <a:pt x="172" y="180"/>
                  </a:lnTo>
                  <a:lnTo>
                    <a:pt x="230" y="180"/>
                  </a:lnTo>
                  <a:lnTo>
                    <a:pt x="287" y="182"/>
                  </a:lnTo>
                  <a:lnTo>
                    <a:pt x="345" y="185"/>
                  </a:lnTo>
                  <a:lnTo>
                    <a:pt x="401" y="188"/>
                  </a:lnTo>
                  <a:lnTo>
                    <a:pt x="457" y="191"/>
                  </a:lnTo>
                  <a:lnTo>
                    <a:pt x="511" y="195"/>
                  </a:lnTo>
                  <a:lnTo>
                    <a:pt x="564" y="200"/>
                  </a:lnTo>
                  <a:lnTo>
                    <a:pt x="613" y="206"/>
                  </a:lnTo>
                  <a:lnTo>
                    <a:pt x="661" y="213"/>
                  </a:lnTo>
                  <a:lnTo>
                    <a:pt x="705" y="220"/>
                  </a:lnTo>
                  <a:lnTo>
                    <a:pt x="745" y="228"/>
                  </a:lnTo>
                  <a:lnTo>
                    <a:pt x="781" y="237"/>
                  </a:lnTo>
                  <a:lnTo>
                    <a:pt x="812" y="247"/>
                  </a:lnTo>
                  <a:lnTo>
                    <a:pt x="830" y="195"/>
                  </a:lnTo>
                  <a:lnTo>
                    <a:pt x="865" y="201"/>
                  </a:lnTo>
                  <a:lnTo>
                    <a:pt x="903" y="207"/>
                  </a:lnTo>
                  <a:lnTo>
                    <a:pt x="942" y="213"/>
                  </a:lnTo>
                  <a:lnTo>
                    <a:pt x="981" y="216"/>
                  </a:lnTo>
                  <a:lnTo>
                    <a:pt x="1023" y="219"/>
                  </a:lnTo>
                  <a:lnTo>
                    <a:pt x="1065" y="221"/>
                  </a:lnTo>
                  <a:lnTo>
                    <a:pt x="1108" y="223"/>
                  </a:lnTo>
                  <a:lnTo>
                    <a:pt x="1150" y="223"/>
                  </a:lnTo>
                  <a:lnTo>
                    <a:pt x="1235" y="223"/>
                  </a:lnTo>
                  <a:lnTo>
                    <a:pt x="1319" y="222"/>
                  </a:lnTo>
                  <a:lnTo>
                    <a:pt x="1400" y="220"/>
                  </a:lnTo>
                  <a:lnTo>
                    <a:pt x="1475" y="218"/>
                  </a:lnTo>
                  <a:lnTo>
                    <a:pt x="1437" y="182"/>
                  </a:lnTo>
                  <a:lnTo>
                    <a:pt x="1395" y="150"/>
                  </a:lnTo>
                  <a:lnTo>
                    <a:pt x="1349" y="122"/>
                  </a:lnTo>
                  <a:lnTo>
                    <a:pt x="1300" y="97"/>
                  </a:lnTo>
                  <a:lnTo>
                    <a:pt x="1247" y="76"/>
                  </a:lnTo>
                  <a:lnTo>
                    <a:pt x="1191" y="57"/>
                  </a:lnTo>
                  <a:lnTo>
                    <a:pt x="1132" y="41"/>
                  </a:lnTo>
                  <a:lnTo>
                    <a:pt x="1072" y="28"/>
                  </a:lnTo>
                  <a:lnTo>
                    <a:pt x="1009" y="18"/>
                  </a:lnTo>
                  <a:lnTo>
                    <a:pt x="945" y="10"/>
                  </a:lnTo>
                  <a:lnTo>
                    <a:pt x="881" y="5"/>
                  </a:lnTo>
                  <a:lnTo>
                    <a:pt x="816" y="2"/>
                  </a:lnTo>
                  <a:lnTo>
                    <a:pt x="750" y="0"/>
                  </a:lnTo>
                  <a:lnTo>
                    <a:pt x="685" y="1"/>
                  </a:lnTo>
                  <a:lnTo>
                    <a:pt x="621" y="4"/>
                  </a:lnTo>
                  <a:lnTo>
                    <a:pt x="557" y="8"/>
                  </a:lnTo>
                  <a:lnTo>
                    <a:pt x="495" y="13"/>
                  </a:lnTo>
                  <a:lnTo>
                    <a:pt x="435" y="21"/>
                  </a:lnTo>
                  <a:lnTo>
                    <a:pt x="377" y="29"/>
                  </a:lnTo>
                  <a:lnTo>
                    <a:pt x="322" y="38"/>
                  </a:lnTo>
                  <a:lnTo>
                    <a:pt x="269" y="49"/>
                  </a:lnTo>
                  <a:lnTo>
                    <a:pt x="221" y="60"/>
                  </a:lnTo>
                  <a:lnTo>
                    <a:pt x="176" y="72"/>
                  </a:lnTo>
                  <a:lnTo>
                    <a:pt x="135" y="84"/>
                  </a:lnTo>
                  <a:lnTo>
                    <a:pt x="98" y="96"/>
                  </a:lnTo>
                  <a:lnTo>
                    <a:pt x="67" y="109"/>
                  </a:lnTo>
                  <a:lnTo>
                    <a:pt x="41" y="122"/>
                  </a:lnTo>
                  <a:lnTo>
                    <a:pt x="22" y="135"/>
                  </a:lnTo>
                  <a:lnTo>
                    <a:pt x="7" y="147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6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92600">
              <a:off x="7683480" y="2879280"/>
              <a:ext cx="80280" cy="21600"/>
            </a:xfrm>
            <a:custGeom>
              <a:avLst/>
              <a:gdLst/>
              <a:ahLst/>
              <a:rect l="l" t="t" r="r" b="b"/>
              <a:pathLst>
                <a:path w="550" h="144">
                  <a:moveTo>
                    <a:pt x="548" y="34"/>
                  </a:moveTo>
                  <a:lnTo>
                    <a:pt x="523" y="26"/>
                  </a:lnTo>
                  <a:lnTo>
                    <a:pt x="496" y="17"/>
                  </a:lnTo>
                  <a:lnTo>
                    <a:pt x="467" y="11"/>
                  </a:lnTo>
                  <a:lnTo>
                    <a:pt x="438" y="7"/>
                  </a:lnTo>
                  <a:lnTo>
                    <a:pt x="407" y="4"/>
                  </a:lnTo>
                  <a:lnTo>
                    <a:pt x="376" y="1"/>
                  </a:lnTo>
                  <a:lnTo>
                    <a:pt x="344" y="0"/>
                  </a:lnTo>
                  <a:lnTo>
                    <a:pt x="313" y="0"/>
                  </a:lnTo>
                  <a:lnTo>
                    <a:pt x="281" y="1"/>
                  </a:lnTo>
                  <a:lnTo>
                    <a:pt x="250" y="3"/>
                  </a:lnTo>
                  <a:lnTo>
                    <a:pt x="220" y="6"/>
                  </a:lnTo>
                  <a:lnTo>
                    <a:pt x="189" y="9"/>
                  </a:lnTo>
                  <a:lnTo>
                    <a:pt x="161" y="14"/>
                  </a:lnTo>
                  <a:lnTo>
                    <a:pt x="133" y="18"/>
                  </a:lnTo>
                  <a:lnTo>
                    <a:pt x="109" y="25"/>
                  </a:lnTo>
                  <a:lnTo>
                    <a:pt x="86" y="31"/>
                  </a:lnTo>
                  <a:lnTo>
                    <a:pt x="64" y="37"/>
                  </a:lnTo>
                  <a:lnTo>
                    <a:pt x="45" y="44"/>
                  </a:lnTo>
                  <a:lnTo>
                    <a:pt x="30" y="52"/>
                  </a:lnTo>
                  <a:lnTo>
                    <a:pt x="17" y="59"/>
                  </a:lnTo>
                  <a:lnTo>
                    <a:pt x="7" y="66"/>
                  </a:lnTo>
                  <a:lnTo>
                    <a:pt x="2" y="74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8" y="98"/>
                  </a:lnTo>
                  <a:lnTo>
                    <a:pt x="18" y="105"/>
                  </a:lnTo>
                  <a:lnTo>
                    <a:pt x="35" y="113"/>
                  </a:lnTo>
                  <a:lnTo>
                    <a:pt x="56" y="120"/>
                  </a:lnTo>
                  <a:lnTo>
                    <a:pt x="83" y="126"/>
                  </a:lnTo>
                  <a:lnTo>
                    <a:pt x="115" y="132"/>
                  </a:lnTo>
                  <a:lnTo>
                    <a:pt x="152" y="139"/>
                  </a:lnTo>
                  <a:lnTo>
                    <a:pt x="197" y="144"/>
                  </a:lnTo>
                  <a:lnTo>
                    <a:pt x="212" y="144"/>
                  </a:lnTo>
                  <a:lnTo>
                    <a:pt x="233" y="144"/>
                  </a:lnTo>
                  <a:lnTo>
                    <a:pt x="258" y="144"/>
                  </a:lnTo>
                  <a:lnTo>
                    <a:pt x="285" y="142"/>
                  </a:lnTo>
                  <a:lnTo>
                    <a:pt x="315" y="140"/>
                  </a:lnTo>
                  <a:lnTo>
                    <a:pt x="346" y="135"/>
                  </a:lnTo>
                  <a:lnTo>
                    <a:pt x="378" y="131"/>
                  </a:lnTo>
                  <a:lnTo>
                    <a:pt x="409" y="125"/>
                  </a:lnTo>
                  <a:lnTo>
                    <a:pt x="439" y="119"/>
                  </a:lnTo>
                  <a:lnTo>
                    <a:pt x="468" y="111"/>
                  </a:lnTo>
                  <a:lnTo>
                    <a:pt x="481" y="106"/>
                  </a:lnTo>
                  <a:lnTo>
                    <a:pt x="493" y="101"/>
                  </a:lnTo>
                  <a:lnTo>
                    <a:pt x="505" y="96"/>
                  </a:lnTo>
                  <a:lnTo>
                    <a:pt x="515" y="91"/>
                  </a:lnTo>
                  <a:lnTo>
                    <a:pt x="524" y="85"/>
                  </a:lnTo>
                  <a:lnTo>
                    <a:pt x="533" y="78"/>
                  </a:lnTo>
                  <a:lnTo>
                    <a:pt x="539" y="72"/>
                  </a:lnTo>
                  <a:lnTo>
                    <a:pt x="544" y="65"/>
                  </a:lnTo>
                  <a:lnTo>
                    <a:pt x="548" y="58"/>
                  </a:lnTo>
                  <a:lnTo>
                    <a:pt x="550" y="50"/>
                  </a:lnTo>
                  <a:lnTo>
                    <a:pt x="550" y="42"/>
                  </a:lnTo>
                  <a:lnTo>
                    <a:pt x="54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92600">
              <a:off x="7664040" y="2941200"/>
              <a:ext cx="80640" cy="26640"/>
            </a:xfrm>
            <a:custGeom>
              <a:avLst/>
              <a:gdLst/>
              <a:ahLst/>
              <a:rect l="l" t="t" r="r" b="b"/>
              <a:pathLst>
                <a:path w="554" h="170">
                  <a:moveTo>
                    <a:pt x="552" y="20"/>
                  </a:moveTo>
                  <a:lnTo>
                    <a:pt x="520" y="20"/>
                  </a:lnTo>
                  <a:lnTo>
                    <a:pt x="486" y="19"/>
                  </a:lnTo>
                  <a:lnTo>
                    <a:pt x="452" y="15"/>
                  </a:lnTo>
                  <a:lnTo>
                    <a:pt x="416" y="12"/>
                  </a:lnTo>
                  <a:lnTo>
                    <a:pt x="380" y="8"/>
                  </a:lnTo>
                  <a:lnTo>
                    <a:pt x="344" y="5"/>
                  </a:lnTo>
                  <a:lnTo>
                    <a:pt x="307" y="2"/>
                  </a:lnTo>
                  <a:lnTo>
                    <a:pt x="271" y="1"/>
                  </a:lnTo>
                  <a:lnTo>
                    <a:pt x="254" y="0"/>
                  </a:lnTo>
                  <a:lnTo>
                    <a:pt x="236" y="1"/>
                  </a:lnTo>
                  <a:lnTo>
                    <a:pt x="217" y="2"/>
                  </a:lnTo>
                  <a:lnTo>
                    <a:pt x="200" y="3"/>
                  </a:lnTo>
                  <a:lnTo>
                    <a:pt x="182" y="5"/>
                  </a:lnTo>
                  <a:lnTo>
                    <a:pt x="164" y="8"/>
                  </a:lnTo>
                  <a:lnTo>
                    <a:pt x="147" y="11"/>
                  </a:lnTo>
                  <a:lnTo>
                    <a:pt x="129" y="15"/>
                  </a:lnTo>
                  <a:lnTo>
                    <a:pt x="113" y="22"/>
                  </a:lnTo>
                  <a:lnTo>
                    <a:pt x="96" y="28"/>
                  </a:lnTo>
                  <a:lnTo>
                    <a:pt x="79" y="35"/>
                  </a:lnTo>
                  <a:lnTo>
                    <a:pt x="63" y="43"/>
                  </a:lnTo>
                  <a:lnTo>
                    <a:pt x="46" y="53"/>
                  </a:lnTo>
                  <a:lnTo>
                    <a:pt x="31" y="64"/>
                  </a:lnTo>
                  <a:lnTo>
                    <a:pt x="15" y="76"/>
                  </a:lnTo>
                  <a:lnTo>
                    <a:pt x="0" y="89"/>
                  </a:lnTo>
                  <a:lnTo>
                    <a:pt x="9" y="97"/>
                  </a:lnTo>
                  <a:lnTo>
                    <a:pt x="18" y="105"/>
                  </a:lnTo>
                  <a:lnTo>
                    <a:pt x="27" y="112"/>
                  </a:lnTo>
                  <a:lnTo>
                    <a:pt x="36" y="117"/>
                  </a:lnTo>
                  <a:lnTo>
                    <a:pt x="45" y="122"/>
                  </a:lnTo>
                  <a:lnTo>
                    <a:pt x="55" y="127"/>
                  </a:lnTo>
                  <a:lnTo>
                    <a:pt x="64" y="131"/>
                  </a:lnTo>
                  <a:lnTo>
                    <a:pt x="73" y="135"/>
                  </a:lnTo>
                  <a:lnTo>
                    <a:pt x="91" y="139"/>
                  </a:lnTo>
                  <a:lnTo>
                    <a:pt x="109" y="142"/>
                  </a:lnTo>
                  <a:lnTo>
                    <a:pt x="127" y="143"/>
                  </a:lnTo>
                  <a:lnTo>
                    <a:pt x="146" y="143"/>
                  </a:lnTo>
                  <a:lnTo>
                    <a:pt x="163" y="142"/>
                  </a:lnTo>
                  <a:lnTo>
                    <a:pt x="182" y="140"/>
                  </a:lnTo>
                  <a:lnTo>
                    <a:pt x="200" y="137"/>
                  </a:lnTo>
                  <a:lnTo>
                    <a:pt x="217" y="134"/>
                  </a:lnTo>
                  <a:lnTo>
                    <a:pt x="253" y="127"/>
                  </a:lnTo>
                  <a:lnTo>
                    <a:pt x="288" y="123"/>
                  </a:lnTo>
                  <a:lnTo>
                    <a:pt x="317" y="170"/>
                  </a:lnTo>
                  <a:lnTo>
                    <a:pt x="327" y="169"/>
                  </a:lnTo>
                  <a:lnTo>
                    <a:pt x="341" y="167"/>
                  </a:lnTo>
                  <a:lnTo>
                    <a:pt x="357" y="164"/>
                  </a:lnTo>
                  <a:lnTo>
                    <a:pt x="376" y="160"/>
                  </a:lnTo>
                  <a:lnTo>
                    <a:pt x="396" y="153"/>
                  </a:lnTo>
                  <a:lnTo>
                    <a:pt x="417" y="147"/>
                  </a:lnTo>
                  <a:lnTo>
                    <a:pt x="439" y="139"/>
                  </a:lnTo>
                  <a:lnTo>
                    <a:pt x="460" y="130"/>
                  </a:lnTo>
                  <a:lnTo>
                    <a:pt x="481" y="119"/>
                  </a:lnTo>
                  <a:lnTo>
                    <a:pt x="500" y="108"/>
                  </a:lnTo>
                  <a:lnTo>
                    <a:pt x="509" y="102"/>
                  </a:lnTo>
                  <a:lnTo>
                    <a:pt x="517" y="95"/>
                  </a:lnTo>
                  <a:lnTo>
                    <a:pt x="525" y="89"/>
                  </a:lnTo>
                  <a:lnTo>
                    <a:pt x="531" y="82"/>
                  </a:lnTo>
                  <a:lnTo>
                    <a:pt x="538" y="76"/>
                  </a:lnTo>
                  <a:lnTo>
                    <a:pt x="543" y="68"/>
                  </a:lnTo>
                  <a:lnTo>
                    <a:pt x="547" y="61"/>
                  </a:lnTo>
                  <a:lnTo>
                    <a:pt x="551" y="53"/>
                  </a:lnTo>
                  <a:lnTo>
                    <a:pt x="553" y="44"/>
                  </a:lnTo>
                  <a:lnTo>
                    <a:pt x="554" y="37"/>
                  </a:lnTo>
                  <a:lnTo>
                    <a:pt x="554" y="29"/>
                  </a:lnTo>
                  <a:lnTo>
                    <a:pt x="55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92600">
              <a:off x="7638840" y="2998080"/>
              <a:ext cx="87120" cy="23760"/>
            </a:xfrm>
            <a:custGeom>
              <a:avLst/>
              <a:gdLst/>
              <a:ahLst/>
              <a:rect l="l" t="t" r="r" b="b"/>
              <a:pathLst>
                <a:path w="610" h="154">
                  <a:moveTo>
                    <a:pt x="534" y="30"/>
                  </a:moveTo>
                  <a:lnTo>
                    <a:pt x="506" y="31"/>
                  </a:lnTo>
                  <a:lnTo>
                    <a:pt x="477" y="30"/>
                  </a:lnTo>
                  <a:lnTo>
                    <a:pt x="446" y="28"/>
                  </a:lnTo>
                  <a:lnTo>
                    <a:pt x="414" y="26"/>
                  </a:lnTo>
                  <a:lnTo>
                    <a:pt x="348" y="21"/>
                  </a:lnTo>
                  <a:lnTo>
                    <a:pt x="277" y="15"/>
                  </a:lnTo>
                  <a:lnTo>
                    <a:pt x="207" y="9"/>
                  </a:lnTo>
                  <a:lnTo>
                    <a:pt x="135" y="4"/>
                  </a:lnTo>
                  <a:lnTo>
                    <a:pt x="100" y="2"/>
                  </a:lnTo>
                  <a:lnTo>
                    <a:pt x="66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7" y="42"/>
                  </a:lnTo>
                  <a:lnTo>
                    <a:pt x="14" y="60"/>
                  </a:lnTo>
                  <a:lnTo>
                    <a:pt x="24" y="76"/>
                  </a:lnTo>
                  <a:lnTo>
                    <a:pt x="37" y="90"/>
                  </a:lnTo>
                  <a:lnTo>
                    <a:pt x="51" y="102"/>
                  </a:lnTo>
                  <a:lnTo>
                    <a:pt x="68" y="114"/>
                  </a:lnTo>
                  <a:lnTo>
                    <a:pt x="86" y="123"/>
                  </a:lnTo>
                  <a:lnTo>
                    <a:pt x="105" y="131"/>
                  </a:lnTo>
                  <a:lnTo>
                    <a:pt x="126" y="137"/>
                  </a:lnTo>
                  <a:lnTo>
                    <a:pt x="148" y="143"/>
                  </a:lnTo>
                  <a:lnTo>
                    <a:pt x="172" y="147"/>
                  </a:lnTo>
                  <a:lnTo>
                    <a:pt x="195" y="150"/>
                  </a:lnTo>
                  <a:lnTo>
                    <a:pt x="220" y="153"/>
                  </a:lnTo>
                  <a:lnTo>
                    <a:pt x="246" y="154"/>
                  </a:lnTo>
                  <a:lnTo>
                    <a:pt x="272" y="154"/>
                  </a:lnTo>
                  <a:lnTo>
                    <a:pt x="298" y="154"/>
                  </a:lnTo>
                  <a:lnTo>
                    <a:pt x="324" y="153"/>
                  </a:lnTo>
                  <a:lnTo>
                    <a:pt x="351" y="152"/>
                  </a:lnTo>
                  <a:lnTo>
                    <a:pt x="377" y="150"/>
                  </a:lnTo>
                  <a:lnTo>
                    <a:pt x="427" y="145"/>
                  </a:lnTo>
                  <a:lnTo>
                    <a:pt x="474" y="139"/>
                  </a:lnTo>
                  <a:lnTo>
                    <a:pt x="556" y="128"/>
                  </a:lnTo>
                  <a:lnTo>
                    <a:pt x="610" y="122"/>
                  </a:lnTo>
                  <a:lnTo>
                    <a:pt x="589" y="88"/>
                  </a:lnTo>
                  <a:lnTo>
                    <a:pt x="570" y="59"/>
                  </a:lnTo>
                  <a:lnTo>
                    <a:pt x="561" y="47"/>
                  </a:lnTo>
                  <a:lnTo>
                    <a:pt x="552" y="38"/>
                  </a:lnTo>
                  <a:lnTo>
                    <a:pt x="548" y="35"/>
                  </a:lnTo>
                  <a:lnTo>
                    <a:pt x="544" y="32"/>
                  </a:lnTo>
                  <a:lnTo>
                    <a:pt x="539" y="31"/>
                  </a:lnTo>
                  <a:lnTo>
                    <a:pt x="5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92600">
              <a:off x="7615080" y="3060000"/>
              <a:ext cx="86760" cy="20520"/>
            </a:xfrm>
            <a:custGeom>
              <a:avLst/>
              <a:gdLst/>
              <a:ahLst/>
              <a:rect l="l" t="t" r="r" b="b"/>
              <a:pathLst>
                <a:path w="598" h="122">
                  <a:moveTo>
                    <a:pt x="575" y="0"/>
                  </a:moveTo>
                  <a:lnTo>
                    <a:pt x="476" y="4"/>
                  </a:lnTo>
                  <a:lnTo>
                    <a:pt x="392" y="8"/>
                  </a:lnTo>
                  <a:lnTo>
                    <a:pt x="323" y="10"/>
                  </a:lnTo>
                  <a:lnTo>
                    <a:pt x="267" y="13"/>
                  </a:lnTo>
                  <a:lnTo>
                    <a:pt x="224" y="15"/>
                  </a:lnTo>
                  <a:lnTo>
                    <a:pt x="189" y="17"/>
                  </a:lnTo>
                  <a:lnTo>
                    <a:pt x="162" y="20"/>
                  </a:lnTo>
                  <a:lnTo>
                    <a:pt x="143" y="24"/>
                  </a:lnTo>
                  <a:lnTo>
                    <a:pt x="135" y="27"/>
                  </a:lnTo>
                  <a:lnTo>
                    <a:pt x="127" y="29"/>
                  </a:lnTo>
                  <a:lnTo>
                    <a:pt x="120" y="32"/>
                  </a:lnTo>
                  <a:lnTo>
                    <a:pt x="114" y="37"/>
                  </a:lnTo>
                  <a:lnTo>
                    <a:pt x="102" y="45"/>
                  </a:lnTo>
                  <a:lnTo>
                    <a:pt x="90" y="55"/>
                  </a:lnTo>
                  <a:lnTo>
                    <a:pt x="75" y="68"/>
                  </a:lnTo>
                  <a:lnTo>
                    <a:pt x="57" y="82"/>
                  </a:lnTo>
                  <a:lnTo>
                    <a:pt x="32" y="101"/>
                  </a:lnTo>
                  <a:lnTo>
                    <a:pt x="0" y="122"/>
                  </a:lnTo>
                  <a:lnTo>
                    <a:pt x="598" y="93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92600">
              <a:off x="7556040" y="3217320"/>
              <a:ext cx="99720" cy="26640"/>
            </a:xfrm>
            <a:custGeom>
              <a:avLst/>
              <a:gdLst/>
              <a:ahLst/>
              <a:rect l="l" t="t" r="r" b="b"/>
              <a:pathLst>
                <a:path w="697" h="160">
                  <a:moveTo>
                    <a:pt x="697" y="92"/>
                  </a:moveTo>
                  <a:lnTo>
                    <a:pt x="689" y="91"/>
                  </a:lnTo>
                  <a:lnTo>
                    <a:pt x="679" y="88"/>
                  </a:lnTo>
                  <a:lnTo>
                    <a:pt x="669" y="84"/>
                  </a:lnTo>
                  <a:lnTo>
                    <a:pt x="659" y="77"/>
                  </a:lnTo>
                  <a:lnTo>
                    <a:pt x="637" y="63"/>
                  </a:lnTo>
                  <a:lnTo>
                    <a:pt x="614" y="46"/>
                  </a:lnTo>
                  <a:lnTo>
                    <a:pt x="591" y="29"/>
                  </a:lnTo>
                  <a:lnTo>
                    <a:pt x="569" y="14"/>
                  </a:lnTo>
                  <a:lnTo>
                    <a:pt x="559" y="8"/>
                  </a:lnTo>
                  <a:lnTo>
                    <a:pt x="549" y="4"/>
                  </a:lnTo>
                  <a:lnTo>
                    <a:pt x="539" y="1"/>
                  </a:lnTo>
                  <a:lnTo>
                    <a:pt x="530" y="0"/>
                  </a:lnTo>
                  <a:lnTo>
                    <a:pt x="507" y="52"/>
                  </a:lnTo>
                  <a:lnTo>
                    <a:pt x="458" y="54"/>
                  </a:lnTo>
                  <a:lnTo>
                    <a:pt x="412" y="55"/>
                  </a:lnTo>
                  <a:lnTo>
                    <a:pt x="370" y="55"/>
                  </a:lnTo>
                  <a:lnTo>
                    <a:pt x="334" y="55"/>
                  </a:lnTo>
                  <a:lnTo>
                    <a:pt x="271" y="54"/>
                  </a:lnTo>
                  <a:lnTo>
                    <a:pt x="222" y="51"/>
                  </a:lnTo>
                  <a:lnTo>
                    <a:pt x="185" y="46"/>
                  </a:lnTo>
                  <a:lnTo>
                    <a:pt x="158" y="43"/>
                  </a:lnTo>
                  <a:lnTo>
                    <a:pt x="138" y="39"/>
                  </a:lnTo>
                  <a:lnTo>
                    <a:pt x="125" y="37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0" y="40"/>
                  </a:lnTo>
                  <a:lnTo>
                    <a:pt x="92" y="47"/>
                  </a:lnTo>
                  <a:lnTo>
                    <a:pt x="78" y="59"/>
                  </a:lnTo>
                  <a:lnTo>
                    <a:pt x="61" y="74"/>
                  </a:lnTo>
                  <a:lnTo>
                    <a:pt x="36" y="95"/>
                  </a:lnTo>
                  <a:lnTo>
                    <a:pt x="0" y="121"/>
                  </a:lnTo>
                  <a:lnTo>
                    <a:pt x="21" y="121"/>
                  </a:lnTo>
                  <a:lnTo>
                    <a:pt x="52" y="124"/>
                  </a:lnTo>
                  <a:lnTo>
                    <a:pt x="94" y="128"/>
                  </a:lnTo>
                  <a:lnTo>
                    <a:pt x="141" y="133"/>
                  </a:lnTo>
                  <a:lnTo>
                    <a:pt x="196" y="140"/>
                  </a:lnTo>
                  <a:lnTo>
                    <a:pt x="255" y="146"/>
                  </a:lnTo>
                  <a:lnTo>
                    <a:pt x="317" y="151"/>
                  </a:lnTo>
                  <a:lnTo>
                    <a:pt x="379" y="156"/>
                  </a:lnTo>
                  <a:lnTo>
                    <a:pt x="441" y="159"/>
                  </a:lnTo>
                  <a:lnTo>
                    <a:pt x="499" y="160"/>
                  </a:lnTo>
                  <a:lnTo>
                    <a:pt x="527" y="160"/>
                  </a:lnTo>
                  <a:lnTo>
                    <a:pt x="553" y="159"/>
                  </a:lnTo>
                  <a:lnTo>
                    <a:pt x="578" y="157"/>
                  </a:lnTo>
                  <a:lnTo>
                    <a:pt x="602" y="154"/>
                  </a:lnTo>
                  <a:lnTo>
                    <a:pt x="622" y="150"/>
                  </a:lnTo>
                  <a:lnTo>
                    <a:pt x="642" y="146"/>
                  </a:lnTo>
                  <a:lnTo>
                    <a:pt x="659" y="140"/>
                  </a:lnTo>
                  <a:lnTo>
                    <a:pt x="672" y="132"/>
                  </a:lnTo>
                  <a:lnTo>
                    <a:pt x="684" y="124"/>
                  </a:lnTo>
                  <a:lnTo>
                    <a:pt x="692" y="115"/>
                  </a:lnTo>
                  <a:lnTo>
                    <a:pt x="696" y="104"/>
                  </a:lnTo>
                  <a:lnTo>
                    <a:pt x="697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92600">
              <a:off x="7557840" y="3272760"/>
              <a:ext cx="69480" cy="31680"/>
            </a:xfrm>
            <a:custGeom>
              <a:avLst/>
              <a:gdLst/>
              <a:ahLst/>
              <a:rect l="l" t="t" r="r" b="b"/>
              <a:pathLst>
                <a:path w="497" h="195">
                  <a:moveTo>
                    <a:pt x="495" y="87"/>
                  </a:moveTo>
                  <a:lnTo>
                    <a:pt x="470" y="87"/>
                  </a:lnTo>
                  <a:lnTo>
                    <a:pt x="444" y="86"/>
                  </a:lnTo>
                  <a:lnTo>
                    <a:pt x="416" y="83"/>
                  </a:lnTo>
                  <a:lnTo>
                    <a:pt x="389" y="79"/>
                  </a:lnTo>
                  <a:lnTo>
                    <a:pt x="360" y="74"/>
                  </a:lnTo>
                  <a:lnTo>
                    <a:pt x="332" y="69"/>
                  </a:lnTo>
                  <a:lnTo>
                    <a:pt x="303" y="62"/>
                  </a:lnTo>
                  <a:lnTo>
                    <a:pt x="274" y="55"/>
                  </a:lnTo>
                  <a:lnTo>
                    <a:pt x="218" y="42"/>
                  </a:lnTo>
                  <a:lnTo>
                    <a:pt x="165" y="27"/>
                  </a:lnTo>
                  <a:lnTo>
                    <a:pt x="116" y="15"/>
                  </a:lnTo>
                  <a:lnTo>
                    <a:pt x="74" y="5"/>
                  </a:lnTo>
                  <a:lnTo>
                    <a:pt x="56" y="2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7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7" y="34"/>
                  </a:lnTo>
                  <a:lnTo>
                    <a:pt x="16" y="48"/>
                  </a:lnTo>
                  <a:lnTo>
                    <a:pt x="30" y="63"/>
                  </a:lnTo>
                  <a:lnTo>
                    <a:pt x="48" y="83"/>
                  </a:lnTo>
                  <a:lnTo>
                    <a:pt x="70" y="105"/>
                  </a:lnTo>
                  <a:lnTo>
                    <a:pt x="97" y="131"/>
                  </a:lnTo>
                  <a:lnTo>
                    <a:pt x="129" y="159"/>
                  </a:lnTo>
                  <a:lnTo>
                    <a:pt x="167" y="191"/>
                  </a:lnTo>
                  <a:lnTo>
                    <a:pt x="189" y="193"/>
                  </a:lnTo>
                  <a:lnTo>
                    <a:pt x="233" y="195"/>
                  </a:lnTo>
                  <a:lnTo>
                    <a:pt x="260" y="195"/>
                  </a:lnTo>
                  <a:lnTo>
                    <a:pt x="290" y="195"/>
                  </a:lnTo>
                  <a:lnTo>
                    <a:pt x="321" y="194"/>
                  </a:lnTo>
                  <a:lnTo>
                    <a:pt x="352" y="191"/>
                  </a:lnTo>
                  <a:lnTo>
                    <a:pt x="368" y="190"/>
                  </a:lnTo>
                  <a:lnTo>
                    <a:pt x="383" y="188"/>
                  </a:lnTo>
                  <a:lnTo>
                    <a:pt x="398" y="185"/>
                  </a:lnTo>
                  <a:lnTo>
                    <a:pt x="412" y="182"/>
                  </a:lnTo>
                  <a:lnTo>
                    <a:pt x="426" y="177"/>
                  </a:lnTo>
                  <a:lnTo>
                    <a:pt x="439" y="173"/>
                  </a:lnTo>
                  <a:lnTo>
                    <a:pt x="451" y="168"/>
                  </a:lnTo>
                  <a:lnTo>
                    <a:pt x="462" y="162"/>
                  </a:lnTo>
                  <a:lnTo>
                    <a:pt x="471" y="156"/>
                  </a:lnTo>
                  <a:lnTo>
                    <a:pt x="480" y="148"/>
                  </a:lnTo>
                  <a:lnTo>
                    <a:pt x="487" y="141"/>
                  </a:lnTo>
                  <a:lnTo>
                    <a:pt x="492" y="132"/>
                  </a:lnTo>
                  <a:lnTo>
                    <a:pt x="495" y="123"/>
                  </a:lnTo>
                  <a:lnTo>
                    <a:pt x="497" y="112"/>
                  </a:lnTo>
                  <a:lnTo>
                    <a:pt x="497" y="100"/>
                  </a:lnTo>
                  <a:lnTo>
                    <a:pt x="49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92600">
              <a:off x="7519320" y="3336840"/>
              <a:ext cx="85320" cy="24840"/>
            </a:xfrm>
            <a:custGeom>
              <a:avLst/>
              <a:gdLst/>
              <a:ahLst/>
              <a:rect l="l" t="t" r="r" b="b"/>
              <a:pathLst>
                <a:path w="593" h="153">
                  <a:moveTo>
                    <a:pt x="496" y="0"/>
                  </a:moveTo>
                  <a:lnTo>
                    <a:pt x="408" y="5"/>
                  </a:lnTo>
                  <a:lnTo>
                    <a:pt x="335" y="7"/>
                  </a:lnTo>
                  <a:lnTo>
                    <a:pt x="276" y="8"/>
                  </a:lnTo>
                  <a:lnTo>
                    <a:pt x="229" y="9"/>
                  </a:lnTo>
                  <a:lnTo>
                    <a:pt x="193" y="10"/>
                  </a:lnTo>
                  <a:lnTo>
                    <a:pt x="165" y="11"/>
                  </a:lnTo>
                  <a:lnTo>
                    <a:pt x="144" y="13"/>
                  </a:lnTo>
                  <a:lnTo>
                    <a:pt x="129" y="15"/>
                  </a:lnTo>
                  <a:lnTo>
                    <a:pt x="123" y="17"/>
                  </a:lnTo>
                  <a:lnTo>
                    <a:pt x="117" y="19"/>
                  </a:lnTo>
                  <a:lnTo>
                    <a:pt x="112" y="22"/>
                  </a:lnTo>
                  <a:lnTo>
                    <a:pt x="108" y="24"/>
                  </a:lnTo>
                  <a:lnTo>
                    <a:pt x="99" y="33"/>
                  </a:lnTo>
                  <a:lnTo>
                    <a:pt x="88" y="43"/>
                  </a:lnTo>
                  <a:lnTo>
                    <a:pt x="75" y="56"/>
                  </a:lnTo>
                  <a:lnTo>
                    <a:pt x="57" y="72"/>
                  </a:lnTo>
                  <a:lnTo>
                    <a:pt x="32" y="92"/>
                  </a:lnTo>
                  <a:lnTo>
                    <a:pt x="0" y="115"/>
                  </a:lnTo>
                  <a:lnTo>
                    <a:pt x="46" y="121"/>
                  </a:lnTo>
                  <a:lnTo>
                    <a:pt x="124" y="132"/>
                  </a:lnTo>
                  <a:lnTo>
                    <a:pt x="171" y="138"/>
                  </a:lnTo>
                  <a:lnTo>
                    <a:pt x="221" y="143"/>
                  </a:lnTo>
                  <a:lnTo>
                    <a:pt x="274" y="149"/>
                  </a:lnTo>
                  <a:lnTo>
                    <a:pt x="327" y="152"/>
                  </a:lnTo>
                  <a:lnTo>
                    <a:pt x="354" y="153"/>
                  </a:lnTo>
                  <a:lnTo>
                    <a:pt x="380" y="153"/>
                  </a:lnTo>
                  <a:lnTo>
                    <a:pt x="404" y="152"/>
                  </a:lnTo>
                  <a:lnTo>
                    <a:pt x="429" y="151"/>
                  </a:lnTo>
                  <a:lnTo>
                    <a:pt x="452" y="149"/>
                  </a:lnTo>
                  <a:lnTo>
                    <a:pt x="475" y="146"/>
                  </a:lnTo>
                  <a:lnTo>
                    <a:pt x="496" y="140"/>
                  </a:lnTo>
                  <a:lnTo>
                    <a:pt x="515" y="135"/>
                  </a:lnTo>
                  <a:lnTo>
                    <a:pt x="533" y="129"/>
                  </a:lnTo>
                  <a:lnTo>
                    <a:pt x="549" y="121"/>
                  </a:lnTo>
                  <a:lnTo>
                    <a:pt x="563" y="111"/>
                  </a:lnTo>
                  <a:lnTo>
                    <a:pt x="574" y="100"/>
                  </a:lnTo>
                  <a:lnTo>
                    <a:pt x="583" y="89"/>
                  </a:lnTo>
                  <a:lnTo>
                    <a:pt x="589" y="74"/>
                  </a:lnTo>
                  <a:lnTo>
                    <a:pt x="593" y="58"/>
                  </a:lnTo>
                  <a:lnTo>
                    <a:pt x="593" y="41"/>
                  </a:lnTo>
                  <a:lnTo>
                    <a:pt x="589" y="42"/>
                  </a:lnTo>
                  <a:lnTo>
                    <a:pt x="584" y="41"/>
                  </a:lnTo>
                  <a:lnTo>
                    <a:pt x="579" y="40"/>
                  </a:lnTo>
                  <a:lnTo>
                    <a:pt x="572" y="37"/>
                  </a:lnTo>
                  <a:lnTo>
                    <a:pt x="560" y="30"/>
                  </a:lnTo>
                  <a:lnTo>
                    <a:pt x="546" y="23"/>
                  </a:lnTo>
                  <a:lnTo>
                    <a:pt x="533" y="15"/>
                  </a:lnTo>
                  <a:lnTo>
                    <a:pt x="520" y="8"/>
                  </a:lnTo>
                  <a:lnTo>
                    <a:pt x="513" y="5"/>
                  </a:lnTo>
                  <a:lnTo>
                    <a:pt x="507" y="2"/>
                  </a:lnTo>
                  <a:lnTo>
                    <a:pt x="501" y="1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92600">
              <a:off x="7506720" y="3398400"/>
              <a:ext cx="87120" cy="24840"/>
            </a:xfrm>
            <a:custGeom>
              <a:avLst/>
              <a:gdLst/>
              <a:ahLst/>
              <a:rect l="l" t="t" r="r" b="b"/>
              <a:pathLst>
                <a:path w="599" h="166">
                  <a:moveTo>
                    <a:pt x="477" y="2"/>
                  </a:moveTo>
                  <a:lnTo>
                    <a:pt x="436" y="1"/>
                  </a:lnTo>
                  <a:lnTo>
                    <a:pt x="371" y="0"/>
                  </a:lnTo>
                  <a:lnTo>
                    <a:pt x="332" y="0"/>
                  </a:lnTo>
                  <a:lnTo>
                    <a:pt x="292" y="1"/>
                  </a:lnTo>
                  <a:lnTo>
                    <a:pt x="250" y="2"/>
                  </a:lnTo>
                  <a:lnTo>
                    <a:pt x="209" y="5"/>
                  </a:lnTo>
                  <a:lnTo>
                    <a:pt x="188" y="9"/>
                  </a:lnTo>
                  <a:lnTo>
                    <a:pt x="168" y="11"/>
                  </a:lnTo>
                  <a:lnTo>
                    <a:pt x="148" y="14"/>
                  </a:lnTo>
                  <a:lnTo>
                    <a:pt x="129" y="18"/>
                  </a:lnTo>
                  <a:lnTo>
                    <a:pt x="111" y="22"/>
                  </a:lnTo>
                  <a:lnTo>
                    <a:pt x="93" y="27"/>
                  </a:lnTo>
                  <a:lnTo>
                    <a:pt x="76" y="32"/>
                  </a:lnTo>
                  <a:lnTo>
                    <a:pt x="62" y="39"/>
                  </a:lnTo>
                  <a:lnTo>
                    <a:pt x="47" y="46"/>
                  </a:lnTo>
                  <a:lnTo>
                    <a:pt x="35" y="53"/>
                  </a:lnTo>
                  <a:lnTo>
                    <a:pt x="25" y="62"/>
                  </a:lnTo>
                  <a:lnTo>
                    <a:pt x="15" y="71"/>
                  </a:lnTo>
                  <a:lnTo>
                    <a:pt x="9" y="81"/>
                  </a:lnTo>
                  <a:lnTo>
                    <a:pt x="4" y="93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14" y="117"/>
                  </a:lnTo>
                  <a:lnTo>
                    <a:pt x="29" y="118"/>
                  </a:lnTo>
                  <a:lnTo>
                    <a:pt x="44" y="119"/>
                  </a:lnTo>
                  <a:lnTo>
                    <a:pt x="61" y="122"/>
                  </a:lnTo>
                  <a:lnTo>
                    <a:pt x="97" y="126"/>
                  </a:lnTo>
                  <a:lnTo>
                    <a:pt x="134" y="133"/>
                  </a:lnTo>
                  <a:lnTo>
                    <a:pt x="175" y="140"/>
                  </a:lnTo>
                  <a:lnTo>
                    <a:pt x="216" y="147"/>
                  </a:lnTo>
                  <a:lnTo>
                    <a:pt x="259" y="154"/>
                  </a:lnTo>
                  <a:lnTo>
                    <a:pt x="301" y="160"/>
                  </a:lnTo>
                  <a:lnTo>
                    <a:pt x="323" y="162"/>
                  </a:lnTo>
                  <a:lnTo>
                    <a:pt x="344" y="164"/>
                  </a:lnTo>
                  <a:lnTo>
                    <a:pt x="366" y="165"/>
                  </a:lnTo>
                  <a:lnTo>
                    <a:pt x="386" y="166"/>
                  </a:lnTo>
                  <a:lnTo>
                    <a:pt x="407" y="166"/>
                  </a:lnTo>
                  <a:lnTo>
                    <a:pt x="428" y="165"/>
                  </a:lnTo>
                  <a:lnTo>
                    <a:pt x="447" y="163"/>
                  </a:lnTo>
                  <a:lnTo>
                    <a:pt x="467" y="161"/>
                  </a:lnTo>
                  <a:lnTo>
                    <a:pt x="486" y="157"/>
                  </a:lnTo>
                  <a:lnTo>
                    <a:pt x="504" y="152"/>
                  </a:lnTo>
                  <a:lnTo>
                    <a:pt x="522" y="145"/>
                  </a:lnTo>
                  <a:lnTo>
                    <a:pt x="540" y="138"/>
                  </a:lnTo>
                  <a:lnTo>
                    <a:pt x="555" y="130"/>
                  </a:lnTo>
                  <a:lnTo>
                    <a:pt x="571" y="119"/>
                  </a:lnTo>
                  <a:lnTo>
                    <a:pt x="585" y="108"/>
                  </a:lnTo>
                  <a:lnTo>
                    <a:pt x="599" y="95"/>
                  </a:lnTo>
                  <a:lnTo>
                    <a:pt x="594" y="94"/>
                  </a:lnTo>
                  <a:lnTo>
                    <a:pt x="587" y="90"/>
                  </a:lnTo>
                  <a:lnTo>
                    <a:pt x="581" y="85"/>
                  </a:lnTo>
                  <a:lnTo>
                    <a:pt x="573" y="79"/>
                  </a:lnTo>
                  <a:lnTo>
                    <a:pt x="556" y="63"/>
                  </a:lnTo>
                  <a:lnTo>
                    <a:pt x="539" y="46"/>
                  </a:lnTo>
                  <a:lnTo>
                    <a:pt x="520" y="29"/>
                  </a:lnTo>
                  <a:lnTo>
                    <a:pt x="503" y="15"/>
                  </a:lnTo>
                  <a:lnTo>
                    <a:pt x="495" y="9"/>
                  </a:lnTo>
                  <a:lnTo>
                    <a:pt x="489" y="4"/>
                  </a:lnTo>
                  <a:lnTo>
                    <a:pt x="483" y="2"/>
                  </a:lnTo>
                  <a:lnTo>
                    <a:pt x="47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92600">
              <a:off x="7435440" y="3549600"/>
              <a:ext cx="102600" cy="32760"/>
            </a:xfrm>
            <a:custGeom>
              <a:avLst/>
              <a:gdLst/>
              <a:ahLst/>
              <a:rect l="l" t="t" r="r" b="b"/>
              <a:pathLst>
                <a:path w="707" h="213">
                  <a:moveTo>
                    <a:pt x="656" y="100"/>
                  </a:moveTo>
                  <a:lnTo>
                    <a:pt x="640" y="101"/>
                  </a:lnTo>
                  <a:lnTo>
                    <a:pt x="624" y="100"/>
                  </a:lnTo>
                  <a:lnTo>
                    <a:pt x="606" y="98"/>
                  </a:lnTo>
                  <a:lnTo>
                    <a:pt x="587" y="95"/>
                  </a:lnTo>
                  <a:lnTo>
                    <a:pt x="569" y="91"/>
                  </a:lnTo>
                  <a:lnTo>
                    <a:pt x="549" y="85"/>
                  </a:lnTo>
                  <a:lnTo>
                    <a:pt x="529" y="80"/>
                  </a:lnTo>
                  <a:lnTo>
                    <a:pt x="508" y="74"/>
                  </a:lnTo>
                  <a:lnTo>
                    <a:pt x="423" y="47"/>
                  </a:lnTo>
                  <a:lnTo>
                    <a:pt x="334" y="20"/>
                  </a:lnTo>
                  <a:lnTo>
                    <a:pt x="312" y="15"/>
                  </a:lnTo>
                  <a:lnTo>
                    <a:pt x="289" y="10"/>
                  </a:lnTo>
                  <a:lnTo>
                    <a:pt x="267" y="5"/>
                  </a:lnTo>
                  <a:lnTo>
                    <a:pt x="244" y="2"/>
                  </a:lnTo>
                  <a:lnTo>
                    <a:pt x="221" y="0"/>
                  </a:lnTo>
                  <a:lnTo>
                    <a:pt x="200" y="0"/>
                  </a:lnTo>
                  <a:lnTo>
                    <a:pt x="178" y="0"/>
                  </a:lnTo>
                  <a:lnTo>
                    <a:pt x="156" y="2"/>
                  </a:lnTo>
                  <a:lnTo>
                    <a:pt x="135" y="5"/>
                  </a:lnTo>
                  <a:lnTo>
                    <a:pt x="115" y="11"/>
                  </a:lnTo>
                  <a:lnTo>
                    <a:pt x="94" y="17"/>
                  </a:lnTo>
                  <a:lnTo>
                    <a:pt x="74" y="26"/>
                  </a:lnTo>
                  <a:lnTo>
                    <a:pt x="54" y="37"/>
                  </a:lnTo>
                  <a:lnTo>
                    <a:pt x="36" y="50"/>
                  </a:lnTo>
                  <a:lnTo>
                    <a:pt x="17" y="66"/>
                  </a:lnTo>
                  <a:lnTo>
                    <a:pt x="0" y="83"/>
                  </a:lnTo>
                  <a:lnTo>
                    <a:pt x="11" y="100"/>
                  </a:lnTo>
                  <a:lnTo>
                    <a:pt x="24" y="114"/>
                  </a:lnTo>
                  <a:lnTo>
                    <a:pt x="39" y="129"/>
                  </a:lnTo>
                  <a:lnTo>
                    <a:pt x="56" y="141"/>
                  </a:lnTo>
                  <a:lnTo>
                    <a:pt x="73" y="153"/>
                  </a:lnTo>
                  <a:lnTo>
                    <a:pt x="93" y="162"/>
                  </a:lnTo>
                  <a:lnTo>
                    <a:pt x="114" y="171"/>
                  </a:lnTo>
                  <a:lnTo>
                    <a:pt x="136" y="180"/>
                  </a:lnTo>
                  <a:lnTo>
                    <a:pt x="159" y="186"/>
                  </a:lnTo>
                  <a:lnTo>
                    <a:pt x="183" y="192"/>
                  </a:lnTo>
                  <a:lnTo>
                    <a:pt x="208" y="197"/>
                  </a:lnTo>
                  <a:lnTo>
                    <a:pt x="234" y="201"/>
                  </a:lnTo>
                  <a:lnTo>
                    <a:pt x="260" y="206"/>
                  </a:lnTo>
                  <a:lnTo>
                    <a:pt x="287" y="208"/>
                  </a:lnTo>
                  <a:lnTo>
                    <a:pt x="314" y="210"/>
                  </a:lnTo>
                  <a:lnTo>
                    <a:pt x="341" y="212"/>
                  </a:lnTo>
                  <a:lnTo>
                    <a:pt x="395" y="213"/>
                  </a:lnTo>
                  <a:lnTo>
                    <a:pt x="449" y="213"/>
                  </a:lnTo>
                  <a:lnTo>
                    <a:pt x="502" y="211"/>
                  </a:lnTo>
                  <a:lnTo>
                    <a:pt x="552" y="209"/>
                  </a:lnTo>
                  <a:lnTo>
                    <a:pt x="640" y="202"/>
                  </a:lnTo>
                  <a:lnTo>
                    <a:pt x="707" y="198"/>
                  </a:lnTo>
                  <a:lnTo>
                    <a:pt x="704" y="179"/>
                  </a:lnTo>
                  <a:lnTo>
                    <a:pt x="700" y="161"/>
                  </a:lnTo>
                  <a:lnTo>
                    <a:pt x="695" y="144"/>
                  </a:lnTo>
                  <a:lnTo>
                    <a:pt x="689" y="130"/>
                  </a:lnTo>
                  <a:lnTo>
                    <a:pt x="685" y="124"/>
                  </a:lnTo>
                  <a:lnTo>
                    <a:pt x="681" y="117"/>
                  </a:lnTo>
                  <a:lnTo>
                    <a:pt x="677" y="112"/>
                  </a:lnTo>
                  <a:lnTo>
                    <a:pt x="673" y="108"/>
                  </a:lnTo>
                  <a:lnTo>
                    <a:pt x="669" y="105"/>
                  </a:lnTo>
                  <a:lnTo>
                    <a:pt x="665" y="102"/>
                  </a:lnTo>
                  <a:lnTo>
                    <a:pt x="660" y="101"/>
                  </a:lnTo>
                  <a:lnTo>
                    <a:pt x="65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92600">
              <a:off x="7421400" y="3614040"/>
              <a:ext cx="90000" cy="20520"/>
            </a:xfrm>
            <a:custGeom>
              <a:avLst/>
              <a:gdLst/>
              <a:ahLst/>
              <a:rect l="l" t="t" r="r" b="b"/>
              <a:pathLst>
                <a:path w="628" h="129">
                  <a:moveTo>
                    <a:pt x="583" y="38"/>
                  </a:moveTo>
                  <a:lnTo>
                    <a:pt x="563" y="36"/>
                  </a:lnTo>
                  <a:lnTo>
                    <a:pt x="535" y="33"/>
                  </a:lnTo>
                  <a:lnTo>
                    <a:pt x="500" y="28"/>
                  </a:lnTo>
                  <a:lnTo>
                    <a:pt x="459" y="22"/>
                  </a:lnTo>
                  <a:lnTo>
                    <a:pt x="413" y="15"/>
                  </a:lnTo>
                  <a:lnTo>
                    <a:pt x="364" y="9"/>
                  </a:lnTo>
                  <a:lnTo>
                    <a:pt x="312" y="4"/>
                  </a:lnTo>
                  <a:lnTo>
                    <a:pt x="262" y="1"/>
                  </a:lnTo>
                  <a:lnTo>
                    <a:pt x="236" y="0"/>
                  </a:lnTo>
                  <a:lnTo>
                    <a:pt x="211" y="0"/>
                  </a:lnTo>
                  <a:lnTo>
                    <a:pt x="186" y="0"/>
                  </a:lnTo>
                  <a:lnTo>
                    <a:pt x="162" y="2"/>
                  </a:lnTo>
                  <a:lnTo>
                    <a:pt x="139" y="4"/>
                  </a:lnTo>
                  <a:lnTo>
                    <a:pt x="118" y="7"/>
                  </a:lnTo>
                  <a:lnTo>
                    <a:pt x="98" y="11"/>
                  </a:lnTo>
                  <a:lnTo>
                    <a:pt x="79" y="15"/>
                  </a:lnTo>
                  <a:lnTo>
                    <a:pt x="61" y="23"/>
                  </a:lnTo>
                  <a:lnTo>
                    <a:pt x="46" y="30"/>
                  </a:lnTo>
                  <a:lnTo>
                    <a:pt x="32" y="39"/>
                  </a:lnTo>
                  <a:lnTo>
                    <a:pt x="21" y="50"/>
                  </a:lnTo>
                  <a:lnTo>
                    <a:pt x="12" y="61"/>
                  </a:lnTo>
                  <a:lnTo>
                    <a:pt x="6" y="74"/>
                  </a:lnTo>
                  <a:lnTo>
                    <a:pt x="1" y="90"/>
                  </a:lnTo>
                  <a:lnTo>
                    <a:pt x="0" y="107"/>
                  </a:lnTo>
                  <a:lnTo>
                    <a:pt x="628" y="129"/>
                  </a:lnTo>
                  <a:lnTo>
                    <a:pt x="58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92600">
              <a:off x="7384680" y="3681360"/>
              <a:ext cx="110520" cy="20160"/>
            </a:xfrm>
            <a:custGeom>
              <a:avLst/>
              <a:gdLst/>
              <a:ahLst/>
              <a:rect l="l" t="t" r="r" b="b"/>
              <a:pathLst>
                <a:path w="761" h="125">
                  <a:moveTo>
                    <a:pt x="687" y="23"/>
                  </a:moveTo>
                  <a:lnTo>
                    <a:pt x="88" y="0"/>
                  </a:lnTo>
                  <a:lnTo>
                    <a:pt x="61" y="7"/>
                  </a:lnTo>
                  <a:lnTo>
                    <a:pt x="39" y="15"/>
                  </a:lnTo>
                  <a:lnTo>
                    <a:pt x="22" y="23"/>
                  </a:lnTo>
                  <a:lnTo>
                    <a:pt x="11" y="31"/>
                  </a:lnTo>
                  <a:lnTo>
                    <a:pt x="3" y="39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7" y="63"/>
                  </a:lnTo>
                  <a:lnTo>
                    <a:pt x="15" y="70"/>
                  </a:lnTo>
                  <a:lnTo>
                    <a:pt x="27" y="78"/>
                  </a:lnTo>
                  <a:lnTo>
                    <a:pt x="43" y="85"/>
                  </a:lnTo>
                  <a:lnTo>
                    <a:pt x="62" y="91"/>
                  </a:lnTo>
                  <a:lnTo>
                    <a:pt x="83" y="97"/>
                  </a:lnTo>
                  <a:lnTo>
                    <a:pt x="107" y="104"/>
                  </a:lnTo>
                  <a:lnTo>
                    <a:pt x="134" y="109"/>
                  </a:lnTo>
                  <a:lnTo>
                    <a:pt x="163" y="113"/>
                  </a:lnTo>
                  <a:lnTo>
                    <a:pt x="194" y="117"/>
                  </a:lnTo>
                  <a:lnTo>
                    <a:pt x="227" y="120"/>
                  </a:lnTo>
                  <a:lnTo>
                    <a:pt x="262" y="123"/>
                  </a:lnTo>
                  <a:lnTo>
                    <a:pt x="298" y="124"/>
                  </a:lnTo>
                  <a:lnTo>
                    <a:pt x="335" y="125"/>
                  </a:lnTo>
                  <a:lnTo>
                    <a:pt x="374" y="125"/>
                  </a:lnTo>
                  <a:lnTo>
                    <a:pt x="412" y="124"/>
                  </a:lnTo>
                  <a:lnTo>
                    <a:pt x="451" y="122"/>
                  </a:lnTo>
                  <a:lnTo>
                    <a:pt x="492" y="119"/>
                  </a:lnTo>
                  <a:lnTo>
                    <a:pt x="531" y="115"/>
                  </a:lnTo>
                  <a:lnTo>
                    <a:pt x="572" y="110"/>
                  </a:lnTo>
                  <a:lnTo>
                    <a:pt x="611" y="104"/>
                  </a:lnTo>
                  <a:lnTo>
                    <a:pt x="649" y="95"/>
                  </a:lnTo>
                  <a:lnTo>
                    <a:pt x="688" y="86"/>
                  </a:lnTo>
                  <a:lnTo>
                    <a:pt x="725" y="75"/>
                  </a:lnTo>
                  <a:lnTo>
                    <a:pt x="761" y="63"/>
                  </a:lnTo>
                  <a:lnTo>
                    <a:pt x="757" y="63"/>
                  </a:lnTo>
                  <a:lnTo>
                    <a:pt x="753" y="63"/>
                  </a:lnTo>
                  <a:lnTo>
                    <a:pt x="748" y="61"/>
                  </a:lnTo>
                  <a:lnTo>
                    <a:pt x="744" y="59"/>
                  </a:lnTo>
                  <a:lnTo>
                    <a:pt x="734" y="53"/>
                  </a:lnTo>
                  <a:lnTo>
                    <a:pt x="724" y="44"/>
                  </a:lnTo>
                  <a:lnTo>
                    <a:pt x="715" y="37"/>
                  </a:lnTo>
                  <a:lnTo>
                    <a:pt x="705" y="30"/>
                  </a:lnTo>
                  <a:lnTo>
                    <a:pt x="700" y="27"/>
                  </a:lnTo>
                  <a:lnTo>
                    <a:pt x="696" y="25"/>
                  </a:lnTo>
                  <a:lnTo>
                    <a:pt x="691" y="23"/>
                  </a:lnTo>
                  <a:lnTo>
                    <a:pt x="68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92600">
              <a:off x="7385040" y="3723840"/>
              <a:ext cx="72360" cy="28080"/>
            </a:xfrm>
            <a:custGeom>
              <a:avLst/>
              <a:gdLst/>
              <a:ahLst/>
              <a:rect l="l" t="t" r="r" b="b"/>
              <a:pathLst>
                <a:path w="512" h="173">
                  <a:moveTo>
                    <a:pt x="483" y="29"/>
                  </a:moveTo>
                  <a:lnTo>
                    <a:pt x="456" y="30"/>
                  </a:lnTo>
                  <a:lnTo>
                    <a:pt x="427" y="29"/>
                  </a:lnTo>
                  <a:lnTo>
                    <a:pt x="398" y="28"/>
                  </a:lnTo>
                  <a:lnTo>
                    <a:pt x="367" y="26"/>
                  </a:lnTo>
                  <a:lnTo>
                    <a:pt x="305" y="21"/>
                  </a:lnTo>
                  <a:lnTo>
                    <a:pt x="241" y="15"/>
                  </a:lnTo>
                  <a:lnTo>
                    <a:pt x="178" y="8"/>
                  </a:lnTo>
                  <a:lnTo>
                    <a:pt x="116" y="3"/>
                  </a:lnTo>
                  <a:lnTo>
                    <a:pt x="85" y="1"/>
                  </a:lnTo>
                  <a:lnTo>
                    <a:pt x="56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2" y="22"/>
                  </a:lnTo>
                  <a:lnTo>
                    <a:pt x="6" y="42"/>
                  </a:lnTo>
                  <a:lnTo>
                    <a:pt x="12" y="59"/>
                  </a:lnTo>
                  <a:lnTo>
                    <a:pt x="20" y="76"/>
                  </a:lnTo>
                  <a:lnTo>
                    <a:pt x="30" y="89"/>
                  </a:lnTo>
                  <a:lnTo>
                    <a:pt x="40" y="103"/>
                  </a:lnTo>
                  <a:lnTo>
                    <a:pt x="53" y="113"/>
                  </a:lnTo>
                  <a:lnTo>
                    <a:pt x="67" y="124"/>
                  </a:lnTo>
                  <a:lnTo>
                    <a:pt x="82" y="132"/>
                  </a:lnTo>
                  <a:lnTo>
                    <a:pt x="98" y="138"/>
                  </a:lnTo>
                  <a:lnTo>
                    <a:pt x="115" y="144"/>
                  </a:lnTo>
                  <a:lnTo>
                    <a:pt x="133" y="149"/>
                  </a:lnTo>
                  <a:lnTo>
                    <a:pt x="151" y="154"/>
                  </a:lnTo>
                  <a:lnTo>
                    <a:pt x="170" y="157"/>
                  </a:lnTo>
                  <a:lnTo>
                    <a:pt x="190" y="159"/>
                  </a:lnTo>
                  <a:lnTo>
                    <a:pt x="209" y="161"/>
                  </a:lnTo>
                  <a:lnTo>
                    <a:pt x="249" y="162"/>
                  </a:lnTo>
                  <a:lnTo>
                    <a:pt x="289" y="162"/>
                  </a:lnTo>
                  <a:lnTo>
                    <a:pt x="327" y="162"/>
                  </a:lnTo>
                  <a:lnTo>
                    <a:pt x="364" y="161"/>
                  </a:lnTo>
                  <a:lnTo>
                    <a:pt x="396" y="161"/>
                  </a:lnTo>
                  <a:lnTo>
                    <a:pt x="425" y="163"/>
                  </a:lnTo>
                  <a:lnTo>
                    <a:pt x="437" y="164"/>
                  </a:lnTo>
                  <a:lnTo>
                    <a:pt x="449" y="166"/>
                  </a:lnTo>
                  <a:lnTo>
                    <a:pt x="458" y="169"/>
                  </a:lnTo>
                  <a:lnTo>
                    <a:pt x="466" y="173"/>
                  </a:lnTo>
                  <a:lnTo>
                    <a:pt x="512" y="128"/>
                  </a:lnTo>
                  <a:lnTo>
                    <a:pt x="509" y="90"/>
                  </a:lnTo>
                  <a:lnTo>
                    <a:pt x="505" y="59"/>
                  </a:lnTo>
                  <a:lnTo>
                    <a:pt x="501" y="47"/>
                  </a:lnTo>
                  <a:lnTo>
                    <a:pt x="496" y="37"/>
                  </a:lnTo>
                  <a:lnTo>
                    <a:pt x="494" y="34"/>
                  </a:lnTo>
                  <a:lnTo>
                    <a:pt x="491" y="31"/>
                  </a:lnTo>
                  <a:lnTo>
                    <a:pt x="487" y="30"/>
                  </a:lnTo>
                  <a:lnTo>
                    <a:pt x="48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92600">
              <a:off x="8183520" y="2273040"/>
              <a:ext cx="248760" cy="71280"/>
            </a:xfrm>
            <a:custGeom>
              <a:avLst/>
              <a:gdLst/>
              <a:ahLst/>
              <a:rect l="l" t="t" r="r" b="b"/>
              <a:pathLst>
                <a:path w="1725" h="433">
                  <a:moveTo>
                    <a:pt x="892" y="61"/>
                  </a:moveTo>
                  <a:lnTo>
                    <a:pt x="925" y="69"/>
                  </a:lnTo>
                  <a:lnTo>
                    <a:pt x="963" y="78"/>
                  </a:lnTo>
                  <a:lnTo>
                    <a:pt x="1002" y="90"/>
                  </a:lnTo>
                  <a:lnTo>
                    <a:pt x="1045" y="103"/>
                  </a:lnTo>
                  <a:lnTo>
                    <a:pt x="1088" y="118"/>
                  </a:lnTo>
                  <a:lnTo>
                    <a:pt x="1133" y="133"/>
                  </a:lnTo>
                  <a:lnTo>
                    <a:pt x="1179" y="151"/>
                  </a:lnTo>
                  <a:lnTo>
                    <a:pt x="1226" y="169"/>
                  </a:lnTo>
                  <a:lnTo>
                    <a:pt x="1273" y="187"/>
                  </a:lnTo>
                  <a:lnTo>
                    <a:pt x="1319" y="206"/>
                  </a:lnTo>
                  <a:lnTo>
                    <a:pt x="1365" y="226"/>
                  </a:lnTo>
                  <a:lnTo>
                    <a:pt x="1411" y="245"/>
                  </a:lnTo>
                  <a:lnTo>
                    <a:pt x="1454" y="265"/>
                  </a:lnTo>
                  <a:lnTo>
                    <a:pt x="1496" y="285"/>
                  </a:lnTo>
                  <a:lnTo>
                    <a:pt x="1535" y="303"/>
                  </a:lnTo>
                  <a:lnTo>
                    <a:pt x="1572" y="322"/>
                  </a:lnTo>
                  <a:lnTo>
                    <a:pt x="1605" y="340"/>
                  </a:lnTo>
                  <a:lnTo>
                    <a:pt x="1636" y="356"/>
                  </a:lnTo>
                  <a:lnTo>
                    <a:pt x="1663" y="372"/>
                  </a:lnTo>
                  <a:lnTo>
                    <a:pt x="1685" y="386"/>
                  </a:lnTo>
                  <a:lnTo>
                    <a:pt x="1703" y="399"/>
                  </a:lnTo>
                  <a:lnTo>
                    <a:pt x="1716" y="410"/>
                  </a:lnTo>
                  <a:lnTo>
                    <a:pt x="1724" y="418"/>
                  </a:lnTo>
                  <a:lnTo>
                    <a:pt x="1725" y="426"/>
                  </a:lnTo>
                  <a:lnTo>
                    <a:pt x="1720" y="431"/>
                  </a:lnTo>
                  <a:lnTo>
                    <a:pt x="1709" y="433"/>
                  </a:lnTo>
                  <a:lnTo>
                    <a:pt x="1690" y="432"/>
                  </a:lnTo>
                  <a:lnTo>
                    <a:pt x="1664" y="429"/>
                  </a:lnTo>
                  <a:lnTo>
                    <a:pt x="1631" y="423"/>
                  </a:lnTo>
                  <a:lnTo>
                    <a:pt x="1589" y="413"/>
                  </a:lnTo>
                  <a:lnTo>
                    <a:pt x="1539" y="401"/>
                  </a:lnTo>
                  <a:lnTo>
                    <a:pt x="1479" y="384"/>
                  </a:lnTo>
                  <a:lnTo>
                    <a:pt x="1362" y="351"/>
                  </a:lnTo>
                  <a:lnTo>
                    <a:pt x="1252" y="323"/>
                  </a:lnTo>
                  <a:lnTo>
                    <a:pt x="1149" y="298"/>
                  </a:lnTo>
                  <a:lnTo>
                    <a:pt x="1054" y="276"/>
                  </a:lnTo>
                  <a:lnTo>
                    <a:pt x="963" y="258"/>
                  </a:lnTo>
                  <a:lnTo>
                    <a:pt x="876" y="241"/>
                  </a:lnTo>
                  <a:lnTo>
                    <a:pt x="791" y="226"/>
                  </a:lnTo>
                  <a:lnTo>
                    <a:pt x="709" y="212"/>
                  </a:lnTo>
                  <a:lnTo>
                    <a:pt x="628" y="200"/>
                  </a:lnTo>
                  <a:lnTo>
                    <a:pt x="546" y="188"/>
                  </a:lnTo>
                  <a:lnTo>
                    <a:pt x="464" y="176"/>
                  </a:lnTo>
                  <a:lnTo>
                    <a:pt x="379" y="163"/>
                  </a:lnTo>
                  <a:lnTo>
                    <a:pt x="292" y="150"/>
                  </a:lnTo>
                  <a:lnTo>
                    <a:pt x="200" y="135"/>
                  </a:lnTo>
                  <a:lnTo>
                    <a:pt x="103" y="120"/>
                  </a:lnTo>
                  <a:lnTo>
                    <a:pt x="0" y="101"/>
                  </a:lnTo>
                  <a:lnTo>
                    <a:pt x="7" y="86"/>
                  </a:lnTo>
                  <a:lnTo>
                    <a:pt x="18" y="70"/>
                  </a:lnTo>
                  <a:lnTo>
                    <a:pt x="32" y="58"/>
                  </a:lnTo>
                  <a:lnTo>
                    <a:pt x="51" y="46"/>
                  </a:lnTo>
                  <a:lnTo>
                    <a:pt x="71" y="36"/>
                  </a:lnTo>
                  <a:lnTo>
                    <a:pt x="95" y="26"/>
                  </a:lnTo>
                  <a:lnTo>
                    <a:pt x="121" y="19"/>
                  </a:lnTo>
                  <a:lnTo>
                    <a:pt x="150" y="13"/>
                  </a:lnTo>
                  <a:lnTo>
                    <a:pt x="181" y="9"/>
                  </a:lnTo>
                  <a:lnTo>
                    <a:pt x="213" y="5"/>
                  </a:lnTo>
                  <a:lnTo>
                    <a:pt x="248" y="2"/>
                  </a:lnTo>
                  <a:lnTo>
                    <a:pt x="283" y="1"/>
                  </a:lnTo>
                  <a:lnTo>
                    <a:pt x="319" y="0"/>
                  </a:lnTo>
                  <a:lnTo>
                    <a:pt x="356" y="0"/>
                  </a:lnTo>
                  <a:lnTo>
                    <a:pt x="395" y="0"/>
                  </a:lnTo>
                  <a:lnTo>
                    <a:pt x="433" y="2"/>
                  </a:lnTo>
                  <a:lnTo>
                    <a:pt x="509" y="6"/>
                  </a:lnTo>
                  <a:lnTo>
                    <a:pt x="584" y="13"/>
                  </a:lnTo>
                  <a:lnTo>
                    <a:pt x="656" y="20"/>
                  </a:lnTo>
                  <a:lnTo>
                    <a:pt x="721" y="30"/>
                  </a:lnTo>
                  <a:lnTo>
                    <a:pt x="780" y="39"/>
                  </a:lnTo>
                  <a:lnTo>
                    <a:pt x="829" y="47"/>
                  </a:lnTo>
                  <a:lnTo>
                    <a:pt x="867" y="54"/>
                  </a:lnTo>
                  <a:lnTo>
                    <a:pt x="89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92600">
              <a:off x="7824600" y="3267000"/>
              <a:ext cx="248760" cy="70920"/>
            </a:xfrm>
            <a:custGeom>
              <a:avLst/>
              <a:gdLst/>
              <a:ahLst/>
              <a:rect l="l" t="t" r="r" b="b"/>
              <a:pathLst>
                <a:path w="1715" h="434">
                  <a:moveTo>
                    <a:pt x="881" y="57"/>
                  </a:moveTo>
                  <a:lnTo>
                    <a:pt x="916" y="65"/>
                  </a:lnTo>
                  <a:lnTo>
                    <a:pt x="953" y="74"/>
                  </a:lnTo>
                  <a:lnTo>
                    <a:pt x="992" y="87"/>
                  </a:lnTo>
                  <a:lnTo>
                    <a:pt x="1035" y="100"/>
                  </a:lnTo>
                  <a:lnTo>
                    <a:pt x="1078" y="116"/>
                  </a:lnTo>
                  <a:lnTo>
                    <a:pt x="1123" y="131"/>
                  </a:lnTo>
                  <a:lnTo>
                    <a:pt x="1168" y="149"/>
                  </a:lnTo>
                  <a:lnTo>
                    <a:pt x="1215" y="167"/>
                  </a:lnTo>
                  <a:lnTo>
                    <a:pt x="1263" y="186"/>
                  </a:lnTo>
                  <a:lnTo>
                    <a:pt x="1309" y="205"/>
                  </a:lnTo>
                  <a:lnTo>
                    <a:pt x="1355" y="225"/>
                  </a:lnTo>
                  <a:lnTo>
                    <a:pt x="1400" y="246"/>
                  </a:lnTo>
                  <a:lnTo>
                    <a:pt x="1443" y="265"/>
                  </a:lnTo>
                  <a:lnTo>
                    <a:pt x="1486" y="285"/>
                  </a:lnTo>
                  <a:lnTo>
                    <a:pt x="1525" y="304"/>
                  </a:lnTo>
                  <a:lnTo>
                    <a:pt x="1562" y="322"/>
                  </a:lnTo>
                  <a:lnTo>
                    <a:pt x="1595" y="340"/>
                  </a:lnTo>
                  <a:lnTo>
                    <a:pt x="1627" y="358"/>
                  </a:lnTo>
                  <a:lnTo>
                    <a:pt x="1652" y="373"/>
                  </a:lnTo>
                  <a:lnTo>
                    <a:pt x="1675" y="387"/>
                  </a:lnTo>
                  <a:lnTo>
                    <a:pt x="1693" y="400"/>
                  </a:lnTo>
                  <a:lnTo>
                    <a:pt x="1706" y="410"/>
                  </a:lnTo>
                  <a:lnTo>
                    <a:pt x="1714" y="420"/>
                  </a:lnTo>
                  <a:lnTo>
                    <a:pt x="1715" y="427"/>
                  </a:lnTo>
                  <a:lnTo>
                    <a:pt x="1710" y="432"/>
                  </a:lnTo>
                  <a:lnTo>
                    <a:pt x="1699" y="434"/>
                  </a:lnTo>
                  <a:lnTo>
                    <a:pt x="1680" y="433"/>
                  </a:lnTo>
                  <a:lnTo>
                    <a:pt x="1655" y="430"/>
                  </a:lnTo>
                  <a:lnTo>
                    <a:pt x="1621" y="424"/>
                  </a:lnTo>
                  <a:lnTo>
                    <a:pt x="1579" y="415"/>
                  </a:lnTo>
                  <a:lnTo>
                    <a:pt x="1528" y="402"/>
                  </a:lnTo>
                  <a:lnTo>
                    <a:pt x="1469" y="386"/>
                  </a:lnTo>
                  <a:lnTo>
                    <a:pt x="1353" y="352"/>
                  </a:lnTo>
                  <a:lnTo>
                    <a:pt x="1244" y="324"/>
                  </a:lnTo>
                  <a:lnTo>
                    <a:pt x="1142" y="299"/>
                  </a:lnTo>
                  <a:lnTo>
                    <a:pt x="1047" y="278"/>
                  </a:lnTo>
                  <a:lnTo>
                    <a:pt x="956" y="259"/>
                  </a:lnTo>
                  <a:lnTo>
                    <a:pt x="870" y="242"/>
                  </a:lnTo>
                  <a:lnTo>
                    <a:pt x="786" y="227"/>
                  </a:lnTo>
                  <a:lnTo>
                    <a:pt x="705" y="213"/>
                  </a:lnTo>
                  <a:lnTo>
                    <a:pt x="624" y="201"/>
                  </a:lnTo>
                  <a:lnTo>
                    <a:pt x="543" y="190"/>
                  </a:lnTo>
                  <a:lnTo>
                    <a:pt x="462" y="177"/>
                  </a:lnTo>
                  <a:lnTo>
                    <a:pt x="378" y="165"/>
                  </a:lnTo>
                  <a:lnTo>
                    <a:pt x="291" y="151"/>
                  </a:lnTo>
                  <a:lnTo>
                    <a:pt x="199" y="137"/>
                  </a:lnTo>
                  <a:lnTo>
                    <a:pt x="103" y="121"/>
                  </a:lnTo>
                  <a:lnTo>
                    <a:pt x="0" y="102"/>
                  </a:lnTo>
                  <a:lnTo>
                    <a:pt x="8" y="87"/>
                  </a:lnTo>
                  <a:lnTo>
                    <a:pt x="18" y="71"/>
                  </a:lnTo>
                  <a:lnTo>
                    <a:pt x="32" y="59"/>
                  </a:lnTo>
                  <a:lnTo>
                    <a:pt x="50" y="46"/>
                  </a:lnTo>
                  <a:lnTo>
                    <a:pt x="71" y="37"/>
                  </a:lnTo>
                  <a:lnTo>
                    <a:pt x="94" y="28"/>
                  </a:lnTo>
                  <a:lnTo>
                    <a:pt x="120" y="21"/>
                  </a:lnTo>
                  <a:lnTo>
                    <a:pt x="149" y="14"/>
                  </a:lnTo>
                  <a:lnTo>
                    <a:pt x="179" y="10"/>
                  </a:lnTo>
                  <a:lnTo>
                    <a:pt x="211" y="6"/>
                  </a:lnTo>
                  <a:lnTo>
                    <a:pt x="244" y="3"/>
                  </a:lnTo>
                  <a:lnTo>
                    <a:pt x="279" y="1"/>
                  </a:lnTo>
                  <a:lnTo>
                    <a:pt x="315" y="0"/>
                  </a:lnTo>
                  <a:lnTo>
                    <a:pt x="353" y="0"/>
                  </a:lnTo>
                  <a:lnTo>
                    <a:pt x="390" y="1"/>
                  </a:lnTo>
                  <a:lnTo>
                    <a:pt x="428" y="2"/>
                  </a:lnTo>
                  <a:lnTo>
                    <a:pt x="504" y="6"/>
                  </a:lnTo>
                  <a:lnTo>
                    <a:pt x="579" y="12"/>
                  </a:lnTo>
                  <a:lnTo>
                    <a:pt x="649" y="21"/>
                  </a:lnTo>
                  <a:lnTo>
                    <a:pt x="714" y="28"/>
                  </a:lnTo>
                  <a:lnTo>
                    <a:pt x="772" y="37"/>
                  </a:lnTo>
                  <a:lnTo>
                    <a:pt x="821" y="44"/>
                  </a:lnTo>
                  <a:lnTo>
                    <a:pt x="859" y="52"/>
                  </a:lnTo>
                  <a:lnTo>
                    <a:pt x="88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92600">
              <a:off x="7719840" y="3597120"/>
              <a:ext cx="248760" cy="68040"/>
            </a:xfrm>
            <a:custGeom>
              <a:avLst/>
              <a:gdLst/>
              <a:ahLst/>
              <a:rect l="l" t="t" r="r" b="b"/>
              <a:pathLst>
                <a:path w="1714" h="433">
                  <a:moveTo>
                    <a:pt x="887" y="61"/>
                  </a:moveTo>
                  <a:lnTo>
                    <a:pt x="920" y="70"/>
                  </a:lnTo>
                  <a:lnTo>
                    <a:pt x="956" y="80"/>
                  </a:lnTo>
                  <a:lnTo>
                    <a:pt x="996" y="91"/>
                  </a:lnTo>
                  <a:lnTo>
                    <a:pt x="1037" y="105"/>
                  </a:lnTo>
                  <a:lnTo>
                    <a:pt x="1081" y="119"/>
                  </a:lnTo>
                  <a:lnTo>
                    <a:pt x="1125" y="136"/>
                  </a:lnTo>
                  <a:lnTo>
                    <a:pt x="1171" y="152"/>
                  </a:lnTo>
                  <a:lnTo>
                    <a:pt x="1217" y="171"/>
                  </a:lnTo>
                  <a:lnTo>
                    <a:pt x="1310" y="208"/>
                  </a:lnTo>
                  <a:lnTo>
                    <a:pt x="1400" y="248"/>
                  </a:lnTo>
                  <a:lnTo>
                    <a:pt x="1443" y="268"/>
                  </a:lnTo>
                  <a:lnTo>
                    <a:pt x="1485" y="287"/>
                  </a:lnTo>
                  <a:lnTo>
                    <a:pt x="1524" y="306"/>
                  </a:lnTo>
                  <a:lnTo>
                    <a:pt x="1562" y="325"/>
                  </a:lnTo>
                  <a:lnTo>
                    <a:pt x="1596" y="342"/>
                  </a:lnTo>
                  <a:lnTo>
                    <a:pt x="1626" y="358"/>
                  </a:lnTo>
                  <a:lnTo>
                    <a:pt x="1652" y="373"/>
                  </a:lnTo>
                  <a:lnTo>
                    <a:pt x="1675" y="388"/>
                  </a:lnTo>
                  <a:lnTo>
                    <a:pt x="1692" y="400"/>
                  </a:lnTo>
                  <a:lnTo>
                    <a:pt x="1705" y="411"/>
                  </a:lnTo>
                  <a:lnTo>
                    <a:pt x="1713" y="420"/>
                  </a:lnTo>
                  <a:lnTo>
                    <a:pt x="1714" y="426"/>
                  </a:lnTo>
                  <a:lnTo>
                    <a:pt x="1709" y="431"/>
                  </a:lnTo>
                  <a:lnTo>
                    <a:pt x="1697" y="433"/>
                  </a:lnTo>
                  <a:lnTo>
                    <a:pt x="1680" y="432"/>
                  </a:lnTo>
                  <a:lnTo>
                    <a:pt x="1654" y="429"/>
                  </a:lnTo>
                  <a:lnTo>
                    <a:pt x="1620" y="423"/>
                  </a:lnTo>
                  <a:lnTo>
                    <a:pt x="1578" y="414"/>
                  </a:lnTo>
                  <a:lnTo>
                    <a:pt x="1527" y="400"/>
                  </a:lnTo>
                  <a:lnTo>
                    <a:pt x="1468" y="384"/>
                  </a:lnTo>
                  <a:lnTo>
                    <a:pt x="1351" y="352"/>
                  </a:lnTo>
                  <a:lnTo>
                    <a:pt x="1243" y="324"/>
                  </a:lnTo>
                  <a:lnTo>
                    <a:pt x="1142" y="299"/>
                  </a:lnTo>
                  <a:lnTo>
                    <a:pt x="1045" y="277"/>
                  </a:lnTo>
                  <a:lnTo>
                    <a:pt x="955" y="258"/>
                  </a:lnTo>
                  <a:lnTo>
                    <a:pt x="869" y="242"/>
                  </a:lnTo>
                  <a:lnTo>
                    <a:pt x="785" y="226"/>
                  </a:lnTo>
                  <a:lnTo>
                    <a:pt x="703" y="214"/>
                  </a:lnTo>
                  <a:lnTo>
                    <a:pt x="623" y="201"/>
                  </a:lnTo>
                  <a:lnTo>
                    <a:pt x="543" y="190"/>
                  </a:lnTo>
                  <a:lnTo>
                    <a:pt x="461" y="178"/>
                  </a:lnTo>
                  <a:lnTo>
                    <a:pt x="377" y="166"/>
                  </a:lnTo>
                  <a:lnTo>
                    <a:pt x="290" y="154"/>
                  </a:lnTo>
                  <a:lnTo>
                    <a:pt x="199" y="140"/>
                  </a:lnTo>
                  <a:lnTo>
                    <a:pt x="102" y="124"/>
                  </a:lnTo>
                  <a:lnTo>
                    <a:pt x="0" y="108"/>
                  </a:lnTo>
                  <a:lnTo>
                    <a:pt x="7" y="90"/>
                  </a:lnTo>
                  <a:lnTo>
                    <a:pt x="18" y="76"/>
                  </a:lnTo>
                  <a:lnTo>
                    <a:pt x="33" y="62"/>
                  </a:lnTo>
                  <a:lnTo>
                    <a:pt x="50" y="50"/>
                  </a:lnTo>
                  <a:lnTo>
                    <a:pt x="71" y="39"/>
                  </a:lnTo>
                  <a:lnTo>
                    <a:pt x="95" y="30"/>
                  </a:lnTo>
                  <a:lnTo>
                    <a:pt x="121" y="23"/>
                  </a:lnTo>
                  <a:lnTo>
                    <a:pt x="150" y="16"/>
                  </a:lnTo>
                  <a:lnTo>
                    <a:pt x="180" y="10"/>
                  </a:lnTo>
                  <a:lnTo>
                    <a:pt x="212" y="6"/>
                  </a:lnTo>
                  <a:lnTo>
                    <a:pt x="246" y="4"/>
                  </a:lnTo>
                  <a:lnTo>
                    <a:pt x="282" y="2"/>
                  </a:lnTo>
                  <a:lnTo>
                    <a:pt x="318" y="1"/>
                  </a:lnTo>
                  <a:lnTo>
                    <a:pt x="354" y="0"/>
                  </a:lnTo>
                  <a:lnTo>
                    <a:pt x="392" y="1"/>
                  </a:lnTo>
                  <a:lnTo>
                    <a:pt x="430" y="2"/>
                  </a:lnTo>
                  <a:lnTo>
                    <a:pt x="506" y="6"/>
                  </a:lnTo>
                  <a:lnTo>
                    <a:pt x="581" y="14"/>
                  </a:lnTo>
                  <a:lnTo>
                    <a:pt x="652" y="21"/>
                  </a:lnTo>
                  <a:lnTo>
                    <a:pt x="717" y="30"/>
                  </a:lnTo>
                  <a:lnTo>
                    <a:pt x="775" y="38"/>
                  </a:lnTo>
                  <a:lnTo>
                    <a:pt x="825" y="48"/>
                  </a:lnTo>
                  <a:lnTo>
                    <a:pt x="862" y="55"/>
                  </a:lnTo>
                  <a:lnTo>
                    <a:pt x="88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92600">
              <a:off x="7608600" y="3921120"/>
              <a:ext cx="206280" cy="59760"/>
            </a:xfrm>
            <a:custGeom>
              <a:avLst/>
              <a:gdLst/>
              <a:ahLst/>
              <a:rect l="l" t="t" r="r" b="b"/>
              <a:pathLst>
                <a:path w="1434" h="369">
                  <a:moveTo>
                    <a:pt x="750" y="37"/>
                  </a:moveTo>
                  <a:lnTo>
                    <a:pt x="778" y="43"/>
                  </a:lnTo>
                  <a:lnTo>
                    <a:pt x="809" y="52"/>
                  </a:lnTo>
                  <a:lnTo>
                    <a:pt x="841" y="62"/>
                  </a:lnTo>
                  <a:lnTo>
                    <a:pt x="876" y="74"/>
                  </a:lnTo>
                  <a:lnTo>
                    <a:pt x="911" y="86"/>
                  </a:lnTo>
                  <a:lnTo>
                    <a:pt x="949" y="99"/>
                  </a:lnTo>
                  <a:lnTo>
                    <a:pt x="987" y="115"/>
                  </a:lnTo>
                  <a:lnTo>
                    <a:pt x="1025" y="131"/>
                  </a:lnTo>
                  <a:lnTo>
                    <a:pt x="1102" y="164"/>
                  </a:lnTo>
                  <a:lnTo>
                    <a:pt x="1177" y="198"/>
                  </a:lnTo>
                  <a:lnTo>
                    <a:pt x="1213" y="216"/>
                  </a:lnTo>
                  <a:lnTo>
                    <a:pt x="1247" y="233"/>
                  </a:lnTo>
                  <a:lnTo>
                    <a:pt x="1279" y="250"/>
                  </a:lnTo>
                  <a:lnTo>
                    <a:pt x="1309" y="266"/>
                  </a:lnTo>
                  <a:lnTo>
                    <a:pt x="1337" y="282"/>
                  </a:lnTo>
                  <a:lnTo>
                    <a:pt x="1362" y="297"/>
                  </a:lnTo>
                  <a:lnTo>
                    <a:pt x="1384" y="311"/>
                  </a:lnTo>
                  <a:lnTo>
                    <a:pt x="1403" y="324"/>
                  </a:lnTo>
                  <a:lnTo>
                    <a:pt x="1416" y="336"/>
                  </a:lnTo>
                  <a:lnTo>
                    <a:pt x="1426" y="346"/>
                  </a:lnTo>
                  <a:lnTo>
                    <a:pt x="1433" y="355"/>
                  </a:lnTo>
                  <a:lnTo>
                    <a:pt x="1434" y="362"/>
                  </a:lnTo>
                  <a:lnTo>
                    <a:pt x="1429" y="366"/>
                  </a:lnTo>
                  <a:lnTo>
                    <a:pt x="1419" y="369"/>
                  </a:lnTo>
                  <a:lnTo>
                    <a:pt x="1404" y="369"/>
                  </a:lnTo>
                  <a:lnTo>
                    <a:pt x="1382" y="367"/>
                  </a:lnTo>
                  <a:lnTo>
                    <a:pt x="1354" y="363"/>
                  </a:lnTo>
                  <a:lnTo>
                    <a:pt x="1319" y="356"/>
                  </a:lnTo>
                  <a:lnTo>
                    <a:pt x="1276" y="345"/>
                  </a:lnTo>
                  <a:lnTo>
                    <a:pt x="1227" y="332"/>
                  </a:lnTo>
                  <a:lnTo>
                    <a:pt x="1130" y="304"/>
                  </a:lnTo>
                  <a:lnTo>
                    <a:pt x="1040" y="281"/>
                  </a:lnTo>
                  <a:lnTo>
                    <a:pt x="956" y="260"/>
                  </a:lnTo>
                  <a:lnTo>
                    <a:pt x="877" y="243"/>
                  </a:lnTo>
                  <a:lnTo>
                    <a:pt x="802" y="228"/>
                  </a:lnTo>
                  <a:lnTo>
                    <a:pt x="730" y="216"/>
                  </a:lnTo>
                  <a:lnTo>
                    <a:pt x="661" y="204"/>
                  </a:lnTo>
                  <a:lnTo>
                    <a:pt x="592" y="195"/>
                  </a:lnTo>
                  <a:lnTo>
                    <a:pt x="525" y="185"/>
                  </a:lnTo>
                  <a:lnTo>
                    <a:pt x="457" y="177"/>
                  </a:lnTo>
                  <a:lnTo>
                    <a:pt x="389" y="169"/>
                  </a:lnTo>
                  <a:lnTo>
                    <a:pt x="319" y="162"/>
                  </a:lnTo>
                  <a:lnTo>
                    <a:pt x="245" y="152"/>
                  </a:lnTo>
                  <a:lnTo>
                    <a:pt x="168" y="142"/>
                  </a:lnTo>
                  <a:lnTo>
                    <a:pt x="87" y="132"/>
                  </a:lnTo>
                  <a:lnTo>
                    <a:pt x="0" y="118"/>
                  </a:lnTo>
                  <a:lnTo>
                    <a:pt x="8" y="102"/>
                  </a:lnTo>
                  <a:lnTo>
                    <a:pt x="17" y="87"/>
                  </a:lnTo>
                  <a:lnTo>
                    <a:pt x="29" y="74"/>
                  </a:lnTo>
                  <a:lnTo>
                    <a:pt x="45" y="61"/>
                  </a:lnTo>
                  <a:lnTo>
                    <a:pt x="63" y="50"/>
                  </a:lnTo>
                  <a:lnTo>
                    <a:pt x="82" y="40"/>
                  </a:lnTo>
                  <a:lnTo>
                    <a:pt x="105" y="32"/>
                  </a:lnTo>
                  <a:lnTo>
                    <a:pt x="129" y="25"/>
                  </a:lnTo>
                  <a:lnTo>
                    <a:pt x="155" y="19"/>
                  </a:lnTo>
                  <a:lnTo>
                    <a:pt x="182" y="13"/>
                  </a:lnTo>
                  <a:lnTo>
                    <a:pt x="211" y="9"/>
                  </a:lnTo>
                  <a:lnTo>
                    <a:pt x="241" y="5"/>
                  </a:lnTo>
                  <a:lnTo>
                    <a:pt x="271" y="3"/>
                  </a:lnTo>
                  <a:lnTo>
                    <a:pt x="302" y="1"/>
                  </a:lnTo>
                  <a:lnTo>
                    <a:pt x="334" y="0"/>
                  </a:lnTo>
                  <a:lnTo>
                    <a:pt x="366" y="0"/>
                  </a:lnTo>
                  <a:lnTo>
                    <a:pt x="430" y="1"/>
                  </a:lnTo>
                  <a:lnTo>
                    <a:pt x="493" y="4"/>
                  </a:lnTo>
                  <a:lnTo>
                    <a:pt x="553" y="9"/>
                  </a:lnTo>
                  <a:lnTo>
                    <a:pt x="608" y="14"/>
                  </a:lnTo>
                  <a:lnTo>
                    <a:pt x="656" y="21"/>
                  </a:lnTo>
                  <a:lnTo>
                    <a:pt x="698" y="27"/>
                  </a:lnTo>
                  <a:lnTo>
                    <a:pt x="729" y="32"/>
                  </a:lnTo>
                  <a:lnTo>
                    <a:pt x="75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92600">
              <a:off x="8173440" y="2322000"/>
              <a:ext cx="101160" cy="36000"/>
            </a:xfrm>
            <a:custGeom>
              <a:avLst/>
              <a:gdLst/>
              <a:ahLst/>
              <a:rect l="l" t="t" r="r" b="b"/>
              <a:pathLst>
                <a:path w="708" h="232">
                  <a:moveTo>
                    <a:pt x="408" y="9"/>
                  </a:moveTo>
                  <a:lnTo>
                    <a:pt x="422" y="13"/>
                  </a:lnTo>
                  <a:lnTo>
                    <a:pt x="436" y="18"/>
                  </a:lnTo>
                  <a:lnTo>
                    <a:pt x="453" y="25"/>
                  </a:lnTo>
                  <a:lnTo>
                    <a:pt x="469" y="32"/>
                  </a:lnTo>
                  <a:lnTo>
                    <a:pt x="504" y="48"/>
                  </a:lnTo>
                  <a:lnTo>
                    <a:pt x="540" y="64"/>
                  </a:lnTo>
                  <a:lnTo>
                    <a:pt x="558" y="70"/>
                  </a:lnTo>
                  <a:lnTo>
                    <a:pt x="576" y="76"/>
                  </a:lnTo>
                  <a:lnTo>
                    <a:pt x="593" y="81"/>
                  </a:lnTo>
                  <a:lnTo>
                    <a:pt x="609" y="84"/>
                  </a:lnTo>
                  <a:lnTo>
                    <a:pt x="626" y="86"/>
                  </a:lnTo>
                  <a:lnTo>
                    <a:pt x="640" y="86"/>
                  </a:lnTo>
                  <a:lnTo>
                    <a:pt x="648" y="85"/>
                  </a:lnTo>
                  <a:lnTo>
                    <a:pt x="655" y="83"/>
                  </a:lnTo>
                  <a:lnTo>
                    <a:pt x="661" y="81"/>
                  </a:lnTo>
                  <a:lnTo>
                    <a:pt x="667" y="78"/>
                  </a:lnTo>
                  <a:lnTo>
                    <a:pt x="672" y="81"/>
                  </a:lnTo>
                  <a:lnTo>
                    <a:pt x="675" y="86"/>
                  </a:lnTo>
                  <a:lnTo>
                    <a:pt x="678" y="93"/>
                  </a:lnTo>
                  <a:lnTo>
                    <a:pt x="680" y="100"/>
                  </a:lnTo>
                  <a:lnTo>
                    <a:pt x="684" y="119"/>
                  </a:lnTo>
                  <a:lnTo>
                    <a:pt x="687" y="138"/>
                  </a:lnTo>
                  <a:lnTo>
                    <a:pt x="691" y="158"/>
                  </a:lnTo>
                  <a:lnTo>
                    <a:pt x="694" y="174"/>
                  </a:lnTo>
                  <a:lnTo>
                    <a:pt x="697" y="182"/>
                  </a:lnTo>
                  <a:lnTo>
                    <a:pt x="701" y="187"/>
                  </a:lnTo>
                  <a:lnTo>
                    <a:pt x="704" y="191"/>
                  </a:lnTo>
                  <a:lnTo>
                    <a:pt x="708" y="193"/>
                  </a:lnTo>
                  <a:lnTo>
                    <a:pt x="688" y="201"/>
                  </a:lnTo>
                  <a:lnTo>
                    <a:pt x="668" y="209"/>
                  </a:lnTo>
                  <a:lnTo>
                    <a:pt x="648" y="215"/>
                  </a:lnTo>
                  <a:lnTo>
                    <a:pt x="626" y="219"/>
                  </a:lnTo>
                  <a:lnTo>
                    <a:pt x="604" y="223"/>
                  </a:lnTo>
                  <a:lnTo>
                    <a:pt x="581" y="226"/>
                  </a:lnTo>
                  <a:lnTo>
                    <a:pt x="559" y="229"/>
                  </a:lnTo>
                  <a:lnTo>
                    <a:pt x="535" y="230"/>
                  </a:lnTo>
                  <a:lnTo>
                    <a:pt x="511" y="232"/>
                  </a:lnTo>
                  <a:lnTo>
                    <a:pt x="486" y="232"/>
                  </a:lnTo>
                  <a:lnTo>
                    <a:pt x="462" y="230"/>
                  </a:lnTo>
                  <a:lnTo>
                    <a:pt x="437" y="229"/>
                  </a:lnTo>
                  <a:lnTo>
                    <a:pt x="388" y="225"/>
                  </a:lnTo>
                  <a:lnTo>
                    <a:pt x="339" y="219"/>
                  </a:lnTo>
                  <a:lnTo>
                    <a:pt x="289" y="212"/>
                  </a:lnTo>
                  <a:lnTo>
                    <a:pt x="241" y="202"/>
                  </a:lnTo>
                  <a:lnTo>
                    <a:pt x="195" y="192"/>
                  </a:lnTo>
                  <a:lnTo>
                    <a:pt x="150" y="182"/>
                  </a:lnTo>
                  <a:lnTo>
                    <a:pt x="68" y="161"/>
                  </a:lnTo>
                  <a:lnTo>
                    <a:pt x="0" y="141"/>
                  </a:lnTo>
                  <a:lnTo>
                    <a:pt x="9" y="131"/>
                  </a:lnTo>
                  <a:lnTo>
                    <a:pt x="20" y="120"/>
                  </a:lnTo>
                  <a:lnTo>
                    <a:pt x="31" y="109"/>
                  </a:lnTo>
                  <a:lnTo>
                    <a:pt x="43" y="100"/>
                  </a:lnTo>
                  <a:lnTo>
                    <a:pt x="55" y="91"/>
                  </a:lnTo>
                  <a:lnTo>
                    <a:pt x="67" y="82"/>
                  </a:lnTo>
                  <a:lnTo>
                    <a:pt x="81" y="74"/>
                  </a:lnTo>
                  <a:lnTo>
                    <a:pt x="94" y="66"/>
                  </a:lnTo>
                  <a:lnTo>
                    <a:pt x="121" y="51"/>
                  </a:lnTo>
                  <a:lnTo>
                    <a:pt x="150" y="39"/>
                  </a:lnTo>
                  <a:lnTo>
                    <a:pt x="179" y="28"/>
                  </a:lnTo>
                  <a:lnTo>
                    <a:pt x="208" y="19"/>
                  </a:lnTo>
                  <a:lnTo>
                    <a:pt x="237" y="12"/>
                  </a:lnTo>
                  <a:lnTo>
                    <a:pt x="265" y="7"/>
                  </a:lnTo>
                  <a:lnTo>
                    <a:pt x="293" y="2"/>
                  </a:lnTo>
                  <a:lnTo>
                    <a:pt x="320" y="0"/>
                  </a:lnTo>
                  <a:lnTo>
                    <a:pt x="345" y="0"/>
                  </a:lnTo>
                  <a:lnTo>
                    <a:pt x="369" y="1"/>
                  </a:lnTo>
                  <a:lnTo>
                    <a:pt x="390" y="4"/>
                  </a:lnTo>
                  <a:lnTo>
                    <a:pt x="40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92600">
              <a:off x="8157600" y="2380680"/>
              <a:ext cx="91800" cy="31320"/>
            </a:xfrm>
            <a:custGeom>
              <a:avLst/>
              <a:gdLst/>
              <a:ahLst/>
              <a:rect l="l" t="t" r="r" b="b"/>
              <a:pathLst>
                <a:path w="640" h="191">
                  <a:moveTo>
                    <a:pt x="433" y="20"/>
                  </a:moveTo>
                  <a:lnTo>
                    <a:pt x="640" y="83"/>
                  </a:lnTo>
                  <a:lnTo>
                    <a:pt x="633" y="104"/>
                  </a:lnTo>
                  <a:lnTo>
                    <a:pt x="623" y="122"/>
                  </a:lnTo>
                  <a:lnTo>
                    <a:pt x="611" y="137"/>
                  </a:lnTo>
                  <a:lnTo>
                    <a:pt x="596" y="151"/>
                  </a:lnTo>
                  <a:lnTo>
                    <a:pt x="581" y="162"/>
                  </a:lnTo>
                  <a:lnTo>
                    <a:pt x="562" y="171"/>
                  </a:lnTo>
                  <a:lnTo>
                    <a:pt x="543" y="179"/>
                  </a:lnTo>
                  <a:lnTo>
                    <a:pt x="522" y="185"/>
                  </a:lnTo>
                  <a:lnTo>
                    <a:pt x="499" y="188"/>
                  </a:lnTo>
                  <a:lnTo>
                    <a:pt x="475" y="191"/>
                  </a:lnTo>
                  <a:lnTo>
                    <a:pt x="450" y="191"/>
                  </a:lnTo>
                  <a:lnTo>
                    <a:pt x="425" y="191"/>
                  </a:lnTo>
                  <a:lnTo>
                    <a:pt x="398" y="189"/>
                  </a:lnTo>
                  <a:lnTo>
                    <a:pt x="373" y="186"/>
                  </a:lnTo>
                  <a:lnTo>
                    <a:pt x="346" y="182"/>
                  </a:lnTo>
                  <a:lnTo>
                    <a:pt x="319" y="177"/>
                  </a:lnTo>
                  <a:lnTo>
                    <a:pt x="291" y="170"/>
                  </a:lnTo>
                  <a:lnTo>
                    <a:pt x="265" y="164"/>
                  </a:lnTo>
                  <a:lnTo>
                    <a:pt x="238" y="157"/>
                  </a:lnTo>
                  <a:lnTo>
                    <a:pt x="212" y="149"/>
                  </a:lnTo>
                  <a:lnTo>
                    <a:pt x="186" y="140"/>
                  </a:lnTo>
                  <a:lnTo>
                    <a:pt x="162" y="132"/>
                  </a:lnTo>
                  <a:lnTo>
                    <a:pt x="138" y="123"/>
                  </a:lnTo>
                  <a:lnTo>
                    <a:pt x="117" y="113"/>
                  </a:lnTo>
                  <a:lnTo>
                    <a:pt x="95" y="105"/>
                  </a:lnTo>
                  <a:lnTo>
                    <a:pt x="76" y="96"/>
                  </a:lnTo>
                  <a:lnTo>
                    <a:pt x="59" y="86"/>
                  </a:lnTo>
                  <a:lnTo>
                    <a:pt x="42" y="78"/>
                  </a:lnTo>
                  <a:lnTo>
                    <a:pt x="28" y="70"/>
                  </a:lnTo>
                  <a:lnTo>
                    <a:pt x="17" y="62"/>
                  </a:lnTo>
                  <a:lnTo>
                    <a:pt x="8" y="55"/>
                  </a:lnTo>
                  <a:lnTo>
                    <a:pt x="0" y="49"/>
                  </a:lnTo>
                  <a:lnTo>
                    <a:pt x="13" y="43"/>
                  </a:lnTo>
                  <a:lnTo>
                    <a:pt x="24" y="38"/>
                  </a:lnTo>
                  <a:lnTo>
                    <a:pt x="37" y="32"/>
                  </a:lnTo>
                  <a:lnTo>
                    <a:pt x="50" y="27"/>
                  </a:lnTo>
                  <a:lnTo>
                    <a:pt x="78" y="19"/>
                  </a:lnTo>
                  <a:lnTo>
                    <a:pt x="106" y="13"/>
                  </a:lnTo>
                  <a:lnTo>
                    <a:pt x="136" y="7"/>
                  </a:lnTo>
                  <a:lnTo>
                    <a:pt x="166" y="3"/>
                  </a:lnTo>
                  <a:lnTo>
                    <a:pt x="197" y="1"/>
                  </a:lnTo>
                  <a:lnTo>
                    <a:pt x="227" y="0"/>
                  </a:lnTo>
                  <a:lnTo>
                    <a:pt x="258" y="0"/>
                  </a:lnTo>
                  <a:lnTo>
                    <a:pt x="288" y="1"/>
                  </a:lnTo>
                  <a:lnTo>
                    <a:pt x="317" y="3"/>
                  </a:lnTo>
                  <a:lnTo>
                    <a:pt x="344" y="5"/>
                  </a:lnTo>
                  <a:lnTo>
                    <a:pt x="369" y="9"/>
                  </a:lnTo>
                  <a:lnTo>
                    <a:pt x="392" y="12"/>
                  </a:lnTo>
                  <a:lnTo>
                    <a:pt x="414" y="16"/>
                  </a:lnTo>
                  <a:lnTo>
                    <a:pt x="4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92600">
              <a:off x="8150040" y="2442600"/>
              <a:ext cx="80640" cy="28080"/>
            </a:xfrm>
            <a:custGeom>
              <a:avLst/>
              <a:gdLst/>
              <a:ahLst/>
              <a:rect l="l" t="t" r="r" b="b"/>
              <a:pathLst>
                <a:path w="553" h="181">
                  <a:moveTo>
                    <a:pt x="288" y="3"/>
                  </a:moveTo>
                  <a:lnTo>
                    <a:pt x="314" y="11"/>
                  </a:lnTo>
                  <a:lnTo>
                    <a:pt x="340" y="16"/>
                  </a:lnTo>
                  <a:lnTo>
                    <a:pt x="365" y="21"/>
                  </a:lnTo>
                  <a:lnTo>
                    <a:pt x="391" y="24"/>
                  </a:lnTo>
                  <a:lnTo>
                    <a:pt x="403" y="25"/>
                  </a:lnTo>
                  <a:lnTo>
                    <a:pt x="414" y="25"/>
                  </a:lnTo>
                  <a:lnTo>
                    <a:pt x="427" y="24"/>
                  </a:lnTo>
                  <a:lnTo>
                    <a:pt x="438" y="23"/>
                  </a:lnTo>
                  <a:lnTo>
                    <a:pt x="451" y="21"/>
                  </a:lnTo>
                  <a:lnTo>
                    <a:pt x="462" y="18"/>
                  </a:lnTo>
                  <a:lnTo>
                    <a:pt x="473" y="15"/>
                  </a:lnTo>
                  <a:lnTo>
                    <a:pt x="484" y="9"/>
                  </a:lnTo>
                  <a:lnTo>
                    <a:pt x="488" y="12"/>
                  </a:lnTo>
                  <a:lnTo>
                    <a:pt x="492" y="16"/>
                  </a:lnTo>
                  <a:lnTo>
                    <a:pt x="496" y="22"/>
                  </a:lnTo>
                  <a:lnTo>
                    <a:pt x="502" y="29"/>
                  </a:lnTo>
                  <a:lnTo>
                    <a:pt x="510" y="47"/>
                  </a:lnTo>
                  <a:lnTo>
                    <a:pt x="518" y="68"/>
                  </a:lnTo>
                  <a:lnTo>
                    <a:pt x="527" y="88"/>
                  </a:lnTo>
                  <a:lnTo>
                    <a:pt x="536" y="108"/>
                  </a:lnTo>
                  <a:lnTo>
                    <a:pt x="540" y="115"/>
                  </a:lnTo>
                  <a:lnTo>
                    <a:pt x="544" y="122"/>
                  </a:lnTo>
                  <a:lnTo>
                    <a:pt x="548" y="128"/>
                  </a:lnTo>
                  <a:lnTo>
                    <a:pt x="553" y="131"/>
                  </a:lnTo>
                  <a:lnTo>
                    <a:pt x="536" y="139"/>
                  </a:lnTo>
                  <a:lnTo>
                    <a:pt x="518" y="146"/>
                  </a:lnTo>
                  <a:lnTo>
                    <a:pt x="502" y="153"/>
                  </a:lnTo>
                  <a:lnTo>
                    <a:pt x="484" y="159"/>
                  </a:lnTo>
                  <a:lnTo>
                    <a:pt x="467" y="164"/>
                  </a:lnTo>
                  <a:lnTo>
                    <a:pt x="450" y="168"/>
                  </a:lnTo>
                  <a:lnTo>
                    <a:pt x="433" y="172"/>
                  </a:lnTo>
                  <a:lnTo>
                    <a:pt x="416" y="174"/>
                  </a:lnTo>
                  <a:lnTo>
                    <a:pt x="399" y="177"/>
                  </a:lnTo>
                  <a:lnTo>
                    <a:pt x="381" y="180"/>
                  </a:lnTo>
                  <a:lnTo>
                    <a:pt x="365" y="181"/>
                  </a:lnTo>
                  <a:lnTo>
                    <a:pt x="347" y="181"/>
                  </a:lnTo>
                  <a:lnTo>
                    <a:pt x="313" y="181"/>
                  </a:lnTo>
                  <a:lnTo>
                    <a:pt x="279" y="178"/>
                  </a:lnTo>
                  <a:lnTo>
                    <a:pt x="245" y="175"/>
                  </a:lnTo>
                  <a:lnTo>
                    <a:pt x="210" y="170"/>
                  </a:lnTo>
                  <a:lnTo>
                    <a:pt x="175" y="163"/>
                  </a:lnTo>
                  <a:lnTo>
                    <a:pt x="141" y="156"/>
                  </a:lnTo>
                  <a:lnTo>
                    <a:pt x="71" y="138"/>
                  </a:lnTo>
                  <a:lnTo>
                    <a:pt x="0" y="119"/>
                  </a:lnTo>
                  <a:lnTo>
                    <a:pt x="3" y="110"/>
                  </a:lnTo>
                  <a:lnTo>
                    <a:pt x="7" y="102"/>
                  </a:lnTo>
                  <a:lnTo>
                    <a:pt x="12" y="94"/>
                  </a:lnTo>
                  <a:lnTo>
                    <a:pt x="19" y="87"/>
                  </a:lnTo>
                  <a:lnTo>
                    <a:pt x="26" y="80"/>
                  </a:lnTo>
                  <a:lnTo>
                    <a:pt x="33" y="73"/>
                  </a:lnTo>
                  <a:lnTo>
                    <a:pt x="41" y="66"/>
                  </a:lnTo>
                  <a:lnTo>
                    <a:pt x="51" y="59"/>
                  </a:lnTo>
                  <a:lnTo>
                    <a:pt x="70" y="48"/>
                  </a:lnTo>
                  <a:lnTo>
                    <a:pt x="92" y="37"/>
                  </a:lnTo>
                  <a:lnTo>
                    <a:pt x="114" y="28"/>
                  </a:lnTo>
                  <a:lnTo>
                    <a:pt x="138" y="20"/>
                  </a:lnTo>
                  <a:lnTo>
                    <a:pt x="162" y="14"/>
                  </a:lnTo>
                  <a:lnTo>
                    <a:pt x="184" y="8"/>
                  </a:lnTo>
                  <a:lnTo>
                    <a:pt x="206" y="4"/>
                  </a:lnTo>
                  <a:lnTo>
                    <a:pt x="228" y="1"/>
                  </a:lnTo>
                  <a:lnTo>
                    <a:pt x="247" y="0"/>
                  </a:lnTo>
                  <a:lnTo>
                    <a:pt x="263" y="0"/>
                  </a:lnTo>
                  <a:lnTo>
                    <a:pt x="278" y="1"/>
                  </a:lnTo>
                  <a:lnTo>
                    <a:pt x="2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92600">
              <a:off x="8127720" y="2503080"/>
              <a:ext cx="75960" cy="34560"/>
            </a:xfrm>
            <a:custGeom>
              <a:avLst/>
              <a:gdLst/>
              <a:ahLst/>
              <a:rect l="l" t="t" r="r" b="b"/>
              <a:pathLst>
                <a:path w="535" h="208">
                  <a:moveTo>
                    <a:pt x="149" y="0"/>
                  </a:moveTo>
                  <a:lnTo>
                    <a:pt x="175" y="8"/>
                  </a:lnTo>
                  <a:lnTo>
                    <a:pt x="202" y="14"/>
                  </a:lnTo>
                  <a:lnTo>
                    <a:pt x="228" y="19"/>
                  </a:lnTo>
                  <a:lnTo>
                    <a:pt x="255" y="24"/>
                  </a:lnTo>
                  <a:lnTo>
                    <a:pt x="308" y="36"/>
                  </a:lnTo>
                  <a:lnTo>
                    <a:pt x="360" y="48"/>
                  </a:lnTo>
                  <a:lnTo>
                    <a:pt x="384" y="55"/>
                  </a:lnTo>
                  <a:lnTo>
                    <a:pt x="409" y="64"/>
                  </a:lnTo>
                  <a:lnTo>
                    <a:pt x="432" y="74"/>
                  </a:lnTo>
                  <a:lnTo>
                    <a:pt x="455" y="86"/>
                  </a:lnTo>
                  <a:lnTo>
                    <a:pt x="466" y="93"/>
                  </a:lnTo>
                  <a:lnTo>
                    <a:pt x="477" y="100"/>
                  </a:lnTo>
                  <a:lnTo>
                    <a:pt x="487" y="107"/>
                  </a:lnTo>
                  <a:lnTo>
                    <a:pt x="497" y="116"/>
                  </a:lnTo>
                  <a:lnTo>
                    <a:pt x="508" y="125"/>
                  </a:lnTo>
                  <a:lnTo>
                    <a:pt x="517" y="134"/>
                  </a:lnTo>
                  <a:lnTo>
                    <a:pt x="526" y="145"/>
                  </a:lnTo>
                  <a:lnTo>
                    <a:pt x="535" y="156"/>
                  </a:lnTo>
                  <a:lnTo>
                    <a:pt x="518" y="161"/>
                  </a:lnTo>
                  <a:lnTo>
                    <a:pt x="499" y="165"/>
                  </a:lnTo>
                  <a:lnTo>
                    <a:pt x="479" y="169"/>
                  </a:lnTo>
                  <a:lnTo>
                    <a:pt x="457" y="173"/>
                  </a:lnTo>
                  <a:lnTo>
                    <a:pt x="410" y="179"/>
                  </a:lnTo>
                  <a:lnTo>
                    <a:pt x="363" y="184"/>
                  </a:lnTo>
                  <a:lnTo>
                    <a:pt x="314" y="189"/>
                  </a:lnTo>
                  <a:lnTo>
                    <a:pt x="268" y="194"/>
                  </a:lnTo>
                  <a:lnTo>
                    <a:pt x="247" y="196"/>
                  </a:lnTo>
                  <a:lnTo>
                    <a:pt x="226" y="199"/>
                  </a:lnTo>
                  <a:lnTo>
                    <a:pt x="207" y="204"/>
                  </a:lnTo>
                  <a:lnTo>
                    <a:pt x="190" y="208"/>
                  </a:lnTo>
                  <a:lnTo>
                    <a:pt x="184" y="197"/>
                  </a:lnTo>
                  <a:lnTo>
                    <a:pt x="179" y="188"/>
                  </a:lnTo>
                  <a:lnTo>
                    <a:pt x="174" y="181"/>
                  </a:lnTo>
                  <a:lnTo>
                    <a:pt x="169" y="174"/>
                  </a:lnTo>
                  <a:lnTo>
                    <a:pt x="163" y="168"/>
                  </a:lnTo>
                  <a:lnTo>
                    <a:pt x="157" y="164"/>
                  </a:lnTo>
                  <a:lnTo>
                    <a:pt x="151" y="161"/>
                  </a:lnTo>
                  <a:lnTo>
                    <a:pt x="145" y="159"/>
                  </a:lnTo>
                  <a:lnTo>
                    <a:pt x="139" y="158"/>
                  </a:lnTo>
                  <a:lnTo>
                    <a:pt x="132" y="158"/>
                  </a:lnTo>
                  <a:lnTo>
                    <a:pt x="123" y="159"/>
                  </a:lnTo>
                  <a:lnTo>
                    <a:pt x="115" y="161"/>
                  </a:lnTo>
                  <a:lnTo>
                    <a:pt x="106" y="163"/>
                  </a:lnTo>
                  <a:lnTo>
                    <a:pt x="96" y="167"/>
                  </a:lnTo>
                  <a:lnTo>
                    <a:pt x="86" y="173"/>
                  </a:lnTo>
                  <a:lnTo>
                    <a:pt x="75" y="179"/>
                  </a:lnTo>
                  <a:lnTo>
                    <a:pt x="29" y="161"/>
                  </a:lnTo>
                  <a:lnTo>
                    <a:pt x="0" y="104"/>
                  </a:lnTo>
                  <a:lnTo>
                    <a:pt x="3" y="95"/>
                  </a:lnTo>
                  <a:lnTo>
                    <a:pt x="8" y="86"/>
                  </a:lnTo>
                  <a:lnTo>
                    <a:pt x="15" y="77"/>
                  </a:lnTo>
                  <a:lnTo>
                    <a:pt x="25" y="68"/>
                  </a:lnTo>
                  <a:lnTo>
                    <a:pt x="35" y="58"/>
                  </a:lnTo>
                  <a:lnTo>
                    <a:pt x="46" y="49"/>
                  </a:lnTo>
                  <a:lnTo>
                    <a:pt x="58" y="41"/>
                  </a:lnTo>
                  <a:lnTo>
                    <a:pt x="70" y="33"/>
                  </a:lnTo>
                  <a:lnTo>
                    <a:pt x="83" y="25"/>
                  </a:lnTo>
                  <a:lnTo>
                    <a:pt x="95" y="18"/>
                  </a:lnTo>
                  <a:lnTo>
                    <a:pt x="107" y="13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92600">
              <a:off x="8078760" y="2600280"/>
              <a:ext cx="232920" cy="66240"/>
            </a:xfrm>
            <a:custGeom>
              <a:avLst/>
              <a:gdLst/>
              <a:ahLst/>
              <a:rect l="l" t="t" r="r" b="b"/>
              <a:pathLst>
                <a:path w="1616" h="423">
                  <a:moveTo>
                    <a:pt x="458" y="10"/>
                  </a:moveTo>
                  <a:lnTo>
                    <a:pt x="483" y="3"/>
                  </a:lnTo>
                  <a:lnTo>
                    <a:pt x="515" y="0"/>
                  </a:lnTo>
                  <a:lnTo>
                    <a:pt x="554" y="0"/>
                  </a:lnTo>
                  <a:lnTo>
                    <a:pt x="597" y="4"/>
                  </a:lnTo>
                  <a:lnTo>
                    <a:pt x="646" y="10"/>
                  </a:lnTo>
                  <a:lnTo>
                    <a:pt x="700" y="20"/>
                  </a:lnTo>
                  <a:lnTo>
                    <a:pt x="756" y="33"/>
                  </a:lnTo>
                  <a:lnTo>
                    <a:pt x="815" y="47"/>
                  </a:lnTo>
                  <a:lnTo>
                    <a:pt x="877" y="64"/>
                  </a:lnTo>
                  <a:lnTo>
                    <a:pt x="940" y="82"/>
                  </a:lnTo>
                  <a:lnTo>
                    <a:pt x="1005" y="103"/>
                  </a:lnTo>
                  <a:lnTo>
                    <a:pt x="1069" y="124"/>
                  </a:lnTo>
                  <a:lnTo>
                    <a:pt x="1132" y="147"/>
                  </a:lnTo>
                  <a:lnTo>
                    <a:pt x="1194" y="170"/>
                  </a:lnTo>
                  <a:lnTo>
                    <a:pt x="1255" y="193"/>
                  </a:lnTo>
                  <a:lnTo>
                    <a:pt x="1314" y="217"/>
                  </a:lnTo>
                  <a:lnTo>
                    <a:pt x="1368" y="240"/>
                  </a:lnTo>
                  <a:lnTo>
                    <a:pt x="1420" y="264"/>
                  </a:lnTo>
                  <a:lnTo>
                    <a:pt x="1467" y="287"/>
                  </a:lnTo>
                  <a:lnTo>
                    <a:pt x="1508" y="308"/>
                  </a:lnTo>
                  <a:lnTo>
                    <a:pt x="1545" y="329"/>
                  </a:lnTo>
                  <a:lnTo>
                    <a:pt x="1574" y="349"/>
                  </a:lnTo>
                  <a:lnTo>
                    <a:pt x="1595" y="367"/>
                  </a:lnTo>
                  <a:lnTo>
                    <a:pt x="1610" y="382"/>
                  </a:lnTo>
                  <a:lnTo>
                    <a:pt x="1616" y="396"/>
                  </a:lnTo>
                  <a:lnTo>
                    <a:pt x="1613" y="407"/>
                  </a:lnTo>
                  <a:lnTo>
                    <a:pt x="1600" y="415"/>
                  </a:lnTo>
                  <a:lnTo>
                    <a:pt x="1576" y="420"/>
                  </a:lnTo>
                  <a:lnTo>
                    <a:pt x="1541" y="423"/>
                  </a:lnTo>
                  <a:lnTo>
                    <a:pt x="1494" y="422"/>
                  </a:lnTo>
                  <a:lnTo>
                    <a:pt x="1435" y="416"/>
                  </a:lnTo>
                  <a:lnTo>
                    <a:pt x="1362" y="407"/>
                  </a:lnTo>
                  <a:lnTo>
                    <a:pt x="1286" y="389"/>
                  </a:lnTo>
                  <a:lnTo>
                    <a:pt x="1195" y="368"/>
                  </a:lnTo>
                  <a:lnTo>
                    <a:pt x="1098" y="345"/>
                  </a:lnTo>
                  <a:lnTo>
                    <a:pt x="999" y="322"/>
                  </a:lnTo>
                  <a:lnTo>
                    <a:pt x="909" y="302"/>
                  </a:lnTo>
                  <a:lnTo>
                    <a:pt x="832" y="287"/>
                  </a:lnTo>
                  <a:lnTo>
                    <a:pt x="800" y="282"/>
                  </a:lnTo>
                  <a:lnTo>
                    <a:pt x="775" y="279"/>
                  </a:lnTo>
                  <a:lnTo>
                    <a:pt x="765" y="278"/>
                  </a:lnTo>
                  <a:lnTo>
                    <a:pt x="757" y="278"/>
                  </a:lnTo>
                  <a:lnTo>
                    <a:pt x="750" y="278"/>
                  </a:lnTo>
                  <a:lnTo>
                    <a:pt x="746" y="281"/>
                  </a:lnTo>
                  <a:lnTo>
                    <a:pt x="739" y="274"/>
                  </a:lnTo>
                  <a:lnTo>
                    <a:pt x="728" y="269"/>
                  </a:lnTo>
                  <a:lnTo>
                    <a:pt x="714" y="264"/>
                  </a:lnTo>
                  <a:lnTo>
                    <a:pt x="697" y="259"/>
                  </a:lnTo>
                  <a:lnTo>
                    <a:pt x="677" y="254"/>
                  </a:lnTo>
                  <a:lnTo>
                    <a:pt x="653" y="248"/>
                  </a:lnTo>
                  <a:lnTo>
                    <a:pt x="628" y="244"/>
                  </a:lnTo>
                  <a:lnTo>
                    <a:pt x="600" y="239"/>
                  </a:lnTo>
                  <a:lnTo>
                    <a:pt x="540" y="229"/>
                  </a:lnTo>
                  <a:lnTo>
                    <a:pt x="474" y="219"/>
                  </a:lnTo>
                  <a:lnTo>
                    <a:pt x="406" y="208"/>
                  </a:lnTo>
                  <a:lnTo>
                    <a:pt x="336" y="195"/>
                  </a:lnTo>
                  <a:lnTo>
                    <a:pt x="301" y="189"/>
                  </a:lnTo>
                  <a:lnTo>
                    <a:pt x="267" y="182"/>
                  </a:lnTo>
                  <a:lnTo>
                    <a:pt x="234" y="175"/>
                  </a:lnTo>
                  <a:lnTo>
                    <a:pt x="201" y="167"/>
                  </a:lnTo>
                  <a:lnTo>
                    <a:pt x="171" y="159"/>
                  </a:lnTo>
                  <a:lnTo>
                    <a:pt x="142" y="150"/>
                  </a:lnTo>
                  <a:lnTo>
                    <a:pt x="115" y="141"/>
                  </a:lnTo>
                  <a:lnTo>
                    <a:pt x="90" y="130"/>
                  </a:lnTo>
                  <a:lnTo>
                    <a:pt x="68" y="120"/>
                  </a:lnTo>
                  <a:lnTo>
                    <a:pt x="48" y="108"/>
                  </a:lnTo>
                  <a:lnTo>
                    <a:pt x="31" y="96"/>
                  </a:lnTo>
                  <a:lnTo>
                    <a:pt x="18" y="82"/>
                  </a:lnTo>
                  <a:lnTo>
                    <a:pt x="9" y="68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3" y="21"/>
                  </a:lnTo>
                  <a:lnTo>
                    <a:pt x="14" y="23"/>
                  </a:lnTo>
                  <a:lnTo>
                    <a:pt x="26" y="25"/>
                  </a:lnTo>
                  <a:lnTo>
                    <a:pt x="39" y="26"/>
                  </a:lnTo>
                  <a:lnTo>
                    <a:pt x="51" y="28"/>
                  </a:lnTo>
                  <a:lnTo>
                    <a:pt x="78" y="28"/>
                  </a:lnTo>
                  <a:lnTo>
                    <a:pt x="107" y="26"/>
                  </a:lnTo>
                  <a:lnTo>
                    <a:pt x="167" y="21"/>
                  </a:lnTo>
                  <a:lnTo>
                    <a:pt x="230" y="13"/>
                  </a:lnTo>
                  <a:lnTo>
                    <a:pt x="263" y="9"/>
                  </a:lnTo>
                  <a:lnTo>
                    <a:pt x="294" y="6"/>
                  </a:lnTo>
                  <a:lnTo>
                    <a:pt x="325" y="3"/>
                  </a:lnTo>
                  <a:lnTo>
                    <a:pt x="355" y="1"/>
                  </a:lnTo>
                  <a:lnTo>
                    <a:pt x="383" y="1"/>
                  </a:lnTo>
                  <a:lnTo>
                    <a:pt x="410" y="2"/>
                  </a:lnTo>
                  <a:lnTo>
                    <a:pt x="423" y="3"/>
                  </a:lnTo>
                  <a:lnTo>
                    <a:pt x="436" y="5"/>
                  </a:lnTo>
                  <a:lnTo>
                    <a:pt x="447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92600">
              <a:off x="8043480" y="2656800"/>
              <a:ext cx="107280" cy="33120"/>
            </a:xfrm>
            <a:custGeom>
              <a:avLst/>
              <a:gdLst/>
              <a:ahLst/>
              <a:rect l="l" t="t" r="r" b="b"/>
              <a:pathLst>
                <a:path w="748" h="214">
                  <a:moveTo>
                    <a:pt x="74" y="18"/>
                  </a:moveTo>
                  <a:lnTo>
                    <a:pt x="87" y="13"/>
                  </a:lnTo>
                  <a:lnTo>
                    <a:pt x="101" y="9"/>
                  </a:lnTo>
                  <a:lnTo>
                    <a:pt x="118" y="5"/>
                  </a:lnTo>
                  <a:lnTo>
                    <a:pt x="136" y="3"/>
                  </a:lnTo>
                  <a:lnTo>
                    <a:pt x="157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7" y="0"/>
                  </a:lnTo>
                  <a:lnTo>
                    <a:pt x="251" y="2"/>
                  </a:lnTo>
                  <a:lnTo>
                    <a:pt x="278" y="4"/>
                  </a:lnTo>
                  <a:lnTo>
                    <a:pt x="305" y="7"/>
                  </a:lnTo>
                  <a:lnTo>
                    <a:pt x="332" y="10"/>
                  </a:lnTo>
                  <a:lnTo>
                    <a:pt x="360" y="15"/>
                  </a:lnTo>
                  <a:lnTo>
                    <a:pt x="389" y="21"/>
                  </a:lnTo>
                  <a:lnTo>
                    <a:pt x="417" y="26"/>
                  </a:lnTo>
                  <a:lnTo>
                    <a:pt x="445" y="33"/>
                  </a:lnTo>
                  <a:lnTo>
                    <a:pt x="473" y="40"/>
                  </a:lnTo>
                  <a:lnTo>
                    <a:pt x="501" y="47"/>
                  </a:lnTo>
                  <a:lnTo>
                    <a:pt x="528" y="56"/>
                  </a:lnTo>
                  <a:lnTo>
                    <a:pt x="554" y="65"/>
                  </a:lnTo>
                  <a:lnTo>
                    <a:pt x="579" y="74"/>
                  </a:lnTo>
                  <a:lnTo>
                    <a:pt x="603" y="85"/>
                  </a:lnTo>
                  <a:lnTo>
                    <a:pt x="626" y="96"/>
                  </a:lnTo>
                  <a:lnTo>
                    <a:pt x="647" y="108"/>
                  </a:lnTo>
                  <a:lnTo>
                    <a:pt x="667" y="119"/>
                  </a:lnTo>
                  <a:lnTo>
                    <a:pt x="685" y="131"/>
                  </a:lnTo>
                  <a:lnTo>
                    <a:pt x="701" y="144"/>
                  </a:lnTo>
                  <a:lnTo>
                    <a:pt x="716" y="157"/>
                  </a:lnTo>
                  <a:lnTo>
                    <a:pt x="727" y="171"/>
                  </a:lnTo>
                  <a:lnTo>
                    <a:pt x="736" y="185"/>
                  </a:lnTo>
                  <a:lnTo>
                    <a:pt x="744" y="200"/>
                  </a:lnTo>
                  <a:lnTo>
                    <a:pt x="748" y="214"/>
                  </a:lnTo>
                  <a:lnTo>
                    <a:pt x="707" y="204"/>
                  </a:lnTo>
                  <a:lnTo>
                    <a:pt x="666" y="194"/>
                  </a:lnTo>
                  <a:lnTo>
                    <a:pt x="621" y="186"/>
                  </a:lnTo>
                  <a:lnTo>
                    <a:pt x="577" y="179"/>
                  </a:lnTo>
                  <a:lnTo>
                    <a:pt x="530" y="173"/>
                  </a:lnTo>
                  <a:lnTo>
                    <a:pt x="482" y="167"/>
                  </a:lnTo>
                  <a:lnTo>
                    <a:pt x="434" y="162"/>
                  </a:lnTo>
                  <a:lnTo>
                    <a:pt x="384" y="157"/>
                  </a:lnTo>
                  <a:lnTo>
                    <a:pt x="334" y="152"/>
                  </a:lnTo>
                  <a:lnTo>
                    <a:pt x="285" y="147"/>
                  </a:lnTo>
                  <a:lnTo>
                    <a:pt x="236" y="142"/>
                  </a:lnTo>
                  <a:lnTo>
                    <a:pt x="186" y="136"/>
                  </a:lnTo>
                  <a:lnTo>
                    <a:pt x="138" y="128"/>
                  </a:lnTo>
                  <a:lnTo>
                    <a:pt x="91" y="120"/>
                  </a:lnTo>
                  <a:lnTo>
                    <a:pt x="44" y="111"/>
                  </a:lnTo>
                  <a:lnTo>
                    <a:pt x="0" y="99"/>
                  </a:lnTo>
                  <a:lnTo>
                    <a:pt x="7" y="83"/>
                  </a:lnTo>
                  <a:lnTo>
                    <a:pt x="15" y="66"/>
                  </a:lnTo>
                  <a:lnTo>
                    <a:pt x="24" y="53"/>
                  </a:lnTo>
                  <a:lnTo>
                    <a:pt x="35" y="39"/>
                  </a:lnTo>
                  <a:lnTo>
                    <a:pt x="40" y="34"/>
                  </a:lnTo>
                  <a:lnTo>
                    <a:pt x="45" y="30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0" y="21"/>
                  </a:lnTo>
                  <a:lnTo>
                    <a:pt x="65" y="18"/>
                  </a:lnTo>
                  <a:lnTo>
                    <a:pt x="70" y="18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92600">
              <a:off x="8048160" y="2706480"/>
              <a:ext cx="83880" cy="37800"/>
            </a:xfrm>
            <a:custGeom>
              <a:avLst/>
              <a:gdLst/>
              <a:ahLst/>
              <a:rect l="l" t="t" r="r" b="b"/>
              <a:pathLst>
                <a:path w="584" h="235">
                  <a:moveTo>
                    <a:pt x="98" y="0"/>
                  </a:moveTo>
                  <a:lnTo>
                    <a:pt x="141" y="9"/>
                  </a:lnTo>
                  <a:lnTo>
                    <a:pt x="208" y="25"/>
                  </a:lnTo>
                  <a:lnTo>
                    <a:pt x="249" y="34"/>
                  </a:lnTo>
                  <a:lnTo>
                    <a:pt x="292" y="46"/>
                  </a:lnTo>
                  <a:lnTo>
                    <a:pt x="337" y="58"/>
                  </a:lnTo>
                  <a:lnTo>
                    <a:pt x="381" y="73"/>
                  </a:lnTo>
                  <a:lnTo>
                    <a:pt x="403" y="80"/>
                  </a:lnTo>
                  <a:lnTo>
                    <a:pt x="424" y="88"/>
                  </a:lnTo>
                  <a:lnTo>
                    <a:pt x="444" y="96"/>
                  </a:lnTo>
                  <a:lnTo>
                    <a:pt x="464" y="105"/>
                  </a:lnTo>
                  <a:lnTo>
                    <a:pt x="484" y="114"/>
                  </a:lnTo>
                  <a:lnTo>
                    <a:pt x="501" y="123"/>
                  </a:lnTo>
                  <a:lnTo>
                    <a:pt x="518" y="133"/>
                  </a:lnTo>
                  <a:lnTo>
                    <a:pt x="533" y="143"/>
                  </a:lnTo>
                  <a:lnTo>
                    <a:pt x="546" y="153"/>
                  </a:lnTo>
                  <a:lnTo>
                    <a:pt x="557" y="164"/>
                  </a:lnTo>
                  <a:lnTo>
                    <a:pt x="568" y="175"/>
                  </a:lnTo>
                  <a:lnTo>
                    <a:pt x="575" y="187"/>
                  </a:lnTo>
                  <a:lnTo>
                    <a:pt x="580" y="198"/>
                  </a:lnTo>
                  <a:lnTo>
                    <a:pt x="583" y="210"/>
                  </a:lnTo>
                  <a:lnTo>
                    <a:pt x="584" y="223"/>
                  </a:lnTo>
                  <a:lnTo>
                    <a:pt x="581" y="235"/>
                  </a:lnTo>
                  <a:lnTo>
                    <a:pt x="572" y="234"/>
                  </a:lnTo>
                  <a:lnTo>
                    <a:pt x="561" y="232"/>
                  </a:lnTo>
                  <a:lnTo>
                    <a:pt x="546" y="231"/>
                  </a:lnTo>
                  <a:lnTo>
                    <a:pt x="530" y="230"/>
                  </a:lnTo>
                  <a:lnTo>
                    <a:pt x="495" y="230"/>
                  </a:lnTo>
                  <a:lnTo>
                    <a:pt x="455" y="229"/>
                  </a:lnTo>
                  <a:lnTo>
                    <a:pt x="409" y="229"/>
                  </a:lnTo>
                  <a:lnTo>
                    <a:pt x="362" y="227"/>
                  </a:lnTo>
                  <a:lnTo>
                    <a:pt x="313" y="225"/>
                  </a:lnTo>
                  <a:lnTo>
                    <a:pt x="263" y="222"/>
                  </a:lnTo>
                  <a:lnTo>
                    <a:pt x="238" y="219"/>
                  </a:lnTo>
                  <a:lnTo>
                    <a:pt x="214" y="216"/>
                  </a:lnTo>
                  <a:lnTo>
                    <a:pt x="190" y="211"/>
                  </a:lnTo>
                  <a:lnTo>
                    <a:pt x="168" y="206"/>
                  </a:lnTo>
                  <a:lnTo>
                    <a:pt x="145" y="201"/>
                  </a:lnTo>
                  <a:lnTo>
                    <a:pt x="124" y="195"/>
                  </a:lnTo>
                  <a:lnTo>
                    <a:pt x="104" y="188"/>
                  </a:lnTo>
                  <a:lnTo>
                    <a:pt x="85" y="179"/>
                  </a:lnTo>
                  <a:lnTo>
                    <a:pt x="68" y="170"/>
                  </a:lnTo>
                  <a:lnTo>
                    <a:pt x="53" y="160"/>
                  </a:lnTo>
                  <a:lnTo>
                    <a:pt x="38" y="147"/>
                  </a:lnTo>
                  <a:lnTo>
                    <a:pt x="27" y="135"/>
                  </a:lnTo>
                  <a:lnTo>
                    <a:pt x="16" y="120"/>
                  </a:lnTo>
                  <a:lnTo>
                    <a:pt x="8" y="105"/>
                  </a:lnTo>
                  <a:lnTo>
                    <a:pt x="3" y="87"/>
                  </a:lnTo>
                  <a:lnTo>
                    <a:pt x="0" y="68"/>
                  </a:lnTo>
                  <a:lnTo>
                    <a:pt x="17" y="2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92600">
              <a:off x="8025840" y="2782800"/>
              <a:ext cx="90000" cy="31320"/>
            </a:xfrm>
            <a:custGeom>
              <a:avLst/>
              <a:gdLst/>
              <a:ahLst/>
              <a:rect l="l" t="t" r="r" b="b"/>
              <a:pathLst>
                <a:path w="628" h="189">
                  <a:moveTo>
                    <a:pt x="99" y="0"/>
                  </a:moveTo>
                  <a:lnTo>
                    <a:pt x="628" y="156"/>
                  </a:lnTo>
                  <a:lnTo>
                    <a:pt x="624" y="164"/>
                  </a:lnTo>
                  <a:lnTo>
                    <a:pt x="618" y="170"/>
                  </a:lnTo>
                  <a:lnTo>
                    <a:pt x="608" y="177"/>
                  </a:lnTo>
                  <a:lnTo>
                    <a:pt x="595" y="181"/>
                  </a:lnTo>
                  <a:lnTo>
                    <a:pt x="580" y="185"/>
                  </a:lnTo>
                  <a:lnTo>
                    <a:pt x="563" y="187"/>
                  </a:lnTo>
                  <a:lnTo>
                    <a:pt x="543" y="189"/>
                  </a:lnTo>
                  <a:lnTo>
                    <a:pt x="522" y="189"/>
                  </a:lnTo>
                  <a:lnTo>
                    <a:pt x="499" y="189"/>
                  </a:lnTo>
                  <a:lnTo>
                    <a:pt x="475" y="188"/>
                  </a:lnTo>
                  <a:lnTo>
                    <a:pt x="449" y="187"/>
                  </a:lnTo>
                  <a:lnTo>
                    <a:pt x="422" y="185"/>
                  </a:lnTo>
                  <a:lnTo>
                    <a:pt x="367" y="178"/>
                  </a:lnTo>
                  <a:lnTo>
                    <a:pt x="310" y="169"/>
                  </a:lnTo>
                  <a:lnTo>
                    <a:pt x="253" y="159"/>
                  </a:lnTo>
                  <a:lnTo>
                    <a:pt x="198" y="148"/>
                  </a:lnTo>
                  <a:lnTo>
                    <a:pt x="147" y="135"/>
                  </a:lnTo>
                  <a:lnTo>
                    <a:pt x="101" y="123"/>
                  </a:lnTo>
                  <a:lnTo>
                    <a:pt x="80" y="116"/>
                  </a:lnTo>
                  <a:lnTo>
                    <a:pt x="60" y="109"/>
                  </a:lnTo>
                  <a:lnTo>
                    <a:pt x="44" y="103"/>
                  </a:lnTo>
                  <a:lnTo>
                    <a:pt x="30" y="97"/>
                  </a:lnTo>
                  <a:lnTo>
                    <a:pt x="18" y="92"/>
                  </a:lnTo>
                  <a:lnTo>
                    <a:pt x="10" y="85"/>
                  </a:lnTo>
                  <a:lnTo>
                    <a:pt x="3" y="80"/>
                  </a:lnTo>
                  <a:lnTo>
                    <a:pt x="0" y="75"/>
                  </a:lnTo>
                  <a:lnTo>
                    <a:pt x="18" y="2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92600">
              <a:off x="8011800" y="2831400"/>
              <a:ext cx="91800" cy="39600"/>
            </a:xfrm>
            <a:custGeom>
              <a:avLst/>
              <a:gdLst/>
              <a:ahLst/>
              <a:rect l="l" t="t" r="r" b="b"/>
              <a:pathLst>
                <a:path w="648" h="253">
                  <a:moveTo>
                    <a:pt x="149" y="0"/>
                  </a:moveTo>
                  <a:lnTo>
                    <a:pt x="263" y="29"/>
                  </a:lnTo>
                  <a:lnTo>
                    <a:pt x="360" y="55"/>
                  </a:lnTo>
                  <a:lnTo>
                    <a:pt x="441" y="77"/>
                  </a:lnTo>
                  <a:lnTo>
                    <a:pt x="507" y="97"/>
                  </a:lnTo>
                  <a:lnTo>
                    <a:pt x="534" y="105"/>
                  </a:lnTo>
                  <a:lnTo>
                    <a:pt x="558" y="113"/>
                  </a:lnTo>
                  <a:lnTo>
                    <a:pt x="579" y="121"/>
                  </a:lnTo>
                  <a:lnTo>
                    <a:pt x="597" y="128"/>
                  </a:lnTo>
                  <a:lnTo>
                    <a:pt x="612" y="135"/>
                  </a:lnTo>
                  <a:lnTo>
                    <a:pt x="624" y="141"/>
                  </a:lnTo>
                  <a:lnTo>
                    <a:pt x="634" y="148"/>
                  </a:lnTo>
                  <a:lnTo>
                    <a:pt x="640" y="153"/>
                  </a:lnTo>
                  <a:lnTo>
                    <a:pt x="645" y="159"/>
                  </a:lnTo>
                  <a:lnTo>
                    <a:pt x="648" y="164"/>
                  </a:lnTo>
                  <a:lnTo>
                    <a:pt x="648" y="169"/>
                  </a:lnTo>
                  <a:lnTo>
                    <a:pt x="647" y="175"/>
                  </a:lnTo>
                  <a:lnTo>
                    <a:pt x="642" y="180"/>
                  </a:lnTo>
                  <a:lnTo>
                    <a:pt x="638" y="185"/>
                  </a:lnTo>
                  <a:lnTo>
                    <a:pt x="631" y="191"/>
                  </a:lnTo>
                  <a:lnTo>
                    <a:pt x="623" y="196"/>
                  </a:lnTo>
                  <a:lnTo>
                    <a:pt x="603" y="209"/>
                  </a:lnTo>
                  <a:lnTo>
                    <a:pt x="579" y="221"/>
                  </a:lnTo>
                  <a:lnTo>
                    <a:pt x="552" y="237"/>
                  </a:lnTo>
                  <a:lnTo>
                    <a:pt x="523" y="253"/>
                  </a:lnTo>
                  <a:lnTo>
                    <a:pt x="0" y="104"/>
                  </a:lnTo>
                  <a:lnTo>
                    <a:pt x="3" y="95"/>
                  </a:lnTo>
                  <a:lnTo>
                    <a:pt x="8" y="86"/>
                  </a:lnTo>
                  <a:lnTo>
                    <a:pt x="15" y="77"/>
                  </a:lnTo>
                  <a:lnTo>
                    <a:pt x="25" y="68"/>
                  </a:lnTo>
                  <a:lnTo>
                    <a:pt x="35" y="58"/>
                  </a:lnTo>
                  <a:lnTo>
                    <a:pt x="45" y="49"/>
                  </a:lnTo>
                  <a:lnTo>
                    <a:pt x="58" y="41"/>
                  </a:lnTo>
                  <a:lnTo>
                    <a:pt x="70" y="33"/>
                  </a:lnTo>
                  <a:lnTo>
                    <a:pt x="83" y="25"/>
                  </a:lnTo>
                  <a:lnTo>
                    <a:pt x="95" y="18"/>
                  </a:lnTo>
                  <a:lnTo>
                    <a:pt x="107" y="13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92600">
              <a:off x="7956000" y="2925360"/>
              <a:ext cx="207720" cy="61560"/>
            </a:xfrm>
            <a:custGeom>
              <a:avLst/>
              <a:gdLst/>
              <a:ahLst/>
              <a:rect l="l" t="t" r="r" b="b"/>
              <a:pathLst>
                <a:path w="1445" h="395">
                  <a:moveTo>
                    <a:pt x="1434" y="395"/>
                  </a:moveTo>
                  <a:lnTo>
                    <a:pt x="1383" y="381"/>
                  </a:lnTo>
                  <a:lnTo>
                    <a:pt x="1330" y="367"/>
                  </a:lnTo>
                  <a:lnTo>
                    <a:pt x="1276" y="355"/>
                  </a:lnTo>
                  <a:lnTo>
                    <a:pt x="1220" y="341"/>
                  </a:lnTo>
                  <a:lnTo>
                    <a:pt x="1164" y="330"/>
                  </a:lnTo>
                  <a:lnTo>
                    <a:pt x="1108" y="318"/>
                  </a:lnTo>
                  <a:lnTo>
                    <a:pt x="1052" y="308"/>
                  </a:lnTo>
                  <a:lnTo>
                    <a:pt x="998" y="299"/>
                  </a:lnTo>
                  <a:lnTo>
                    <a:pt x="944" y="290"/>
                  </a:lnTo>
                  <a:lnTo>
                    <a:pt x="892" y="283"/>
                  </a:lnTo>
                  <a:lnTo>
                    <a:pt x="842" y="277"/>
                  </a:lnTo>
                  <a:lnTo>
                    <a:pt x="794" y="273"/>
                  </a:lnTo>
                  <a:lnTo>
                    <a:pt x="750" y="269"/>
                  </a:lnTo>
                  <a:lnTo>
                    <a:pt x="708" y="267"/>
                  </a:lnTo>
                  <a:lnTo>
                    <a:pt x="672" y="267"/>
                  </a:lnTo>
                  <a:lnTo>
                    <a:pt x="639" y="268"/>
                  </a:lnTo>
                  <a:lnTo>
                    <a:pt x="634" y="216"/>
                  </a:lnTo>
                  <a:lnTo>
                    <a:pt x="597" y="215"/>
                  </a:lnTo>
                  <a:lnTo>
                    <a:pt x="559" y="212"/>
                  </a:lnTo>
                  <a:lnTo>
                    <a:pt x="521" y="207"/>
                  </a:lnTo>
                  <a:lnTo>
                    <a:pt x="480" y="201"/>
                  </a:lnTo>
                  <a:lnTo>
                    <a:pt x="440" y="195"/>
                  </a:lnTo>
                  <a:lnTo>
                    <a:pt x="398" y="187"/>
                  </a:lnTo>
                  <a:lnTo>
                    <a:pt x="357" y="180"/>
                  </a:lnTo>
                  <a:lnTo>
                    <a:pt x="315" y="170"/>
                  </a:lnTo>
                  <a:lnTo>
                    <a:pt x="232" y="151"/>
                  </a:lnTo>
                  <a:lnTo>
                    <a:pt x="150" y="131"/>
                  </a:lnTo>
                  <a:lnTo>
                    <a:pt x="73" y="110"/>
                  </a:lnTo>
                  <a:lnTo>
                    <a:pt x="0" y="89"/>
                  </a:lnTo>
                  <a:lnTo>
                    <a:pt x="45" y="64"/>
                  </a:lnTo>
                  <a:lnTo>
                    <a:pt x="94" y="44"/>
                  </a:lnTo>
                  <a:lnTo>
                    <a:pt x="146" y="27"/>
                  </a:lnTo>
                  <a:lnTo>
                    <a:pt x="199" y="15"/>
                  </a:lnTo>
                  <a:lnTo>
                    <a:pt x="256" y="6"/>
                  </a:lnTo>
                  <a:lnTo>
                    <a:pt x="316" y="1"/>
                  </a:lnTo>
                  <a:lnTo>
                    <a:pt x="376" y="0"/>
                  </a:lnTo>
                  <a:lnTo>
                    <a:pt x="438" y="2"/>
                  </a:lnTo>
                  <a:lnTo>
                    <a:pt x="501" y="6"/>
                  </a:lnTo>
                  <a:lnTo>
                    <a:pt x="564" y="14"/>
                  </a:lnTo>
                  <a:lnTo>
                    <a:pt x="629" y="24"/>
                  </a:lnTo>
                  <a:lnTo>
                    <a:pt x="693" y="35"/>
                  </a:lnTo>
                  <a:lnTo>
                    <a:pt x="756" y="50"/>
                  </a:lnTo>
                  <a:lnTo>
                    <a:pt x="819" y="65"/>
                  </a:lnTo>
                  <a:lnTo>
                    <a:pt x="881" y="83"/>
                  </a:lnTo>
                  <a:lnTo>
                    <a:pt x="942" y="102"/>
                  </a:lnTo>
                  <a:lnTo>
                    <a:pt x="1001" y="121"/>
                  </a:lnTo>
                  <a:lnTo>
                    <a:pt x="1057" y="142"/>
                  </a:lnTo>
                  <a:lnTo>
                    <a:pt x="1112" y="164"/>
                  </a:lnTo>
                  <a:lnTo>
                    <a:pt x="1162" y="186"/>
                  </a:lnTo>
                  <a:lnTo>
                    <a:pt x="1211" y="208"/>
                  </a:lnTo>
                  <a:lnTo>
                    <a:pt x="1256" y="229"/>
                  </a:lnTo>
                  <a:lnTo>
                    <a:pt x="1296" y="251"/>
                  </a:lnTo>
                  <a:lnTo>
                    <a:pt x="1333" y="272"/>
                  </a:lnTo>
                  <a:lnTo>
                    <a:pt x="1366" y="293"/>
                  </a:lnTo>
                  <a:lnTo>
                    <a:pt x="1392" y="311"/>
                  </a:lnTo>
                  <a:lnTo>
                    <a:pt x="1414" y="330"/>
                  </a:lnTo>
                  <a:lnTo>
                    <a:pt x="1431" y="346"/>
                  </a:lnTo>
                  <a:lnTo>
                    <a:pt x="1441" y="362"/>
                  </a:lnTo>
                  <a:lnTo>
                    <a:pt x="1445" y="374"/>
                  </a:lnTo>
                  <a:lnTo>
                    <a:pt x="1443" y="386"/>
                  </a:lnTo>
                  <a:lnTo>
                    <a:pt x="1434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92600">
              <a:off x="7943400" y="2985480"/>
              <a:ext cx="75600" cy="33120"/>
            </a:xfrm>
            <a:custGeom>
              <a:avLst/>
              <a:gdLst/>
              <a:ahLst/>
              <a:rect l="l" t="t" r="r" b="b"/>
              <a:pathLst>
                <a:path w="529" h="204">
                  <a:moveTo>
                    <a:pt x="6" y="4"/>
                  </a:moveTo>
                  <a:lnTo>
                    <a:pt x="33" y="1"/>
                  </a:lnTo>
                  <a:lnTo>
                    <a:pt x="61" y="0"/>
                  </a:lnTo>
                  <a:lnTo>
                    <a:pt x="90" y="1"/>
                  </a:lnTo>
                  <a:lnTo>
                    <a:pt x="120" y="3"/>
                  </a:lnTo>
                  <a:lnTo>
                    <a:pt x="151" y="7"/>
                  </a:lnTo>
                  <a:lnTo>
                    <a:pt x="181" y="12"/>
                  </a:lnTo>
                  <a:lnTo>
                    <a:pt x="212" y="18"/>
                  </a:lnTo>
                  <a:lnTo>
                    <a:pt x="243" y="26"/>
                  </a:lnTo>
                  <a:lnTo>
                    <a:pt x="274" y="34"/>
                  </a:lnTo>
                  <a:lnTo>
                    <a:pt x="304" y="43"/>
                  </a:lnTo>
                  <a:lnTo>
                    <a:pt x="333" y="54"/>
                  </a:lnTo>
                  <a:lnTo>
                    <a:pt x="361" y="64"/>
                  </a:lnTo>
                  <a:lnTo>
                    <a:pt x="388" y="75"/>
                  </a:lnTo>
                  <a:lnTo>
                    <a:pt x="413" y="87"/>
                  </a:lnTo>
                  <a:lnTo>
                    <a:pt x="437" y="98"/>
                  </a:lnTo>
                  <a:lnTo>
                    <a:pt x="458" y="110"/>
                  </a:lnTo>
                  <a:lnTo>
                    <a:pt x="477" y="121"/>
                  </a:lnTo>
                  <a:lnTo>
                    <a:pt x="494" y="131"/>
                  </a:lnTo>
                  <a:lnTo>
                    <a:pt x="507" y="143"/>
                  </a:lnTo>
                  <a:lnTo>
                    <a:pt x="518" y="153"/>
                  </a:lnTo>
                  <a:lnTo>
                    <a:pt x="525" y="163"/>
                  </a:lnTo>
                  <a:lnTo>
                    <a:pt x="529" y="172"/>
                  </a:lnTo>
                  <a:lnTo>
                    <a:pt x="529" y="180"/>
                  </a:lnTo>
                  <a:lnTo>
                    <a:pt x="526" y="187"/>
                  </a:lnTo>
                  <a:lnTo>
                    <a:pt x="518" y="194"/>
                  </a:lnTo>
                  <a:lnTo>
                    <a:pt x="505" y="198"/>
                  </a:lnTo>
                  <a:lnTo>
                    <a:pt x="488" y="202"/>
                  </a:lnTo>
                  <a:lnTo>
                    <a:pt x="466" y="204"/>
                  </a:lnTo>
                  <a:lnTo>
                    <a:pt x="439" y="204"/>
                  </a:lnTo>
                  <a:lnTo>
                    <a:pt x="406" y="202"/>
                  </a:lnTo>
                  <a:lnTo>
                    <a:pt x="367" y="199"/>
                  </a:lnTo>
                  <a:lnTo>
                    <a:pt x="323" y="194"/>
                  </a:lnTo>
                  <a:lnTo>
                    <a:pt x="307" y="191"/>
                  </a:lnTo>
                  <a:lnTo>
                    <a:pt x="288" y="185"/>
                  </a:lnTo>
                  <a:lnTo>
                    <a:pt x="264" y="179"/>
                  </a:lnTo>
                  <a:lnTo>
                    <a:pt x="237" y="171"/>
                  </a:lnTo>
                  <a:lnTo>
                    <a:pt x="208" y="160"/>
                  </a:lnTo>
                  <a:lnTo>
                    <a:pt x="179" y="150"/>
                  </a:lnTo>
                  <a:lnTo>
                    <a:pt x="149" y="138"/>
                  </a:lnTo>
                  <a:lnTo>
                    <a:pt x="119" y="124"/>
                  </a:lnTo>
                  <a:lnTo>
                    <a:pt x="91" y="111"/>
                  </a:lnTo>
                  <a:lnTo>
                    <a:pt x="65" y="96"/>
                  </a:lnTo>
                  <a:lnTo>
                    <a:pt x="53" y="89"/>
                  </a:lnTo>
                  <a:lnTo>
                    <a:pt x="43" y="81"/>
                  </a:lnTo>
                  <a:lnTo>
                    <a:pt x="33" y="73"/>
                  </a:lnTo>
                  <a:lnTo>
                    <a:pt x="24" y="65"/>
                  </a:lnTo>
                  <a:lnTo>
                    <a:pt x="16" y="58"/>
                  </a:lnTo>
                  <a:lnTo>
                    <a:pt x="10" y="50"/>
                  </a:lnTo>
                  <a:lnTo>
                    <a:pt x="6" y="42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92600">
              <a:off x="7919640" y="3044520"/>
              <a:ext cx="77400" cy="36360"/>
            </a:xfrm>
            <a:custGeom>
              <a:avLst/>
              <a:gdLst/>
              <a:ahLst/>
              <a:rect l="l" t="t" r="r" b="b"/>
              <a:pathLst>
                <a:path w="528" h="229">
                  <a:moveTo>
                    <a:pt x="10" y="0"/>
                  </a:moveTo>
                  <a:lnTo>
                    <a:pt x="41" y="10"/>
                  </a:lnTo>
                  <a:lnTo>
                    <a:pt x="73" y="17"/>
                  </a:lnTo>
                  <a:lnTo>
                    <a:pt x="106" y="23"/>
                  </a:lnTo>
                  <a:lnTo>
                    <a:pt x="140" y="28"/>
                  </a:lnTo>
                  <a:lnTo>
                    <a:pt x="176" y="34"/>
                  </a:lnTo>
                  <a:lnTo>
                    <a:pt x="211" y="39"/>
                  </a:lnTo>
                  <a:lnTo>
                    <a:pt x="246" y="45"/>
                  </a:lnTo>
                  <a:lnTo>
                    <a:pt x="281" y="52"/>
                  </a:lnTo>
                  <a:lnTo>
                    <a:pt x="299" y="56"/>
                  </a:lnTo>
                  <a:lnTo>
                    <a:pt x="316" y="61"/>
                  </a:lnTo>
                  <a:lnTo>
                    <a:pt x="333" y="66"/>
                  </a:lnTo>
                  <a:lnTo>
                    <a:pt x="351" y="71"/>
                  </a:lnTo>
                  <a:lnTo>
                    <a:pt x="367" y="77"/>
                  </a:lnTo>
                  <a:lnTo>
                    <a:pt x="384" y="84"/>
                  </a:lnTo>
                  <a:lnTo>
                    <a:pt x="400" y="92"/>
                  </a:lnTo>
                  <a:lnTo>
                    <a:pt x="416" y="100"/>
                  </a:lnTo>
                  <a:lnTo>
                    <a:pt x="432" y="109"/>
                  </a:lnTo>
                  <a:lnTo>
                    <a:pt x="447" y="120"/>
                  </a:lnTo>
                  <a:lnTo>
                    <a:pt x="462" y="131"/>
                  </a:lnTo>
                  <a:lnTo>
                    <a:pt x="476" y="142"/>
                  </a:lnTo>
                  <a:lnTo>
                    <a:pt x="490" y="156"/>
                  </a:lnTo>
                  <a:lnTo>
                    <a:pt x="503" y="170"/>
                  </a:lnTo>
                  <a:lnTo>
                    <a:pt x="515" y="186"/>
                  </a:lnTo>
                  <a:lnTo>
                    <a:pt x="528" y="203"/>
                  </a:lnTo>
                  <a:lnTo>
                    <a:pt x="516" y="208"/>
                  </a:lnTo>
                  <a:lnTo>
                    <a:pt x="505" y="213"/>
                  </a:lnTo>
                  <a:lnTo>
                    <a:pt x="495" y="217"/>
                  </a:lnTo>
                  <a:lnTo>
                    <a:pt x="484" y="220"/>
                  </a:lnTo>
                  <a:lnTo>
                    <a:pt x="474" y="223"/>
                  </a:lnTo>
                  <a:lnTo>
                    <a:pt x="464" y="225"/>
                  </a:lnTo>
                  <a:lnTo>
                    <a:pt x="453" y="226"/>
                  </a:lnTo>
                  <a:lnTo>
                    <a:pt x="444" y="227"/>
                  </a:lnTo>
                  <a:lnTo>
                    <a:pt x="424" y="229"/>
                  </a:lnTo>
                  <a:lnTo>
                    <a:pt x="406" y="226"/>
                  </a:lnTo>
                  <a:lnTo>
                    <a:pt x="388" y="224"/>
                  </a:lnTo>
                  <a:lnTo>
                    <a:pt x="370" y="219"/>
                  </a:lnTo>
                  <a:lnTo>
                    <a:pt x="353" y="214"/>
                  </a:lnTo>
                  <a:lnTo>
                    <a:pt x="335" y="208"/>
                  </a:lnTo>
                  <a:lnTo>
                    <a:pt x="319" y="202"/>
                  </a:lnTo>
                  <a:lnTo>
                    <a:pt x="302" y="194"/>
                  </a:lnTo>
                  <a:lnTo>
                    <a:pt x="268" y="180"/>
                  </a:lnTo>
                  <a:lnTo>
                    <a:pt x="234" y="167"/>
                  </a:lnTo>
                  <a:lnTo>
                    <a:pt x="199" y="208"/>
                  </a:lnTo>
                  <a:lnTo>
                    <a:pt x="188" y="204"/>
                  </a:lnTo>
                  <a:lnTo>
                    <a:pt x="174" y="197"/>
                  </a:lnTo>
                  <a:lnTo>
                    <a:pt x="158" y="190"/>
                  </a:lnTo>
                  <a:lnTo>
                    <a:pt x="140" y="181"/>
                  </a:lnTo>
                  <a:lnTo>
                    <a:pt x="122" y="169"/>
                  </a:lnTo>
                  <a:lnTo>
                    <a:pt x="103" y="158"/>
                  </a:lnTo>
                  <a:lnTo>
                    <a:pt x="84" y="145"/>
                  </a:lnTo>
                  <a:lnTo>
                    <a:pt x="66" y="130"/>
                  </a:lnTo>
                  <a:lnTo>
                    <a:pt x="48" y="115"/>
                  </a:lnTo>
                  <a:lnTo>
                    <a:pt x="34" y="100"/>
                  </a:lnTo>
                  <a:lnTo>
                    <a:pt x="26" y="92"/>
                  </a:lnTo>
                  <a:lnTo>
                    <a:pt x="20" y="83"/>
                  </a:lnTo>
                  <a:lnTo>
                    <a:pt x="15" y="75"/>
                  </a:lnTo>
                  <a:lnTo>
                    <a:pt x="10" y="67"/>
                  </a:lnTo>
                  <a:lnTo>
                    <a:pt x="7" y="58"/>
                  </a:lnTo>
                  <a:lnTo>
                    <a:pt x="3" y="50"/>
                  </a:lnTo>
                  <a:lnTo>
                    <a:pt x="1" y="42"/>
                  </a:lnTo>
                  <a:lnTo>
                    <a:pt x="0" y="34"/>
                  </a:lnTo>
                  <a:lnTo>
                    <a:pt x="1" y="25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92600">
              <a:off x="7895520" y="3106440"/>
              <a:ext cx="90360" cy="31680"/>
            </a:xfrm>
            <a:custGeom>
              <a:avLst/>
              <a:gdLst/>
              <a:ahLst/>
              <a:rect l="l" t="t" r="r" b="b"/>
              <a:pathLst>
                <a:path w="616" h="200">
                  <a:moveTo>
                    <a:pt x="92" y="1"/>
                  </a:moveTo>
                  <a:lnTo>
                    <a:pt x="119" y="8"/>
                  </a:lnTo>
                  <a:lnTo>
                    <a:pt x="148" y="14"/>
                  </a:lnTo>
                  <a:lnTo>
                    <a:pt x="178" y="21"/>
                  </a:lnTo>
                  <a:lnTo>
                    <a:pt x="209" y="27"/>
                  </a:lnTo>
                  <a:lnTo>
                    <a:pt x="274" y="37"/>
                  </a:lnTo>
                  <a:lnTo>
                    <a:pt x="344" y="48"/>
                  </a:lnTo>
                  <a:lnTo>
                    <a:pt x="413" y="58"/>
                  </a:lnTo>
                  <a:lnTo>
                    <a:pt x="484" y="69"/>
                  </a:lnTo>
                  <a:lnTo>
                    <a:pt x="518" y="76"/>
                  </a:lnTo>
                  <a:lnTo>
                    <a:pt x="551" y="83"/>
                  </a:lnTo>
                  <a:lnTo>
                    <a:pt x="584" y="90"/>
                  </a:lnTo>
                  <a:lnTo>
                    <a:pt x="616" y="98"/>
                  </a:lnTo>
                  <a:lnTo>
                    <a:pt x="609" y="119"/>
                  </a:lnTo>
                  <a:lnTo>
                    <a:pt x="599" y="137"/>
                  </a:lnTo>
                  <a:lnTo>
                    <a:pt x="587" y="151"/>
                  </a:lnTo>
                  <a:lnTo>
                    <a:pt x="574" y="165"/>
                  </a:lnTo>
                  <a:lnTo>
                    <a:pt x="558" y="175"/>
                  </a:lnTo>
                  <a:lnTo>
                    <a:pt x="541" y="183"/>
                  </a:lnTo>
                  <a:lnTo>
                    <a:pt x="523" y="191"/>
                  </a:lnTo>
                  <a:lnTo>
                    <a:pt x="503" y="195"/>
                  </a:lnTo>
                  <a:lnTo>
                    <a:pt x="482" y="198"/>
                  </a:lnTo>
                  <a:lnTo>
                    <a:pt x="460" y="200"/>
                  </a:lnTo>
                  <a:lnTo>
                    <a:pt x="437" y="200"/>
                  </a:lnTo>
                  <a:lnTo>
                    <a:pt x="413" y="198"/>
                  </a:lnTo>
                  <a:lnTo>
                    <a:pt x="389" y="196"/>
                  </a:lnTo>
                  <a:lnTo>
                    <a:pt x="364" y="192"/>
                  </a:lnTo>
                  <a:lnTo>
                    <a:pt x="340" y="187"/>
                  </a:lnTo>
                  <a:lnTo>
                    <a:pt x="315" y="181"/>
                  </a:lnTo>
                  <a:lnTo>
                    <a:pt x="289" y="175"/>
                  </a:lnTo>
                  <a:lnTo>
                    <a:pt x="264" y="168"/>
                  </a:lnTo>
                  <a:lnTo>
                    <a:pt x="239" y="161"/>
                  </a:lnTo>
                  <a:lnTo>
                    <a:pt x="215" y="152"/>
                  </a:lnTo>
                  <a:lnTo>
                    <a:pt x="168" y="136"/>
                  </a:lnTo>
                  <a:lnTo>
                    <a:pt x="123" y="119"/>
                  </a:lnTo>
                  <a:lnTo>
                    <a:pt x="48" y="89"/>
                  </a:lnTo>
                  <a:lnTo>
                    <a:pt x="0" y="69"/>
                  </a:lnTo>
                  <a:lnTo>
                    <a:pt x="13" y="55"/>
                  </a:lnTo>
                  <a:lnTo>
                    <a:pt x="26" y="41"/>
                  </a:lnTo>
                  <a:lnTo>
                    <a:pt x="38" y="29"/>
                  </a:lnTo>
                  <a:lnTo>
                    <a:pt x="50" y="18"/>
                  </a:lnTo>
                  <a:lnTo>
                    <a:pt x="62" y="9"/>
                  </a:lnTo>
                  <a:lnTo>
                    <a:pt x="73" y="3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92600">
              <a:off x="7875360" y="3164760"/>
              <a:ext cx="82080" cy="39600"/>
            </a:xfrm>
            <a:custGeom>
              <a:avLst/>
              <a:gdLst/>
              <a:ahLst/>
              <a:rect l="l" t="t" r="r" b="b"/>
              <a:pathLst>
                <a:path w="570" h="248">
                  <a:moveTo>
                    <a:pt x="52" y="0"/>
                  </a:moveTo>
                  <a:lnTo>
                    <a:pt x="148" y="28"/>
                  </a:lnTo>
                  <a:lnTo>
                    <a:pt x="227" y="51"/>
                  </a:lnTo>
                  <a:lnTo>
                    <a:pt x="292" y="70"/>
                  </a:lnTo>
                  <a:lnTo>
                    <a:pt x="345" y="84"/>
                  </a:lnTo>
                  <a:lnTo>
                    <a:pt x="386" y="97"/>
                  </a:lnTo>
                  <a:lnTo>
                    <a:pt x="418" y="107"/>
                  </a:lnTo>
                  <a:lnTo>
                    <a:pt x="442" y="117"/>
                  </a:lnTo>
                  <a:lnTo>
                    <a:pt x="461" y="125"/>
                  </a:lnTo>
                  <a:lnTo>
                    <a:pt x="468" y="129"/>
                  </a:lnTo>
                  <a:lnTo>
                    <a:pt x="474" y="133"/>
                  </a:lnTo>
                  <a:lnTo>
                    <a:pt x="479" y="137"/>
                  </a:lnTo>
                  <a:lnTo>
                    <a:pt x="484" y="141"/>
                  </a:lnTo>
                  <a:lnTo>
                    <a:pt x="493" y="152"/>
                  </a:lnTo>
                  <a:lnTo>
                    <a:pt x="502" y="164"/>
                  </a:lnTo>
                  <a:lnTo>
                    <a:pt x="512" y="180"/>
                  </a:lnTo>
                  <a:lnTo>
                    <a:pt x="526" y="199"/>
                  </a:lnTo>
                  <a:lnTo>
                    <a:pt x="546" y="221"/>
                  </a:lnTo>
                  <a:lnTo>
                    <a:pt x="570" y="248"/>
                  </a:lnTo>
                  <a:lnTo>
                    <a:pt x="0" y="8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92600">
              <a:off x="7809840" y="3323520"/>
              <a:ext cx="95040" cy="36360"/>
            </a:xfrm>
            <a:custGeom>
              <a:avLst/>
              <a:gdLst/>
              <a:ahLst/>
              <a:rect l="l" t="t" r="r" b="b"/>
              <a:pathLst>
                <a:path w="663" h="237">
                  <a:moveTo>
                    <a:pt x="1" y="46"/>
                  </a:moveTo>
                  <a:lnTo>
                    <a:pt x="9" y="48"/>
                  </a:lnTo>
                  <a:lnTo>
                    <a:pt x="19" y="47"/>
                  </a:lnTo>
                  <a:lnTo>
                    <a:pt x="29" y="45"/>
                  </a:lnTo>
                  <a:lnTo>
                    <a:pt x="40" y="43"/>
                  </a:lnTo>
                  <a:lnTo>
                    <a:pt x="65" y="34"/>
                  </a:lnTo>
                  <a:lnTo>
                    <a:pt x="90" y="23"/>
                  </a:lnTo>
                  <a:lnTo>
                    <a:pt x="116" y="13"/>
                  </a:lnTo>
                  <a:lnTo>
                    <a:pt x="141" y="5"/>
                  </a:lnTo>
                  <a:lnTo>
                    <a:pt x="152" y="2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1"/>
                  </a:lnTo>
                  <a:lnTo>
                    <a:pt x="192" y="52"/>
                  </a:lnTo>
                  <a:lnTo>
                    <a:pt x="238" y="66"/>
                  </a:lnTo>
                  <a:lnTo>
                    <a:pt x="282" y="78"/>
                  </a:lnTo>
                  <a:lnTo>
                    <a:pt x="321" y="88"/>
                  </a:lnTo>
                  <a:lnTo>
                    <a:pt x="356" y="97"/>
                  </a:lnTo>
                  <a:lnTo>
                    <a:pt x="418" y="110"/>
                  </a:lnTo>
                  <a:lnTo>
                    <a:pt x="465" y="119"/>
                  </a:lnTo>
                  <a:lnTo>
                    <a:pt x="502" y="125"/>
                  </a:lnTo>
                  <a:lnTo>
                    <a:pt x="530" y="127"/>
                  </a:lnTo>
                  <a:lnTo>
                    <a:pt x="549" y="129"/>
                  </a:lnTo>
                  <a:lnTo>
                    <a:pt x="564" y="129"/>
                  </a:lnTo>
                  <a:lnTo>
                    <a:pt x="573" y="130"/>
                  </a:lnTo>
                  <a:lnTo>
                    <a:pt x="580" y="133"/>
                  </a:lnTo>
                  <a:lnTo>
                    <a:pt x="587" y="138"/>
                  </a:lnTo>
                  <a:lnTo>
                    <a:pt x="594" y="147"/>
                  </a:lnTo>
                  <a:lnTo>
                    <a:pt x="603" y="160"/>
                  </a:lnTo>
                  <a:lnTo>
                    <a:pt x="617" y="179"/>
                  </a:lnTo>
                  <a:lnTo>
                    <a:pt x="636" y="204"/>
                  </a:lnTo>
                  <a:lnTo>
                    <a:pt x="663" y="237"/>
                  </a:lnTo>
                  <a:lnTo>
                    <a:pt x="645" y="233"/>
                  </a:lnTo>
                  <a:lnTo>
                    <a:pt x="613" y="229"/>
                  </a:lnTo>
                  <a:lnTo>
                    <a:pt x="573" y="225"/>
                  </a:lnTo>
                  <a:lnTo>
                    <a:pt x="525" y="219"/>
                  </a:lnTo>
                  <a:lnTo>
                    <a:pt x="471" y="213"/>
                  </a:lnTo>
                  <a:lnTo>
                    <a:pt x="412" y="206"/>
                  </a:lnTo>
                  <a:lnTo>
                    <a:pt x="352" y="197"/>
                  </a:lnTo>
                  <a:lnTo>
                    <a:pt x="291" y="187"/>
                  </a:lnTo>
                  <a:lnTo>
                    <a:pt x="261" y="182"/>
                  </a:lnTo>
                  <a:lnTo>
                    <a:pt x="231" y="176"/>
                  </a:lnTo>
                  <a:lnTo>
                    <a:pt x="203" y="170"/>
                  </a:lnTo>
                  <a:lnTo>
                    <a:pt x="175" y="163"/>
                  </a:lnTo>
                  <a:lnTo>
                    <a:pt x="148" y="156"/>
                  </a:lnTo>
                  <a:lnTo>
                    <a:pt x="123" y="149"/>
                  </a:lnTo>
                  <a:lnTo>
                    <a:pt x="99" y="141"/>
                  </a:lnTo>
                  <a:lnTo>
                    <a:pt x="78" y="132"/>
                  </a:lnTo>
                  <a:lnTo>
                    <a:pt x="59" y="123"/>
                  </a:lnTo>
                  <a:lnTo>
                    <a:pt x="41" y="114"/>
                  </a:lnTo>
                  <a:lnTo>
                    <a:pt x="27" y="104"/>
                  </a:lnTo>
                  <a:lnTo>
                    <a:pt x="15" y="94"/>
                  </a:lnTo>
                  <a:lnTo>
                    <a:pt x="7" y="82"/>
                  </a:lnTo>
                  <a:lnTo>
                    <a:pt x="1" y="71"/>
                  </a:lnTo>
                  <a:lnTo>
                    <a:pt x="0" y="60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92600">
              <a:off x="7798680" y="3384000"/>
              <a:ext cx="72720" cy="31320"/>
            </a:xfrm>
            <a:custGeom>
              <a:avLst/>
              <a:gdLst/>
              <a:ahLst/>
              <a:rect l="l" t="t" r="r" b="b"/>
              <a:pathLst>
                <a:path w="505" h="190">
                  <a:moveTo>
                    <a:pt x="7" y="0"/>
                  </a:moveTo>
                  <a:lnTo>
                    <a:pt x="31" y="6"/>
                  </a:lnTo>
                  <a:lnTo>
                    <a:pt x="57" y="11"/>
                  </a:lnTo>
                  <a:lnTo>
                    <a:pt x="84" y="15"/>
                  </a:lnTo>
                  <a:lnTo>
                    <a:pt x="112" y="19"/>
                  </a:lnTo>
                  <a:lnTo>
                    <a:pt x="141" y="21"/>
                  </a:lnTo>
                  <a:lnTo>
                    <a:pt x="170" y="23"/>
                  </a:lnTo>
                  <a:lnTo>
                    <a:pt x="200" y="24"/>
                  </a:lnTo>
                  <a:lnTo>
                    <a:pt x="229" y="25"/>
                  </a:lnTo>
                  <a:lnTo>
                    <a:pt x="287" y="25"/>
                  </a:lnTo>
                  <a:lnTo>
                    <a:pt x="342" y="25"/>
                  </a:lnTo>
                  <a:lnTo>
                    <a:pt x="393" y="25"/>
                  </a:lnTo>
                  <a:lnTo>
                    <a:pt x="437" y="26"/>
                  </a:lnTo>
                  <a:lnTo>
                    <a:pt x="454" y="27"/>
                  </a:lnTo>
                  <a:lnTo>
                    <a:pt x="471" y="29"/>
                  </a:lnTo>
                  <a:lnTo>
                    <a:pt x="484" y="32"/>
                  </a:lnTo>
                  <a:lnTo>
                    <a:pt x="494" y="35"/>
                  </a:lnTo>
                  <a:lnTo>
                    <a:pt x="501" y="40"/>
                  </a:lnTo>
                  <a:lnTo>
                    <a:pt x="505" y="46"/>
                  </a:lnTo>
                  <a:lnTo>
                    <a:pt x="505" y="53"/>
                  </a:lnTo>
                  <a:lnTo>
                    <a:pt x="501" y="61"/>
                  </a:lnTo>
                  <a:lnTo>
                    <a:pt x="494" y="71"/>
                  </a:lnTo>
                  <a:lnTo>
                    <a:pt x="481" y="83"/>
                  </a:lnTo>
                  <a:lnTo>
                    <a:pt x="464" y="95"/>
                  </a:lnTo>
                  <a:lnTo>
                    <a:pt x="442" y="110"/>
                  </a:lnTo>
                  <a:lnTo>
                    <a:pt x="415" y="127"/>
                  </a:lnTo>
                  <a:lnTo>
                    <a:pt x="382" y="146"/>
                  </a:lnTo>
                  <a:lnTo>
                    <a:pt x="344" y="167"/>
                  </a:lnTo>
                  <a:lnTo>
                    <a:pt x="300" y="190"/>
                  </a:lnTo>
                  <a:lnTo>
                    <a:pt x="278" y="183"/>
                  </a:lnTo>
                  <a:lnTo>
                    <a:pt x="237" y="174"/>
                  </a:lnTo>
                  <a:lnTo>
                    <a:pt x="211" y="167"/>
                  </a:lnTo>
                  <a:lnTo>
                    <a:pt x="182" y="160"/>
                  </a:lnTo>
                  <a:lnTo>
                    <a:pt x="153" y="150"/>
                  </a:lnTo>
                  <a:lnTo>
                    <a:pt x="123" y="140"/>
                  </a:lnTo>
                  <a:lnTo>
                    <a:pt x="109" y="135"/>
                  </a:lnTo>
                  <a:lnTo>
                    <a:pt x="95" y="128"/>
                  </a:lnTo>
                  <a:lnTo>
                    <a:pt x="81" y="122"/>
                  </a:lnTo>
                  <a:lnTo>
                    <a:pt x="68" y="115"/>
                  </a:lnTo>
                  <a:lnTo>
                    <a:pt x="56" y="108"/>
                  </a:lnTo>
                  <a:lnTo>
                    <a:pt x="45" y="100"/>
                  </a:lnTo>
                  <a:lnTo>
                    <a:pt x="35" y="92"/>
                  </a:lnTo>
                  <a:lnTo>
                    <a:pt x="25" y="84"/>
                  </a:lnTo>
                  <a:lnTo>
                    <a:pt x="17" y="75"/>
                  </a:lnTo>
                  <a:lnTo>
                    <a:pt x="11" y="65"/>
                  </a:lnTo>
                  <a:lnTo>
                    <a:pt x="5" y="56"/>
                  </a:lnTo>
                  <a:lnTo>
                    <a:pt x="1" y="46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92600">
              <a:off x="7779960" y="3443040"/>
              <a:ext cx="80280" cy="363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107" y="1"/>
                  </a:moveTo>
                  <a:lnTo>
                    <a:pt x="191" y="24"/>
                  </a:lnTo>
                  <a:lnTo>
                    <a:pt x="260" y="43"/>
                  </a:lnTo>
                  <a:lnTo>
                    <a:pt x="316" y="58"/>
                  </a:lnTo>
                  <a:lnTo>
                    <a:pt x="362" y="70"/>
                  </a:lnTo>
                  <a:lnTo>
                    <a:pt x="396" y="79"/>
                  </a:lnTo>
                  <a:lnTo>
                    <a:pt x="423" y="86"/>
                  </a:lnTo>
                  <a:lnTo>
                    <a:pt x="443" y="92"/>
                  </a:lnTo>
                  <a:lnTo>
                    <a:pt x="457" y="99"/>
                  </a:lnTo>
                  <a:lnTo>
                    <a:pt x="462" y="102"/>
                  </a:lnTo>
                  <a:lnTo>
                    <a:pt x="468" y="105"/>
                  </a:lnTo>
                  <a:lnTo>
                    <a:pt x="472" y="109"/>
                  </a:lnTo>
                  <a:lnTo>
                    <a:pt x="476" y="113"/>
                  </a:lnTo>
                  <a:lnTo>
                    <a:pt x="483" y="123"/>
                  </a:lnTo>
                  <a:lnTo>
                    <a:pt x="492" y="135"/>
                  </a:lnTo>
                  <a:lnTo>
                    <a:pt x="502" y="151"/>
                  </a:lnTo>
                  <a:lnTo>
                    <a:pt x="515" y="170"/>
                  </a:lnTo>
                  <a:lnTo>
                    <a:pt x="535" y="195"/>
                  </a:lnTo>
                  <a:lnTo>
                    <a:pt x="562" y="226"/>
                  </a:lnTo>
                  <a:lnTo>
                    <a:pt x="543" y="223"/>
                  </a:lnTo>
                  <a:lnTo>
                    <a:pt x="515" y="219"/>
                  </a:lnTo>
                  <a:lnTo>
                    <a:pt x="480" y="216"/>
                  </a:lnTo>
                  <a:lnTo>
                    <a:pt x="438" y="212"/>
                  </a:lnTo>
                  <a:lnTo>
                    <a:pt x="391" y="208"/>
                  </a:lnTo>
                  <a:lnTo>
                    <a:pt x="341" y="201"/>
                  </a:lnTo>
                  <a:lnTo>
                    <a:pt x="288" y="194"/>
                  </a:lnTo>
                  <a:lnTo>
                    <a:pt x="237" y="185"/>
                  </a:lnTo>
                  <a:lnTo>
                    <a:pt x="212" y="180"/>
                  </a:lnTo>
                  <a:lnTo>
                    <a:pt x="187" y="173"/>
                  </a:lnTo>
                  <a:lnTo>
                    <a:pt x="162" y="167"/>
                  </a:lnTo>
                  <a:lnTo>
                    <a:pt x="139" y="161"/>
                  </a:lnTo>
                  <a:lnTo>
                    <a:pt x="116" y="153"/>
                  </a:lnTo>
                  <a:lnTo>
                    <a:pt x="96" y="144"/>
                  </a:lnTo>
                  <a:lnTo>
                    <a:pt x="76" y="136"/>
                  </a:lnTo>
                  <a:lnTo>
                    <a:pt x="58" y="126"/>
                  </a:lnTo>
                  <a:lnTo>
                    <a:pt x="43" y="115"/>
                  </a:lnTo>
                  <a:lnTo>
                    <a:pt x="29" y="105"/>
                  </a:lnTo>
                  <a:lnTo>
                    <a:pt x="18" y="92"/>
                  </a:lnTo>
                  <a:lnTo>
                    <a:pt x="10" y="80"/>
                  </a:lnTo>
                  <a:lnTo>
                    <a:pt x="3" y="66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26" y="18"/>
                  </a:lnTo>
                  <a:lnTo>
                    <a:pt x="40" y="14"/>
                  </a:lnTo>
                  <a:lnTo>
                    <a:pt x="55" y="10"/>
                  </a:lnTo>
                  <a:lnTo>
                    <a:pt x="70" y="5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92600">
              <a:off x="7749720" y="3496680"/>
              <a:ext cx="82080" cy="36360"/>
            </a:xfrm>
            <a:custGeom>
              <a:avLst/>
              <a:gdLst/>
              <a:ahLst/>
              <a:rect l="l" t="t" r="r" b="b"/>
              <a:pathLst>
                <a:path w="572" h="226">
                  <a:moveTo>
                    <a:pt x="138" y="2"/>
                  </a:moveTo>
                  <a:lnTo>
                    <a:pt x="179" y="10"/>
                  </a:lnTo>
                  <a:lnTo>
                    <a:pt x="241" y="25"/>
                  </a:lnTo>
                  <a:lnTo>
                    <a:pt x="277" y="33"/>
                  </a:lnTo>
                  <a:lnTo>
                    <a:pt x="315" y="43"/>
                  </a:lnTo>
                  <a:lnTo>
                    <a:pt x="356" y="56"/>
                  </a:lnTo>
                  <a:lnTo>
                    <a:pt x="395" y="68"/>
                  </a:lnTo>
                  <a:lnTo>
                    <a:pt x="414" y="75"/>
                  </a:lnTo>
                  <a:lnTo>
                    <a:pt x="434" y="83"/>
                  </a:lnTo>
                  <a:lnTo>
                    <a:pt x="451" y="91"/>
                  </a:lnTo>
                  <a:lnTo>
                    <a:pt x="469" y="98"/>
                  </a:lnTo>
                  <a:lnTo>
                    <a:pt x="485" y="108"/>
                  </a:lnTo>
                  <a:lnTo>
                    <a:pt x="502" y="116"/>
                  </a:lnTo>
                  <a:lnTo>
                    <a:pt x="515" y="125"/>
                  </a:lnTo>
                  <a:lnTo>
                    <a:pt x="529" y="134"/>
                  </a:lnTo>
                  <a:lnTo>
                    <a:pt x="540" y="145"/>
                  </a:lnTo>
                  <a:lnTo>
                    <a:pt x="551" y="155"/>
                  </a:lnTo>
                  <a:lnTo>
                    <a:pt x="559" y="167"/>
                  </a:lnTo>
                  <a:lnTo>
                    <a:pt x="566" y="177"/>
                  </a:lnTo>
                  <a:lnTo>
                    <a:pt x="570" y="188"/>
                  </a:lnTo>
                  <a:lnTo>
                    <a:pt x="572" y="201"/>
                  </a:lnTo>
                  <a:lnTo>
                    <a:pt x="572" y="213"/>
                  </a:lnTo>
                  <a:lnTo>
                    <a:pt x="570" y="226"/>
                  </a:lnTo>
                  <a:lnTo>
                    <a:pt x="556" y="223"/>
                  </a:lnTo>
                  <a:lnTo>
                    <a:pt x="540" y="219"/>
                  </a:lnTo>
                  <a:lnTo>
                    <a:pt x="525" y="216"/>
                  </a:lnTo>
                  <a:lnTo>
                    <a:pt x="508" y="214"/>
                  </a:lnTo>
                  <a:lnTo>
                    <a:pt x="472" y="211"/>
                  </a:lnTo>
                  <a:lnTo>
                    <a:pt x="434" y="208"/>
                  </a:lnTo>
                  <a:lnTo>
                    <a:pt x="393" y="205"/>
                  </a:lnTo>
                  <a:lnTo>
                    <a:pt x="352" y="203"/>
                  </a:lnTo>
                  <a:lnTo>
                    <a:pt x="310" y="199"/>
                  </a:lnTo>
                  <a:lnTo>
                    <a:pt x="268" y="195"/>
                  </a:lnTo>
                  <a:lnTo>
                    <a:pt x="247" y="192"/>
                  </a:lnTo>
                  <a:lnTo>
                    <a:pt x="226" y="188"/>
                  </a:lnTo>
                  <a:lnTo>
                    <a:pt x="205" y="184"/>
                  </a:lnTo>
                  <a:lnTo>
                    <a:pt x="185" y="180"/>
                  </a:lnTo>
                  <a:lnTo>
                    <a:pt x="165" y="175"/>
                  </a:lnTo>
                  <a:lnTo>
                    <a:pt x="146" y="169"/>
                  </a:lnTo>
                  <a:lnTo>
                    <a:pt x="128" y="162"/>
                  </a:lnTo>
                  <a:lnTo>
                    <a:pt x="110" y="154"/>
                  </a:lnTo>
                  <a:lnTo>
                    <a:pt x="93" y="147"/>
                  </a:lnTo>
                  <a:lnTo>
                    <a:pt x="76" y="138"/>
                  </a:lnTo>
                  <a:lnTo>
                    <a:pt x="61" y="127"/>
                  </a:lnTo>
                  <a:lnTo>
                    <a:pt x="47" y="116"/>
                  </a:lnTo>
                  <a:lnTo>
                    <a:pt x="33" y="103"/>
                  </a:lnTo>
                  <a:lnTo>
                    <a:pt x="21" y="90"/>
                  </a:lnTo>
                  <a:lnTo>
                    <a:pt x="10" y="75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10" y="58"/>
                  </a:lnTo>
                  <a:lnTo>
                    <a:pt x="17" y="55"/>
                  </a:lnTo>
                  <a:lnTo>
                    <a:pt x="25" y="50"/>
                  </a:lnTo>
                  <a:lnTo>
                    <a:pt x="45" y="40"/>
                  </a:lnTo>
                  <a:lnTo>
                    <a:pt x="67" y="28"/>
                  </a:lnTo>
                  <a:lnTo>
                    <a:pt x="88" y="16"/>
                  </a:lnTo>
                  <a:lnTo>
                    <a:pt x="109" y="6"/>
                  </a:lnTo>
                  <a:lnTo>
                    <a:pt x="118" y="3"/>
                  </a:lnTo>
                  <a:lnTo>
                    <a:pt x="126" y="1"/>
                  </a:lnTo>
                  <a:lnTo>
                    <a:pt x="133" y="0"/>
                  </a:lnTo>
                  <a:lnTo>
                    <a:pt x="1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92600">
              <a:off x="7689240" y="3666600"/>
              <a:ext cx="101160" cy="33120"/>
            </a:xfrm>
            <a:custGeom>
              <a:avLst/>
              <a:gdLst/>
              <a:ahLst/>
              <a:rect l="l" t="t" r="r" b="b"/>
              <a:pathLst>
                <a:path w="702" h="203">
                  <a:moveTo>
                    <a:pt x="69" y="6"/>
                  </a:moveTo>
                  <a:lnTo>
                    <a:pt x="84" y="10"/>
                  </a:lnTo>
                  <a:lnTo>
                    <a:pt x="101" y="12"/>
                  </a:lnTo>
                  <a:lnTo>
                    <a:pt x="118" y="14"/>
                  </a:lnTo>
                  <a:lnTo>
                    <a:pt x="137" y="15"/>
                  </a:lnTo>
                  <a:lnTo>
                    <a:pt x="176" y="15"/>
                  </a:lnTo>
                  <a:lnTo>
                    <a:pt x="217" y="13"/>
                  </a:lnTo>
                  <a:lnTo>
                    <a:pt x="260" y="10"/>
                  </a:lnTo>
                  <a:lnTo>
                    <a:pt x="305" y="6"/>
                  </a:lnTo>
                  <a:lnTo>
                    <a:pt x="351" y="3"/>
                  </a:lnTo>
                  <a:lnTo>
                    <a:pt x="396" y="0"/>
                  </a:lnTo>
                  <a:lnTo>
                    <a:pt x="419" y="0"/>
                  </a:lnTo>
                  <a:lnTo>
                    <a:pt x="442" y="2"/>
                  </a:lnTo>
                  <a:lnTo>
                    <a:pt x="465" y="3"/>
                  </a:lnTo>
                  <a:lnTo>
                    <a:pt x="486" y="5"/>
                  </a:lnTo>
                  <a:lnTo>
                    <a:pt x="508" y="8"/>
                  </a:lnTo>
                  <a:lnTo>
                    <a:pt x="529" y="12"/>
                  </a:lnTo>
                  <a:lnTo>
                    <a:pt x="550" y="18"/>
                  </a:lnTo>
                  <a:lnTo>
                    <a:pt x="570" y="24"/>
                  </a:lnTo>
                  <a:lnTo>
                    <a:pt x="590" y="33"/>
                  </a:lnTo>
                  <a:lnTo>
                    <a:pt x="609" y="42"/>
                  </a:lnTo>
                  <a:lnTo>
                    <a:pt x="626" y="53"/>
                  </a:lnTo>
                  <a:lnTo>
                    <a:pt x="644" y="67"/>
                  </a:lnTo>
                  <a:lnTo>
                    <a:pt x="659" y="81"/>
                  </a:lnTo>
                  <a:lnTo>
                    <a:pt x="675" y="98"/>
                  </a:lnTo>
                  <a:lnTo>
                    <a:pt x="689" y="118"/>
                  </a:lnTo>
                  <a:lnTo>
                    <a:pt x="702" y="138"/>
                  </a:lnTo>
                  <a:lnTo>
                    <a:pt x="688" y="152"/>
                  </a:lnTo>
                  <a:lnTo>
                    <a:pt x="672" y="163"/>
                  </a:lnTo>
                  <a:lnTo>
                    <a:pt x="655" y="174"/>
                  </a:lnTo>
                  <a:lnTo>
                    <a:pt x="637" y="182"/>
                  </a:lnTo>
                  <a:lnTo>
                    <a:pt x="617" y="189"/>
                  </a:lnTo>
                  <a:lnTo>
                    <a:pt x="596" y="194"/>
                  </a:lnTo>
                  <a:lnTo>
                    <a:pt x="574" y="199"/>
                  </a:lnTo>
                  <a:lnTo>
                    <a:pt x="552" y="201"/>
                  </a:lnTo>
                  <a:lnTo>
                    <a:pt x="528" y="202"/>
                  </a:lnTo>
                  <a:lnTo>
                    <a:pt x="504" y="203"/>
                  </a:lnTo>
                  <a:lnTo>
                    <a:pt x="479" y="202"/>
                  </a:lnTo>
                  <a:lnTo>
                    <a:pt x="453" y="200"/>
                  </a:lnTo>
                  <a:lnTo>
                    <a:pt x="427" y="196"/>
                  </a:lnTo>
                  <a:lnTo>
                    <a:pt x="401" y="193"/>
                  </a:lnTo>
                  <a:lnTo>
                    <a:pt x="375" y="188"/>
                  </a:lnTo>
                  <a:lnTo>
                    <a:pt x="348" y="184"/>
                  </a:lnTo>
                  <a:lnTo>
                    <a:pt x="297" y="173"/>
                  </a:lnTo>
                  <a:lnTo>
                    <a:pt x="245" y="159"/>
                  </a:lnTo>
                  <a:lnTo>
                    <a:pt x="195" y="145"/>
                  </a:lnTo>
                  <a:lnTo>
                    <a:pt x="147" y="131"/>
                  </a:lnTo>
                  <a:lnTo>
                    <a:pt x="63" y="105"/>
                  </a:lnTo>
                  <a:lnTo>
                    <a:pt x="0" y="87"/>
                  </a:lnTo>
                  <a:lnTo>
                    <a:pt x="5" y="70"/>
                  </a:lnTo>
                  <a:lnTo>
                    <a:pt x="13" y="53"/>
                  </a:lnTo>
                  <a:lnTo>
                    <a:pt x="21" y="39"/>
                  </a:lnTo>
                  <a:lnTo>
                    <a:pt x="30" y="26"/>
                  </a:lnTo>
                  <a:lnTo>
                    <a:pt x="35" y="21"/>
                  </a:lnTo>
                  <a:lnTo>
                    <a:pt x="40" y="17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0" y="6"/>
                  </a:lnTo>
                  <a:lnTo>
                    <a:pt x="64" y="6"/>
                  </a:lnTo>
                  <a:lnTo>
                    <a:pt x="6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92600">
              <a:off x="7675560" y="3720600"/>
              <a:ext cx="88200" cy="32760"/>
            </a:xfrm>
            <a:custGeom>
              <a:avLst/>
              <a:gdLst/>
              <a:ahLst/>
              <a:rect l="l" t="t" r="r" b="b"/>
              <a:pathLst>
                <a:path w="614" h="208">
                  <a:moveTo>
                    <a:pt x="75" y="0"/>
                  </a:moveTo>
                  <a:lnTo>
                    <a:pt x="93" y="4"/>
                  </a:lnTo>
                  <a:lnTo>
                    <a:pt x="120" y="8"/>
                  </a:lnTo>
                  <a:lnTo>
                    <a:pt x="154" y="13"/>
                  </a:lnTo>
                  <a:lnTo>
                    <a:pt x="195" y="17"/>
                  </a:lnTo>
                  <a:lnTo>
                    <a:pt x="240" y="21"/>
                  </a:lnTo>
                  <a:lnTo>
                    <a:pt x="288" y="27"/>
                  </a:lnTo>
                  <a:lnTo>
                    <a:pt x="338" y="34"/>
                  </a:lnTo>
                  <a:lnTo>
                    <a:pt x="388" y="44"/>
                  </a:lnTo>
                  <a:lnTo>
                    <a:pt x="413" y="49"/>
                  </a:lnTo>
                  <a:lnTo>
                    <a:pt x="436" y="54"/>
                  </a:lnTo>
                  <a:lnTo>
                    <a:pt x="460" y="60"/>
                  </a:lnTo>
                  <a:lnTo>
                    <a:pt x="482" y="67"/>
                  </a:lnTo>
                  <a:lnTo>
                    <a:pt x="503" y="75"/>
                  </a:lnTo>
                  <a:lnTo>
                    <a:pt x="523" y="82"/>
                  </a:lnTo>
                  <a:lnTo>
                    <a:pt x="541" y="91"/>
                  </a:lnTo>
                  <a:lnTo>
                    <a:pt x="559" y="101"/>
                  </a:lnTo>
                  <a:lnTo>
                    <a:pt x="573" y="111"/>
                  </a:lnTo>
                  <a:lnTo>
                    <a:pt x="587" y="121"/>
                  </a:lnTo>
                  <a:lnTo>
                    <a:pt x="597" y="134"/>
                  </a:lnTo>
                  <a:lnTo>
                    <a:pt x="605" y="146"/>
                  </a:lnTo>
                  <a:lnTo>
                    <a:pt x="610" y="161"/>
                  </a:lnTo>
                  <a:lnTo>
                    <a:pt x="614" y="175"/>
                  </a:lnTo>
                  <a:lnTo>
                    <a:pt x="614" y="191"/>
                  </a:lnTo>
                  <a:lnTo>
                    <a:pt x="610" y="208"/>
                  </a:lnTo>
                  <a:lnTo>
                    <a:pt x="0" y="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92600">
              <a:off x="7648200" y="3785760"/>
              <a:ext cx="107280" cy="36000"/>
            </a:xfrm>
            <a:custGeom>
              <a:avLst/>
              <a:gdLst/>
              <a:ahLst/>
              <a:rect l="l" t="t" r="r" b="b"/>
              <a:pathLst>
                <a:path w="737" h="219">
                  <a:moveTo>
                    <a:pt x="81" y="2"/>
                  </a:moveTo>
                  <a:lnTo>
                    <a:pt x="662" y="122"/>
                  </a:lnTo>
                  <a:lnTo>
                    <a:pt x="687" y="136"/>
                  </a:lnTo>
                  <a:lnTo>
                    <a:pt x="706" y="149"/>
                  </a:lnTo>
                  <a:lnTo>
                    <a:pt x="720" y="161"/>
                  </a:lnTo>
                  <a:lnTo>
                    <a:pt x="731" y="172"/>
                  </a:lnTo>
                  <a:lnTo>
                    <a:pt x="736" y="182"/>
                  </a:lnTo>
                  <a:lnTo>
                    <a:pt x="737" y="190"/>
                  </a:lnTo>
                  <a:lnTo>
                    <a:pt x="734" y="198"/>
                  </a:lnTo>
                  <a:lnTo>
                    <a:pt x="728" y="204"/>
                  </a:lnTo>
                  <a:lnTo>
                    <a:pt x="717" y="209"/>
                  </a:lnTo>
                  <a:lnTo>
                    <a:pt x="704" y="214"/>
                  </a:lnTo>
                  <a:lnTo>
                    <a:pt x="687" y="217"/>
                  </a:lnTo>
                  <a:lnTo>
                    <a:pt x="668" y="219"/>
                  </a:lnTo>
                  <a:lnTo>
                    <a:pt x="646" y="219"/>
                  </a:lnTo>
                  <a:lnTo>
                    <a:pt x="621" y="219"/>
                  </a:lnTo>
                  <a:lnTo>
                    <a:pt x="594" y="218"/>
                  </a:lnTo>
                  <a:lnTo>
                    <a:pt x="565" y="216"/>
                  </a:lnTo>
                  <a:lnTo>
                    <a:pt x="534" y="212"/>
                  </a:lnTo>
                  <a:lnTo>
                    <a:pt x="502" y="208"/>
                  </a:lnTo>
                  <a:lnTo>
                    <a:pt x="468" y="202"/>
                  </a:lnTo>
                  <a:lnTo>
                    <a:pt x="432" y="195"/>
                  </a:lnTo>
                  <a:lnTo>
                    <a:pt x="397" y="187"/>
                  </a:lnTo>
                  <a:lnTo>
                    <a:pt x="360" y="178"/>
                  </a:lnTo>
                  <a:lnTo>
                    <a:pt x="322" y="167"/>
                  </a:lnTo>
                  <a:lnTo>
                    <a:pt x="285" y="156"/>
                  </a:lnTo>
                  <a:lnTo>
                    <a:pt x="248" y="144"/>
                  </a:lnTo>
                  <a:lnTo>
                    <a:pt x="211" y="130"/>
                  </a:lnTo>
                  <a:lnTo>
                    <a:pt x="173" y="116"/>
                  </a:lnTo>
                  <a:lnTo>
                    <a:pt x="137" y="99"/>
                  </a:lnTo>
                  <a:lnTo>
                    <a:pt x="101" y="82"/>
                  </a:lnTo>
                  <a:lnTo>
                    <a:pt x="66" y="64"/>
                  </a:lnTo>
                  <a:lnTo>
                    <a:pt x="32" y="45"/>
                  </a:lnTo>
                  <a:lnTo>
                    <a:pt x="0" y="24"/>
                  </a:lnTo>
                  <a:lnTo>
                    <a:pt x="5" y="25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0" y="24"/>
                  </a:lnTo>
                  <a:lnTo>
                    <a:pt x="30" y="20"/>
                  </a:lnTo>
                  <a:lnTo>
                    <a:pt x="41" y="15"/>
                  </a:lnTo>
                  <a:lnTo>
                    <a:pt x="52" y="9"/>
                  </a:lnTo>
                  <a:lnTo>
                    <a:pt x="62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92600">
              <a:off x="7650000" y="3836880"/>
              <a:ext cx="77400" cy="31320"/>
            </a:xfrm>
            <a:custGeom>
              <a:avLst/>
              <a:gdLst/>
              <a:ahLst/>
              <a:rect l="l" t="t" r="r" b="b"/>
              <a:pathLst>
                <a:path w="525" h="200">
                  <a:moveTo>
                    <a:pt x="52" y="2"/>
                  </a:moveTo>
                  <a:lnTo>
                    <a:pt x="79" y="9"/>
                  </a:lnTo>
                  <a:lnTo>
                    <a:pt x="107" y="15"/>
                  </a:lnTo>
                  <a:lnTo>
                    <a:pt x="135" y="22"/>
                  </a:lnTo>
                  <a:lnTo>
                    <a:pt x="165" y="27"/>
                  </a:lnTo>
                  <a:lnTo>
                    <a:pt x="226" y="36"/>
                  </a:lnTo>
                  <a:lnTo>
                    <a:pt x="289" y="45"/>
                  </a:lnTo>
                  <a:lnTo>
                    <a:pt x="351" y="54"/>
                  </a:lnTo>
                  <a:lnTo>
                    <a:pt x="412" y="63"/>
                  </a:lnTo>
                  <a:lnTo>
                    <a:pt x="442" y="68"/>
                  </a:lnTo>
                  <a:lnTo>
                    <a:pt x="470" y="75"/>
                  </a:lnTo>
                  <a:lnTo>
                    <a:pt x="498" y="81"/>
                  </a:lnTo>
                  <a:lnTo>
                    <a:pt x="525" y="88"/>
                  </a:lnTo>
                  <a:lnTo>
                    <a:pt x="518" y="109"/>
                  </a:lnTo>
                  <a:lnTo>
                    <a:pt x="509" y="126"/>
                  </a:lnTo>
                  <a:lnTo>
                    <a:pt x="500" y="142"/>
                  </a:lnTo>
                  <a:lnTo>
                    <a:pt x="489" y="155"/>
                  </a:lnTo>
                  <a:lnTo>
                    <a:pt x="476" y="167"/>
                  </a:lnTo>
                  <a:lnTo>
                    <a:pt x="463" y="176"/>
                  </a:lnTo>
                  <a:lnTo>
                    <a:pt x="448" y="184"/>
                  </a:lnTo>
                  <a:lnTo>
                    <a:pt x="433" y="191"/>
                  </a:lnTo>
                  <a:lnTo>
                    <a:pt x="416" y="195"/>
                  </a:lnTo>
                  <a:lnTo>
                    <a:pt x="399" y="198"/>
                  </a:lnTo>
                  <a:lnTo>
                    <a:pt x="382" y="200"/>
                  </a:lnTo>
                  <a:lnTo>
                    <a:pt x="363" y="200"/>
                  </a:lnTo>
                  <a:lnTo>
                    <a:pt x="344" y="200"/>
                  </a:lnTo>
                  <a:lnTo>
                    <a:pt x="325" y="198"/>
                  </a:lnTo>
                  <a:lnTo>
                    <a:pt x="306" y="196"/>
                  </a:lnTo>
                  <a:lnTo>
                    <a:pt x="286" y="193"/>
                  </a:lnTo>
                  <a:lnTo>
                    <a:pt x="247" y="184"/>
                  </a:lnTo>
                  <a:lnTo>
                    <a:pt x="209" y="175"/>
                  </a:lnTo>
                  <a:lnTo>
                    <a:pt x="171" y="166"/>
                  </a:lnTo>
                  <a:lnTo>
                    <a:pt x="137" y="158"/>
                  </a:lnTo>
                  <a:lnTo>
                    <a:pt x="105" y="149"/>
                  </a:lnTo>
                  <a:lnTo>
                    <a:pt x="77" y="144"/>
                  </a:lnTo>
                  <a:lnTo>
                    <a:pt x="65" y="143"/>
                  </a:lnTo>
                  <a:lnTo>
                    <a:pt x="53" y="143"/>
                  </a:lnTo>
                  <a:lnTo>
                    <a:pt x="44" y="144"/>
                  </a:lnTo>
                  <a:lnTo>
                    <a:pt x="36" y="146"/>
                  </a:lnTo>
                  <a:lnTo>
                    <a:pt x="0" y="83"/>
                  </a:lnTo>
                  <a:lnTo>
                    <a:pt x="6" y="65"/>
                  </a:lnTo>
                  <a:lnTo>
                    <a:pt x="11" y="49"/>
                  </a:lnTo>
                  <a:lnTo>
                    <a:pt x="16" y="34"/>
                  </a:lnTo>
                  <a:lnTo>
                    <a:pt x="22" y="21"/>
                  </a:lnTo>
                  <a:lnTo>
                    <a:pt x="25" y="14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58920" y="2511360"/>
            <a:ext cx="6933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habitants off Xenor use two scales for measuring temperature.  On the A scale, water freezes at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 and boils at 80°, whereas on the B scale, water freezes at -20° and boils at 120°.  What is the equivalent on the A scale of a temperature of 15° on the B sc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1970-J-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96880" y="1041480"/>
            <a:ext cx="7504200" cy="5283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79440" y="-360"/>
            <a:ext cx="8535960" cy="6248880"/>
            <a:chOff x="379440" y="-360"/>
            <a:chExt cx="8535960" cy="6248880"/>
          </a:xfrm>
        </p:grpSpPr>
        <p:graphicFrame>
          <p:nvGraphicFramePr>
            <p:cNvPr id="448" name=""/>
            <p:cNvGraphicFramePr/>
            <p:nvPr/>
          </p:nvGraphicFramePr>
          <p:xfrm>
            <a:off x="379440" y="654120"/>
            <a:ext cx="8383680" cy="559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440" y="654120"/>
                      <a:ext cx="8383680" cy="559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"/>
            <p:cNvSpPr/>
            <p:nvPr/>
          </p:nvSpPr>
          <p:spPr>
            <a:xfrm>
              <a:off x="7620120" y="5257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cal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420480" y="798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cal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7200" y="4937040"/>
            <a:ext cx="1295280" cy="856800"/>
            <a:chOff x="457200" y="4937040"/>
            <a:chExt cx="1295280" cy="856800"/>
          </a:xfrm>
        </p:grpSpPr>
        <p:sp>
          <p:nvSpPr>
            <p:cNvPr id="453" name=""/>
            <p:cNvSpPr/>
            <p:nvPr/>
          </p:nvSpPr>
          <p:spPr>
            <a:xfrm>
              <a:off x="838080" y="493704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7200" y="5334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ree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772400" y="228600"/>
            <a:ext cx="1295280" cy="641520"/>
            <a:chOff x="7772400" y="228600"/>
            <a:chExt cx="1295280" cy="641520"/>
          </a:xfrm>
        </p:grpSpPr>
        <p:sp>
          <p:nvSpPr>
            <p:cNvPr id="456" name=""/>
            <p:cNvSpPr/>
            <p:nvPr/>
          </p:nvSpPr>
          <p:spPr>
            <a:xfrm>
              <a:off x="8169120" y="7174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228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o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 flipV="1">
            <a:off x="76320" y="457200"/>
            <a:ext cx="8762760" cy="5029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4267080" y="3232080"/>
                <a:ext cx="16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514600" y="1066680"/>
                <a:ext cx="2819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1" name=""/>
          <p:cNvGrpSpPr/>
          <p:nvPr/>
        </p:nvGrpSpPr>
        <p:grpSpPr>
          <a:xfrm>
            <a:off x="2470320" y="3962160"/>
            <a:ext cx="533160" cy="1603080"/>
            <a:chOff x="2470320" y="3962160"/>
            <a:chExt cx="533160" cy="1603080"/>
          </a:xfrm>
        </p:grpSpPr>
        <p:sp>
          <p:nvSpPr>
            <p:cNvPr id="462" name=""/>
            <p:cNvSpPr/>
            <p:nvPr/>
          </p:nvSpPr>
          <p:spPr>
            <a:xfrm flipV="1">
              <a:off x="2743200" y="3962160"/>
              <a:ext cx="0" cy="106668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70320" y="5105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295280" y="3733920"/>
            <a:ext cx="1447920" cy="459720"/>
            <a:chOff x="1295280" y="3733920"/>
            <a:chExt cx="1447920" cy="459720"/>
          </a:xfrm>
        </p:grpSpPr>
        <p:sp>
          <p:nvSpPr>
            <p:cNvPr id="465" name=""/>
            <p:cNvSpPr/>
            <p:nvPr/>
          </p:nvSpPr>
          <p:spPr>
            <a:xfrm flipH="1">
              <a:off x="1905120" y="3962520"/>
              <a:ext cx="838080" cy="0"/>
            </a:xfrm>
            <a:prstGeom prst="line">
              <a:avLst/>
            </a:prstGeom>
            <a:ln w="57240">
              <a:solidFill>
                <a:srgbClr val="0099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9528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95280" y="4348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ainted Cub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2590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68280"/>
            <a:ext cx="6986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10 x 10 x 10 cube made up of small cubes is dipped into a bucket of red paint and removed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3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2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1 fa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small cubes will have 0 fa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ted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 your results for an n x n x n cub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472520" y="1647720"/>
            <a:ext cx="127620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12952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 Faces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32720" y="5334120"/>
            <a:ext cx="218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2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92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33720" cy="5058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690640" y="1274760"/>
            <a:ext cx="3791160" cy="504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028960" y="1406520"/>
            <a:ext cx="4314600" cy="46864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08000" y="1295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 Face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54864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6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28960" y="1401840"/>
            <a:ext cx="4314600" cy="46767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003400" y="1406520"/>
            <a:ext cx="4353120" cy="46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05160" cy="45432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067000" cy="45241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1838160" y="1415880"/>
            <a:ext cx="5124600" cy="4534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1835280" y="1420920"/>
            <a:ext cx="5143320" cy="45432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79280" y="129528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0 Faces 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0" y="5486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360" y="12852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Using Finite Differenc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38080" y="1523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raphically, using Fathom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rcRect l="0" t="0" r="59669" b="0"/>
          <a:stretch/>
        </p:blipFill>
        <p:spPr>
          <a:xfrm>
            <a:off x="685800" y="2362320"/>
            <a:ext cx="3165480" cy="3884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3971880" y="2633760"/>
            <a:ext cx="1895400" cy="1590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6164280" y="2590920"/>
            <a:ext cx="2152800" cy="19904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4067280" y="4581360"/>
            <a:ext cx="2457360" cy="19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838080" y="1371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raphically, using Exce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rcRect l="0" t="13497" r="0" b="0"/>
          <a:stretch/>
        </p:blipFill>
        <p:spPr>
          <a:xfrm>
            <a:off x="1461960" y="1789200"/>
            <a:ext cx="6220080" cy="4687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rcRect l="33681" t="0" r="36255" b="0"/>
          <a:stretch/>
        </p:blipFill>
        <p:spPr>
          <a:xfrm>
            <a:off x="3348000" y="2852640"/>
            <a:ext cx="2521080" cy="26924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38080" y="1371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Geometrically, using cubes and patter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rcRect l="67183" t="0" r="0" b="0"/>
          <a:stretch/>
        </p:blipFill>
        <p:spPr>
          <a:xfrm>
            <a:off x="3276720" y="2852640"/>
            <a:ext cx="2751120" cy="2692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312920" y="1987560"/>
            <a:ext cx="15955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4320" y="206388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214600" y="2063880"/>
            <a:ext cx="23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03240" y="20638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67640" y="1987560"/>
            <a:ext cx="186192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08200" y="2063880"/>
            <a:ext cx="29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99760" y="206388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rcRect l="0" t="0" r="68909" b="0"/>
          <a:stretch/>
        </p:blipFill>
        <p:spPr>
          <a:xfrm>
            <a:off x="3419640" y="2852640"/>
            <a:ext cx="2606400" cy="2692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25080" y="213372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aces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000" y="2133720"/>
            <a:ext cx="14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ace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2000" y="22680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Painted Cube Problem…</a:t>
            </a:r>
            <a:br>
              <a:rPr sz="32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25080" y="213372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aces 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492360" y="5996160"/>
            <a:ext cx="218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2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3640" y="599616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6(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2)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6480" y="599616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92360" y="5877000"/>
            <a:ext cx="2159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443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6360" y="44449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56360" y="4437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445080" y="3141720"/>
            <a:ext cx="71640" cy="1150920"/>
          </a:xfrm>
          <a:custGeom>
            <a:avLst/>
            <a:gdLst>
              <a:gd name="textAreaLeft" fmla="*/ 0 w 71640"/>
              <a:gd name="textAreaRight" fmla="*/ 25920 w 71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3272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16720" y="3429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 – 2)X(n –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16720" y="3141720"/>
            <a:ext cx="71280" cy="1150920"/>
          </a:xfrm>
          <a:custGeom>
            <a:avLst/>
            <a:gdLst>
              <a:gd name="textAreaLeft" fmla="*/ 0 w 71280"/>
              <a:gd name="textAreaRight" fmla="*/ 2556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8" dur="2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0.03472 L -0.29878 0.00393 E">
                                      <p:cBhvr>
                                        <p:cTn id="810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6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8" dur="2000" fill="hold"/>
                                        <p:tgtEl>
                                          <p:spTgt spid="49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1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3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0.28282 0.00324 E">
                                      <p:cBhvr>
                                        <p:cTn id="89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art Board Proble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590920" y="5189400"/>
          <a:ext cx="423360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9400"/>
                    <a:ext cx="42336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8" name="" descr=""/>
          <p:cNvPicPr/>
          <p:nvPr/>
        </p:nvPicPr>
        <p:blipFill>
          <a:blip r:embed="rId3"/>
          <a:srcRect l="10303" t="15539" r="56676" b="40473"/>
          <a:stretch/>
        </p:blipFill>
        <p:spPr>
          <a:xfrm>
            <a:off x="5576760" y="1271520"/>
            <a:ext cx="3221280" cy="32180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9600" y="1457280"/>
            <a:ext cx="49528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dart board is designed with a square inside a circle and a square outside the sam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ssign numerical values of 2, 5 and 8 to the three coloured regions on the dart board such that regions with smaller areas are assigned higher sc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ustif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ich mathematical processes will you use during this investigation?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14600" y="2128680"/>
            <a:ext cx="4267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pres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Reasoning and Pr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Conn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Selecting Tools and  </a:t>
            </a:r>
            <a:br>
              <a:rPr sz="2400"/>
            </a:b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   Computa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99"/>
                </a:solidFill>
                <a:latin typeface="Arial"/>
              </a:rPr>
              <a:t>Communic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tention Timelin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8920" y="2349360"/>
          <a:ext cx="8072280" cy="79200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5400"/>
                <a:gridCol w="368280"/>
                <a:gridCol w="365040"/>
                <a:gridCol w="369720"/>
                <a:gridCol w="363600"/>
                <a:gridCol w="370080"/>
                <a:gridCol w="365040"/>
                <a:gridCol w="368280"/>
                <a:gridCol w="365040"/>
                <a:gridCol w="368280"/>
                <a:gridCol w="366840"/>
                <a:gridCol w="366480"/>
                <a:gridCol w="366840"/>
                <a:gridCol w="366840"/>
                <a:gridCol w="368280"/>
                <a:gridCol w="365040"/>
                <a:gridCol w="368280"/>
                <a:gridCol w="366840"/>
                <a:gridCol w="366480"/>
                <a:gridCol w="3668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                      2                        4                        6                        8                      10 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        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21300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419640" y="3639960"/>
            <a:ext cx="5508360" cy="26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99"/>
                </a:solidFill>
                <a:latin typeface="Bradley Hand ITC"/>
              </a:rPr>
              <a:t>Pink: time students retai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Bradley Hand ITC"/>
              </a:rPr>
              <a:t>Yellow: time students </a:t>
            </a:r>
            <a:r>
              <a:rPr b="1" lang="en-CA" sz="2400" spc="-1" strike="noStrike">
                <a:solidFill>
                  <a:srgbClr val="000000"/>
                </a:solidFill>
                <a:latin typeface="Bradley Hand ITC"/>
              </a:rPr>
              <a:t>retai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33399"/>
                </a:solidFill>
                <a:latin typeface="Bradley Hand ITC"/>
              </a:rPr>
              <a:t>Blue: time students retain math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blem Solv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 pairs, explore different solutions to one of the problems on the previous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table, share your solutions and 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grade level(s) appropriate to each solution.  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CA" sz="2800" spc="-1" strike="noStrike">
                <a:solidFill>
                  <a:srgbClr val="0033cc"/>
                </a:solidFill>
                <a:latin typeface="Arial"/>
              </a:rPr>
              <a:t>Explai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variety of “Tools” us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different problem solving strategies employ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cc"/>
                </a:solidFill>
                <a:latin typeface="Arial"/>
              </a:rPr>
              <a:t>the Mathematical Processes accessed</a:t>
            </a:r>
            <a:br>
              <a:rPr sz="2800"/>
            </a:br>
            <a:r>
              <a:rPr b="0" lang="en-CA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CA" sz="1800" spc="-1" strike="noStrike">
                <a:solidFill>
                  <a:srgbClr val="0033cc"/>
                </a:solidFill>
                <a:latin typeface="Arial"/>
              </a:rPr>
              <a:t>(10 minutes)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ing the Math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2457360"/>
            <a:ext cx="82296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lf the groups “solve” one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remaining groups observe fishbowl style and assess the math processes they observe using the given rub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bserving group may attempt to identify other processes that become apparent in the solving activ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ups switch ro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6360" y="1808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ow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3456000" y="5148360"/>
            <a:ext cx="1293840" cy="170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6227640" y="5045040"/>
            <a:ext cx="1675080" cy="13082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539640" y="4905360"/>
            <a:ext cx="12956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Jokerman"/>
              </a:rPr>
              <a:t>G</a:t>
            </a:r>
            <a:r>
              <a:rPr b="1" lang="en-US" sz="4800" spc="-1" strike="noStrike">
                <a:solidFill>
                  <a:srgbClr val="e70308"/>
                </a:solidFill>
                <a:latin typeface="Jokerman"/>
              </a:rPr>
              <a:t>r</a:t>
            </a:r>
            <a:r>
              <a:rPr b="1" lang="en-US" sz="4800" spc="-1" strike="noStrike">
                <a:solidFill>
                  <a:srgbClr val="00cc00"/>
                </a:solidFill>
                <a:latin typeface="Jokerman"/>
              </a:rPr>
              <a:t>a</a:t>
            </a:r>
            <a:r>
              <a:rPr b="1" lang="en-US" sz="4800" spc="-1" strike="noStrike">
                <a:solidFill>
                  <a:srgbClr val="ff9933"/>
                </a:solidFill>
                <a:latin typeface="Jokerman"/>
              </a:rPr>
              <a:t>f</a:t>
            </a:r>
            <a:r>
              <a:rPr b="1" lang="en-US" sz="4800" spc="-1" strike="noStrike">
                <a:solidFill>
                  <a:srgbClr val="0066ff"/>
                </a:solidFill>
                <a:latin typeface="Jokerman"/>
              </a:rPr>
              <a:t>f</a:t>
            </a:r>
            <a:r>
              <a:rPr b="1" lang="en-US" sz="4800" spc="-1" strike="noStrike">
                <a:solidFill>
                  <a:srgbClr val="e70308"/>
                </a:solidFill>
                <a:latin typeface="Jokerman"/>
              </a:rPr>
              <a:t>i</a:t>
            </a:r>
            <a:r>
              <a:rPr b="1" lang="en-US" sz="4800" spc="-1" strike="noStrike">
                <a:solidFill>
                  <a:srgbClr val="00cc00"/>
                </a:solidFill>
                <a:latin typeface="Jokerman"/>
              </a:rPr>
              <a:t>t</a:t>
            </a:r>
            <a:r>
              <a:rPr b="1" lang="en-US" sz="4800" spc="-1" strike="noStrike">
                <a:solidFill>
                  <a:srgbClr val="ff9933"/>
                </a:solidFill>
                <a:latin typeface="Jokerman"/>
              </a:rPr>
              <a:t>i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tate through each station and answer the following question.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What have I learned about this topic?”: ______________________________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eat the rotation to read all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com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0d469b"/>
                </a:solidFill>
                <a:uFillTx/>
                <a:latin typeface="Arial"/>
              </a:rPr>
              <a:t>Home Activity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25290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ideas of how to creatively remember and present some of you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3024360" y="4041720"/>
            <a:ext cx="27716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“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ive Minute University”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648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are we teach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rcRect l="36249" t="33001" r="50627" b="41003"/>
          <a:stretch/>
        </p:blipFill>
        <p:spPr>
          <a:xfrm>
            <a:off x="6084720" y="1773360"/>
            <a:ext cx="209232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Reflecting on the Mathematical Process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3040" y="2530440"/>
            <a:ext cx="678168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ther Guido’s “5 minute university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rcRect l="36249" t="33001" r="50627" b="41003"/>
          <a:stretch/>
        </p:blipFill>
        <p:spPr>
          <a:xfrm>
            <a:off x="6732720" y="1521000"/>
            <a:ext cx="2092320" cy="259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170000" y="3701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6699"/>
                </a:solidFill>
                <a:latin typeface="Arial"/>
              </a:rPr>
              <a:t>Think, Pair,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3243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 on the connections between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Mathematical Processes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Father Guido’s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ssessing the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vs Evaluation vs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1941840" cy="291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403280" y="3033720"/>
            <a:ext cx="26352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Classroom Assessment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ne possible answ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Classroom Assess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refers to the collection of information teachers use to monitor students’ learning, provide feedback and to make appropriate adjustments to instruction.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oring Classroom Assessment in Math NCTM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s Processes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762200"/>
          <a:ext cx="74358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62200"/>
                    <a:ext cx="7435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Rod Yeager</cp:lastModifiedBy>
  <dcterms:modified xsi:type="dcterms:W3CDTF">2008-08-21T19:45:16Z</dcterms:modified>
  <cp:revision>141</cp:revision>
  <dc:subject/>
  <dc:title>Slide 1</dc:title>
</cp:coreProperties>
</file>